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D2D4-9AEC-4E44-9877-AA2FB6E7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8DDE-7DBA-4C30-ADB1-0A7F6560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503D-1E80-4C45-8AA0-03991659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D9C1-F07C-4EFA-AD42-936F7A86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F531-9B69-4DAD-8479-0A47EAD3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941C-58D5-4549-8E53-68CD7735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3166-07FF-4A62-BC33-64118275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61F2-EF03-4AC5-9D5A-F2F8166B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8D61-E696-4AA8-8D02-D2166DEC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347760"/>
            <a:ext cx="7772400" cy="77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2D08-D9D8-4FD3-9E59-7A961054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AA70-C974-4794-8FD9-B89568AE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267-8139-4B89-A96B-476A0C0F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FD50-1277-4641-BB78-EBD723AE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7A89-911A-474A-9B04-655E61BF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230D-EC21-423B-8F6D-53F40130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2F5D-2B59-4C93-8823-FD4E7CB6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409F-441A-464A-A177-E5CD1596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9421-92C7-478A-B0AA-0A2542DD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85EE-F9D5-48BB-8B55-25BD3116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67FE-C61F-4839-BFC4-6AF6030B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347760"/>
            <a:ext cx="7772400" cy="77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0C89-B8C5-4A51-9327-00502937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6CFB-DEDF-49CF-9571-0DF1774E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CE58-DB1D-48DB-BBD9-1CF847B2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5850-3C21-4158-878E-8E230852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40F8-0FA3-45F1-A726-4006F815EE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4A69-2675-4756-B8E2-151B631630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logo" descr=""/>
          <p:cNvPicPr/>
          <p:nvPr/>
        </p:nvPicPr>
        <p:blipFill>
          <a:blip r:embed="rId1"/>
          <a:stretch/>
        </p:blipFill>
        <p:spPr>
          <a:xfrm>
            <a:off x="3389400" y="3000240"/>
            <a:ext cx="23652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40880"/>
            <a:ext cx="77724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s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and Fixed Rate Running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 set up fee   £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mbps port charge £50 per mon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mbps port charge £100 per mon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Gig port charge £100 per mon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up port at no extra monthly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Contact us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ny Malial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ny@lipex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: 0870 432 92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8d43"/>
                </a:solidFill>
                <a:uFillTx/>
                <a:latin typeface="Arial"/>
              </a:rPr>
              <a:t>www.lipex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: 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loor Redbus Interhouse building 6, Harbour Exchange Square London E14 9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40880"/>
            <a:ext cx="7772400" cy="87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Lipex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Peering Exchange, switches based in London and Amsterd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customers are small to medium size ISPs and content provi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ien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go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l for first 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Time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1 Creation of Lip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for 1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itches sponsored by Allied Telesy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lehouse No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lehouse E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bus Harbour Ex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2 peers by the end of the first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arges introduc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ber ring purch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Time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4: Introduction of Amsterdam peering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ecity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bus Amsterd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 of extra sites in Lond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bus Sovere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bus Merid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mber of peers: 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40880"/>
            <a:ext cx="7772400" cy="87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Our Network Equipmen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ark Fibre R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ingle P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R (dar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RIDIAN (comb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VEREIGN (wd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x Juniper M5 ro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te collector and ML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x Allied Telesyn 9816 G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x Allied Telesyn Rapier 24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l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re equi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40880"/>
            <a:ext cx="7772400" cy="87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Network Confi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t Security (Mac Restri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adcast Rate Lim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gios Monito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T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oke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therm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tch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40880"/>
            <a:ext cx="77724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Weathermap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7" name="lipex_weathermap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Online Tools availabl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 sign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n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 user 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erse D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ing g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ffic St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erP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ates your first contact with all other peers on the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C chan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T ticke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87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Ports Use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280" y="1820880"/>
          <a:ext cx="8839440" cy="32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20880"/>
                    <a:ext cx="8839440" cy="32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8:34:16Z</dcterms:created>
  <dc:creator> Sylvaine</dc:creator>
  <dc:description/>
  <dc:language>en-US</dc:language>
  <cp:lastModifiedBy>sylvaine lucas</cp:lastModifiedBy>
  <cp:lastPrinted>2009-04-22T19:24:48Z</cp:lastPrinted>
  <dcterms:modified xsi:type="dcterms:W3CDTF">2005-05-25T09:18:49Z</dcterms:modified>
  <cp:revision>25</cp:revision>
  <dc:subject/>
  <dc:title>Lipex</dc:title>
</cp:coreProperties>
</file>