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A33-8E0B-4C95-AA33-6A9A9BED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515-BC70-4B20-BE11-6B46F5A4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DC7-6CF2-4378-9212-A60C2C16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72F-6AE0-4980-8314-63CD76DD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C6B3-1A4C-4115-8133-F048841E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CA0-7859-42F1-B410-4CC8AAE0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AA43-03F5-4D3C-B81D-E6390918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4E6D-8B6C-4615-A815-161DE5BA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BDBD-1390-4A2B-98C4-5301DBB4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CEE1-5C7E-48C1-9E2E-4923DC1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B065-B301-4B02-BE84-85B0321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1E1-B112-4CB9-9755-5CA6582E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9D26-12A3-433E-AEA2-B7E13D6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2FF-74DA-4338-ADE1-135F757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6CC4-DC79-486B-B454-B629D5D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79A4-24D0-47AC-8DD9-09910C30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5EA7-8915-466E-8D48-F452CC80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801-2EB1-4158-ACE1-59DD0A6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EDC-B3B3-40E5-B76E-021A049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9F8-E2CB-4771-85FA-62CCCD8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D61-7E08-480E-A3A0-DC4C5BC7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E90-DBDF-4C82-AAC7-3895F56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906-5EB0-4BC2-BBEE-E1B67F0E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BB2-63FB-4B62-8C2B-219CBDF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CCCA-77AE-4831-A906-EC039B2B7E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C068-2F48-47A4-845E-8AAEEEBA9A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logo" descr=""/>
          <p:cNvPicPr/>
          <p:nvPr/>
        </p:nvPicPr>
        <p:blipFill>
          <a:blip r:embed="rId1"/>
          <a:stretch/>
        </p:blipFill>
        <p:spPr>
          <a:xfrm>
            <a:off x="3389400" y="3000240"/>
            <a:ext cx="23652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s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and Fixed Rate Running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set up fee   £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mbps port charge £5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mbps port charge £10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Gig port charge £10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up port at no extra monthly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ontact us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ny Mal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ny@lipex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: 0870 432 92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8d43"/>
                </a:solidFill>
                <a:uFillTx/>
                <a:latin typeface="Arial"/>
              </a:rPr>
              <a:t>www.lipex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: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oor Redbus Interhouse building 6, Harbour Exchange Square London E14 9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Lipe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Peering Exchange, switches based in London and Amster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stomers are small to medium size ISPs and content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 for first 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im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 Creation of Lip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for 1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s sponsored by Allied Telesy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house No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house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bus Harbour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2 peers by the end of the firs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rges int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ber ring purch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im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: Introduction of Amsterdam peering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city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Amster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extra sites in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Sovere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Mer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peers: 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Our Network Equip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rk Fibre 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 (da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DIAN (comb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VEREIGN (w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x Juniper M5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 collector and M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x Allied Telesyn 9816 G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x Allied Telesyn Rapier 24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l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Network Confi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 Security (Mac Restri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cast Rate Li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ios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eatherma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lipex_weathermap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Online Tools availab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ign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n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user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ffic St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s your first contact with all other peers on the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C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T ticke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Ports Us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1820880"/>
          <a:ext cx="883944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0880"/>
                    <a:ext cx="883944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8:34:16Z</dcterms:created>
  <dc:creator> Sylvaine</dc:creator>
  <dc:description/>
  <dc:language>en-US</dc:language>
  <cp:lastModifiedBy>sylvaine lucas</cp:lastModifiedBy>
  <cp:lastPrinted>2009-04-22T19:24:48Z</cp:lastPrinted>
  <dcterms:modified xsi:type="dcterms:W3CDTF">2005-05-25T09:18:49Z</dcterms:modified>
  <cp:revision>25</cp:revision>
  <dc:subject/>
  <dc:title>Lipex</dc:title>
</cp:coreProperties>
</file>