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4FD-00D7-4BD3-A8C4-B4A24F44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655-8744-42E3-8FA1-B1DCE06D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116-C199-4E80-B818-44F234F4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6D4-95C2-4615-A97F-732249FC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CDBE-D3E0-4AD0-8D08-AD491BF6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B5DA-BA33-4CFF-AC4D-A97EF4F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359B-E13B-456A-A778-9EC4245F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4616-B197-427C-9B0E-0C9601C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5272-EDD5-4928-9375-CDFE8EFE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127A-1811-4A0C-8A27-094BDC1D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8889-9F3C-4589-89E2-2073BD9C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46B-BE50-49C4-BCBC-8660D40B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9E42-E2F2-4CA3-80D1-1D794F2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04AA-2F52-43BD-9F84-5791A349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525D-5287-45DE-A2F4-639DACBB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0D29-8162-4FC9-9966-7C34D370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934D-157A-45C9-B37A-1A5AA13F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D76-B311-4AFF-9BE8-75A62650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803-DACD-4C55-9F8F-7C13189A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2C9-734A-41DB-9FA5-99533CBB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E46-6287-4D2E-A5BF-66292C7E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F5E-64BB-4290-8F09-79C7B5B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A4A-EB55-4B69-8E9C-FFDDF5BD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A62-C6FF-4675-AB58-1D6924A1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5C48-0C75-4127-8AAD-BB21AA20AA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F4B0-F031-4950-8EE6-6B7D180139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logo" descr=""/>
          <p:cNvPicPr/>
          <p:nvPr/>
        </p:nvPicPr>
        <p:blipFill>
          <a:blip r:embed="rId1"/>
          <a:stretch/>
        </p:blipFill>
        <p:spPr>
          <a:xfrm>
            <a:off x="3389400" y="3000240"/>
            <a:ext cx="23652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s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and Fixed Rate Running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set up fee   £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mbps port charge £50 per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mbps port charge £100 per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Gig port charge £100 per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up port at no extra monthly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ontact us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ny Mali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ny@lipex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: 0870 432 92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98d43"/>
                </a:solidFill>
                <a:uFillTx/>
                <a:latin typeface="Arial"/>
              </a:rPr>
              <a:t>www.lipex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: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oor Redbus Interhouse building 6, Harbour Exchange Square London E14 9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Lipe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Peering Exchange, switches based in London and Amster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ustomers are small to medium size ISPs and content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l for first 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im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1 Creation of Lip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for 1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es sponsored by Allied Telesy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ehouse No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ehouse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bus Harbour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2 peers by the end of the firs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arges int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ber ring purch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im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: Introduction of Amsterdam peering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city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bus Amster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of extra sites in 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bus Sovere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bus Mer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peers: 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Our Network Equip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rk Fibre 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gle P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R (da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IDIAN (comb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VEREIGN (w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x Juniper M5 ro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 collector and ML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x Allied Telesyn 9816 G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x Allied Telesyn Rapier 24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l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Black"/>
              </a:rPr>
              <a:t>Network Confi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 Security (Mac Restri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cast Rate Li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gios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Weathermap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lipex_weathermap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Online Tools availab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ign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n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user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e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ffic St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s your first contact with all other peers on the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C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T ticke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Ports Use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280" y="1820880"/>
          <a:ext cx="883944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0880"/>
                    <a:ext cx="883944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8:34:16Z</dcterms:created>
  <dc:creator> Sylvaine</dc:creator>
  <dc:description/>
  <dc:language>en-US</dc:language>
  <cp:lastModifiedBy>sylvaine lucas</cp:lastModifiedBy>
  <cp:lastPrinted>2009-04-22T19:24:48Z</cp:lastPrinted>
  <dcterms:modified xsi:type="dcterms:W3CDTF">2005-05-25T09:18:49Z</dcterms:modified>
  <cp:revision>25</cp:revision>
  <dc:subject/>
  <dc:title>Lipex</dc:title>
</cp:coreProperties>
</file>