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7f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B81B-C58B-4E95-AD4B-104A27956F99}" type="slidenum">
              <a:rPr b="0" lang="en-US" sz="1000" spc="-1" strike="noStrike">
                <a:solidFill>
                  <a:srgbClr val="0000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72D9-15EF-4A13-AFEA-E297BE172CE6}" type="slidenum">
              <a:rPr b="0" lang="en-US" sz="1000" spc="-1" strike="noStrike">
                <a:solidFill>
                  <a:srgbClr val="00007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8F5E-4B9B-40F7-B2D7-C90D4F837955}" type="slidenum">
              <a:rPr b="0" lang="en-US" sz="1000" spc="-1" strike="noStrike">
                <a:solidFill>
                  <a:srgbClr val="00007f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65160" y="693720"/>
            <a:ext cx="4930920" cy="34146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970A-A16C-4422-B04D-D517A34853D5}" type="slidenum">
              <a:rPr b="0" lang="en-US" sz="1000" spc="-1" strike="noStrike">
                <a:solidFill>
                  <a:srgbClr val="00007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63720" y="692280"/>
            <a:ext cx="493236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7f"/>
                </a:solidFill>
                <a:latin typeface="Arial"/>
              </a:rPr>
              <a:t>FYI compared to Russia this shows quite a different picture with Moscow accounting for 40%+ and the other large cities accounting for another 20%</a:t>
            </a: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A7D4-E18B-4742-8CBB-6A3774B1A035}" type="slidenum">
              <a:rPr b="0" lang="en-US" sz="1000" spc="-1" strike="noStrike">
                <a:solidFill>
                  <a:srgbClr val="00007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65160" y="693720"/>
            <a:ext cx="4930920" cy="34146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3953-4C13-4B10-8164-2F1AC6C35C03}" type="slidenum">
              <a:rPr b="0" lang="en-US" sz="1000" spc="-1" strike="noStrike">
                <a:solidFill>
                  <a:srgbClr val="00007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5160" y="693720"/>
            <a:ext cx="4930920" cy="34146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2F63-F93C-41D4-AE37-1AE74386393D}" type="slidenum">
              <a:rPr b="0" lang="en-US" sz="1000" spc="-1" strike="noStrike">
                <a:solidFill>
                  <a:srgbClr val="00007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65160" y="693720"/>
            <a:ext cx="4930920" cy="34146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339B-150E-44E5-A1DB-7582FEE1893A}" type="slidenum">
              <a:rPr b="0" lang="en-US" sz="1000" spc="-1" strike="noStrike">
                <a:solidFill>
                  <a:srgbClr val="00007f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65160" y="693720"/>
            <a:ext cx="4930920" cy="34146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255B-6FEB-47D4-9199-59E745A9AA3A}" type="slidenum">
              <a:rPr b="0" lang="en-US" sz="1000" spc="-1" strike="noStrike">
                <a:solidFill>
                  <a:srgbClr val="00007f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65160" y="693720"/>
            <a:ext cx="4930920" cy="34146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2B14-2762-46A3-B714-2F1AFBA78A79}" type="slidenum">
              <a:rPr b="0" lang="en-US" sz="1000" spc="-1" strike="noStrike">
                <a:solidFill>
                  <a:srgbClr val="00007f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65160" y="693720"/>
            <a:ext cx="4930920" cy="34146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9F47-8B95-4C9D-B9C1-CB1AA0DA6B2A}" type="slidenum">
              <a:rPr b="0" lang="en-US" sz="1000" spc="-1" strike="noStrike">
                <a:solidFill>
                  <a:srgbClr val="00007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65160" y="693720"/>
            <a:ext cx="4930920" cy="34146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662D-BFBC-473C-A0E4-BF695302B0DD}" type="slidenum">
              <a:rPr b="0" lang="en-US" sz="1000" spc="-1" strike="noStrike">
                <a:solidFill>
                  <a:srgbClr val="00007f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5160" y="693720"/>
            <a:ext cx="4930920" cy="34146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E5AB2-4DEC-4214-ACC6-23D9A01CB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962820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9320" y="3949560"/>
            <a:ext cx="962820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49F48-A280-473E-8527-72968B20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731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9320" y="3949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3120" y="3949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D1778-FD9F-4A67-BA30-9BB75226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4800" y="1168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49920" y="1168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9320" y="3949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4800" y="3949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49920" y="3949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2B1B5-A9C5-4FF9-8572-8DA09084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A9AB4-5A00-4AF0-B377-C1F01934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9320" y="1168560"/>
            <a:ext cx="9628200" cy="53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537CB-BBF4-482C-9B61-0A2C6009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962820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6CEF3-94C9-4DF9-A32D-46E2816B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469836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73120" y="1168560"/>
            <a:ext cx="469836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D346D-A25D-4090-A3E0-EDA39A4E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57767-6F01-494B-A1E2-38C36CC7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98520" y="317520"/>
            <a:ext cx="8453520" cy="2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593C9-AF61-4826-BD9A-B7FF2547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73120" y="1168560"/>
            <a:ext cx="469836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9320" y="3949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9E722-2F62-49C8-B47B-2B31064A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9320" y="1168560"/>
            <a:ext cx="9628200" cy="53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327F5-8394-4370-B6FE-458D9E70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469836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31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73120" y="3949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490AA-B812-4D50-BBE8-146DD60E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731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9320" y="3949560"/>
            <a:ext cx="962820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358C5-AD9C-4985-8F7D-38AC8DDD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962820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9320" y="3949560"/>
            <a:ext cx="962820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C757D-B115-410A-AFE3-5ECA19BA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731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9320" y="3949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73120" y="3949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D78BD-97DF-4188-B797-E2373807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94800" y="1168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9920" y="1168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9320" y="3949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94800" y="3949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9920" y="3949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8A59D-47BC-4471-A90D-71037582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962820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0E34C-E940-448C-B391-81C68622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469836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73120" y="1168560"/>
            <a:ext cx="469836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99904-C8B6-4A41-A58E-11B40364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D5A28-2A23-4C81-A373-077BB75C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8520" y="317520"/>
            <a:ext cx="8453520" cy="2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A3D76-213F-404A-AE43-4033C16D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3120" y="1168560"/>
            <a:ext cx="469836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9320" y="3949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FB6DF-987C-45C7-ABBC-C1CE1DC4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469836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31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73120" y="3949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3AF41-8242-44D8-BB22-0B5E61ED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31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9320" y="3949560"/>
            <a:ext cx="962820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E3B8E-76A6-44A7-89CE-F8873199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Text Box 23"/>
          <p:cNvSpPr/>
          <p:nvPr/>
        </p:nvSpPr>
        <p:spPr>
          <a:xfrm>
            <a:off x="685800" y="6400800"/>
            <a:ext cx="23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Text Box 29"/>
          <p:cNvSpPr/>
          <p:nvPr/>
        </p:nvSpPr>
        <p:spPr>
          <a:xfrm>
            <a:off x="685800" y="6400800"/>
            <a:ext cx="19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9320" y="1168560"/>
            <a:ext cx="962820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285840" indent="-28584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625320" indent="-22536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968400" indent="-22860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3" marL="1314360" indent="-23184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504960" y="6627960"/>
            <a:ext cx="289548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cc"/>
                </a:solidFill>
                <a:latin typeface="Times New Roman"/>
              </a:rPr>
              <a:t>28 May 2009 / UKNOF / Sheffie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1"/>
          <p:cNvSpPr/>
          <p:nvPr/>
        </p:nvSpPr>
        <p:spPr>
          <a:xfrm>
            <a:off x="7464600" y="6628320"/>
            <a:ext cx="190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http://www.ripe.net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5C07-C3CC-43DC-B674-5C8A13F47051}" type="slidenum">
              <a:rPr b="0" lang="en-US" sz="9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565200" y="6621480"/>
            <a:ext cx="175248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cc"/>
                </a:solidFill>
                <a:latin typeface="Times New Roman"/>
              </a:rPr>
              <a:t>Jochem de Ru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7551720" y="6628320"/>
            <a:ext cx="181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http://www.ripe.net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9320" y="1168560"/>
            <a:ext cx="962820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285840" indent="-28584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625320" indent="-22536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968400" indent="-22860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3" marL="1314360" indent="-23184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8EB5-A11B-416F-ABB7-BCA508AFA4D0}" type="slidenum">
              <a:rPr b="0" lang="en-US" sz="9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565200" y="6621480"/>
            <a:ext cx="175248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cc"/>
                </a:solidFill>
                <a:latin typeface="Times New Roman"/>
              </a:rPr>
              <a:t>Jochem de Ru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dt" idx="6"/>
          </p:nvPr>
        </p:nvSpPr>
        <p:spPr>
          <a:xfrm>
            <a:off x="3504960" y="6629400"/>
            <a:ext cx="289548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cc"/>
                </a:solidFill>
                <a:latin typeface="Times New Roman"/>
              </a:rPr>
              <a:t>28 May 2009 / UKNOF / Sheffie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8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CA76-7501-40AC-B799-7006C76D7B9D}" type="slidenum">
              <a:rPr b="0" lang="en-US" sz="9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47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48"/>
          <p:cNvSpPr/>
          <p:nvPr/>
        </p:nvSpPr>
        <p:spPr>
          <a:xfrm>
            <a:off x="3505320" y="662976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8720" y="1074600"/>
            <a:ext cx="8015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The Economic Crisis and effects on RIRs and RIR Registrations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95200" y="2486160"/>
            <a:ext cx="751356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Autofit/>
          </a:bodyPr>
          <a:p>
            <a:pPr indent="0" algn="ctr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indent="0" algn="ctr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Chief Financial Officer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indent="0" algn="ctr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RIPE NCC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4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57CC-7F43-4361-94C4-83A51F7B6C9E}" type="slidenum">
              <a:rPr b="0" lang="en-US" sz="9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Footer Placeholder 6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UK member info per 24 May 2009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214200" y="1198440"/>
            <a:ext cx="9448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urrently 701 UK members (24 May 2009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UK members growth 15 (2008: 21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UK applications 40 in 2009 (2008: 45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322360" y="666720"/>
          <a:ext cx="586080" cy="457200"/>
        </p:xfrm>
        <a:graphic>
          <a:graphicData uri="http://schemas.openxmlformats.org/drawingml/2006/table">
            <a:tbl>
              <a:tblPr/>
              <a:tblGrid>
                <a:gridCol w="586080"/>
              </a:tblGrid>
              <a:tr h="4597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TextBox 11"/>
          <p:cNvSpPr/>
          <p:nvPr/>
        </p:nvSpPr>
        <p:spPr>
          <a:xfrm>
            <a:off x="1049400" y="3168720"/>
            <a:ext cx="29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New members per country 200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TextBox 14"/>
          <p:cNvSpPr/>
          <p:nvPr/>
        </p:nvSpPr>
        <p:spPr>
          <a:xfrm>
            <a:off x="6161040" y="3162240"/>
            <a:ext cx="27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embers per country 200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3" name="Chart 14" descr=""/>
          <p:cNvPicPr/>
          <p:nvPr/>
        </p:nvPicPr>
        <p:blipFill>
          <a:blip r:embed="rId2"/>
          <a:stretch/>
        </p:blipFill>
        <p:spPr>
          <a:xfrm>
            <a:off x="4803840" y="3713040"/>
            <a:ext cx="5108400" cy="2297160"/>
          </a:xfrm>
          <a:prstGeom prst="rect">
            <a:avLst/>
          </a:prstGeom>
          <a:ln w="0">
            <a:noFill/>
          </a:ln>
        </p:spPr>
      </p:pic>
      <p:pic>
        <p:nvPicPr>
          <p:cNvPr id="164" name="Chart 15" descr=""/>
          <p:cNvPicPr/>
          <p:nvPr/>
        </p:nvPicPr>
        <p:blipFill>
          <a:blip r:embed="rId3"/>
          <a:stretch/>
        </p:blipFill>
        <p:spPr>
          <a:xfrm>
            <a:off x="-6480" y="3591000"/>
            <a:ext cx="4902480" cy="22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4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DB02-FCE2-4C6C-AB3C-BDBF5E3CC4BE}" type="slidenum">
              <a:rPr b="0" lang="en-US" sz="9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Footer Placeholder 6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emographics of LIRs in the UK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69" name="Chart 7" descr=""/>
          <p:cNvPicPr/>
          <p:nvPr/>
        </p:nvPicPr>
        <p:blipFill>
          <a:blip r:embed="rId2"/>
          <a:stretch/>
        </p:blipFill>
        <p:spPr>
          <a:xfrm>
            <a:off x="847800" y="1316160"/>
            <a:ext cx="8064360" cy="43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80AF-DECC-4C59-933C-0D1436CB298E}" type="slidenum">
              <a:rPr b="0" lang="en-US" sz="9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8520" y="331560"/>
            <a:ext cx="8453520" cy="114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Business effects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General indicator of workload </a:t>
            </a:r>
            <a:br>
              <a:rPr sz="3200"/>
            </a:b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“Number of requests”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74" name="Chart 8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6456240"/>
          </a:xfrm>
          <a:prstGeom prst="rect">
            <a:avLst/>
          </a:prstGeom>
          <a:ln w="0">
            <a:noFill/>
          </a:ln>
        </p:spPr>
      </p:pic>
      <p:sp>
        <p:nvSpPr>
          <p:cNvPr id="175" name="Oval 9"/>
          <p:cNvSpPr/>
          <p:nvPr/>
        </p:nvSpPr>
        <p:spPr>
          <a:xfrm>
            <a:off x="8329680" y="2138400"/>
            <a:ext cx="1326960" cy="1369800"/>
          </a:xfrm>
          <a:prstGeom prst="ellipse">
            <a:avLst/>
          </a:prstGeom>
          <a:solidFill>
            <a:srgbClr val="0000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555C-5540-45C9-81E6-68D20B0850B7}" type="slidenum">
              <a:rPr b="0" lang="en-US" sz="9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48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Summary &amp; Conclusions_x0016_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66840" y="1249200"/>
            <a:ext cx="953928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inancial effects– impact increase income in 2008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New LIR growth – lower because of low conversion rat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LIR closures – increased but not significantl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No work load changes due to lower economic a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Low inflation positive for RIPE NCC expen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Easier recruit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D95B-339F-4488-94B7-27A00097B779}" type="slidenum">
              <a:rPr b="0" lang="en-US" sz="9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9280" y="2790720"/>
            <a:ext cx="845316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Questions ?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2368-1A32-42A4-BC35-768A48E3267D}" type="slidenum">
              <a:rPr b="0" lang="en-US" sz="9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48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Some effects of the Economic Crisis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66840" y="1249200"/>
            <a:ext cx="9327960" cy="49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inancial Crisi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Decrease in GDP     Economic A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Increase in bankruptcies/liquidat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Decrease of infl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Increase in unemploy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..for the first time since 1945 Electricity use worldwide will decrease estimated by 4%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Right Arrow 8"/>
          <p:cNvSpPr/>
          <p:nvPr/>
        </p:nvSpPr>
        <p:spPr>
          <a:xfrm>
            <a:off x="3753000" y="2154240"/>
            <a:ext cx="399960" cy="3715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0000cc"/>
          </a:solidFill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Effect areas on the RIPE NCC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77920" y="1168560"/>
            <a:ext cx="938520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285840" indent="-28584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Financial effect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285840" indent="-28584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Membership development effect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625320" indent="-225360">
              <a:spcBef>
                <a:spcPts val="901"/>
              </a:spcBef>
              <a:spcAft>
                <a:spcPts val="150"/>
              </a:spcAft>
              <a:buClr>
                <a:srgbClr val="0000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New LIR growth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625320" indent="-225360">
              <a:spcBef>
                <a:spcPts val="901"/>
              </a:spcBef>
              <a:spcAft>
                <a:spcPts val="150"/>
              </a:spcAft>
              <a:buClr>
                <a:srgbClr val="0000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LIR closure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968400" indent="-228600">
              <a:spcBef>
                <a:spcPts val="601"/>
              </a:spcBef>
              <a:spcAft>
                <a:spcPts val="99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Because of liquidation / bankruptcy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2" marL="968400" indent="-228600">
              <a:spcBef>
                <a:spcPts val="601"/>
              </a:spcBef>
              <a:spcAft>
                <a:spcPts val="99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Increase in mergers for Service Fee cost efficiency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2" marL="968400" indent="-228600">
              <a:spcBef>
                <a:spcPts val="601"/>
              </a:spcBef>
              <a:spcAft>
                <a:spcPts val="99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Due to “cost saving”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285840" indent="-28584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Business effect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625320" indent="-225360">
              <a:spcBef>
                <a:spcPts val="901"/>
              </a:spcBef>
              <a:spcAft>
                <a:spcPts val="150"/>
              </a:spcAft>
              <a:buClr>
                <a:srgbClr val="0000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Work load changes due to lower economic activity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625320" indent="-225360">
              <a:spcBef>
                <a:spcPts val="901"/>
              </a:spcBef>
              <a:spcAft>
                <a:spcPts val="150"/>
              </a:spcAft>
              <a:buClr>
                <a:srgbClr val="0000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Decrease of inflation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625320" indent="-225360">
              <a:spcBef>
                <a:spcPts val="901"/>
              </a:spcBef>
              <a:spcAft>
                <a:spcPts val="150"/>
              </a:spcAft>
              <a:buClr>
                <a:srgbClr val="0000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crease of unemploymen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285840" indent="-28584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6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AD65-7994-42D3-AE12-3D0B5611A8B9}" type="slidenum">
              <a:rPr b="0" lang="en-US" sz="9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le 7"/>
          <p:cNvSpPr/>
          <p:nvPr/>
        </p:nvSpPr>
        <p:spPr>
          <a:xfrm>
            <a:off x="235080" y="1698480"/>
            <a:ext cx="9358200" cy="2691000"/>
          </a:xfrm>
          <a:prstGeom prst="roundRect">
            <a:avLst>
              <a:gd name="adj" fmla="val 16667"/>
            </a:avLst>
          </a:prstGeom>
          <a:solidFill>
            <a:srgbClr val="0000cc">
              <a:alpha val="30000"/>
            </a:srgbClr>
          </a:solidFill>
          <a:ln w="22320">
            <a:solidFill>
              <a:srgbClr val="598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Financial effects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E593-A0F5-4512-A71D-846071BA55A8}" type="slidenum">
              <a:rPr b="0" lang="en-US" sz="9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4" name="Content Placeholder 8" descr="LT Euribor.tiff"/>
          <p:cNvPicPr/>
          <p:nvPr/>
        </p:nvPicPr>
        <p:blipFill>
          <a:blip r:embed="rId2"/>
          <a:srcRect l="-3718" t="0" r="-3718" b="0"/>
          <a:stretch/>
        </p:blipFill>
        <p:spPr>
          <a:xfrm>
            <a:off x="746280" y="2416320"/>
            <a:ext cx="8599320" cy="4020840"/>
          </a:xfrm>
          <a:prstGeom prst="rect">
            <a:avLst/>
          </a:prstGeom>
          <a:ln w="0">
            <a:noFill/>
          </a:ln>
        </p:spPr>
      </p:pic>
      <p:sp>
        <p:nvSpPr>
          <p:cNvPr id="115" name="Oval 9"/>
          <p:cNvSpPr/>
          <p:nvPr/>
        </p:nvSpPr>
        <p:spPr>
          <a:xfrm>
            <a:off x="7091280" y="2368440"/>
            <a:ext cx="2111400" cy="1670040"/>
          </a:xfrm>
          <a:prstGeom prst="ellipse">
            <a:avLst/>
          </a:prstGeom>
          <a:solidFill>
            <a:srgbClr val="ffff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52440" y="946080"/>
            <a:ext cx="9327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Increased interest rates on deposits – higher incom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Mid term will show a decrease in interest incom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7794720" y="4467240"/>
            <a:ext cx="2111400" cy="1670040"/>
          </a:xfrm>
          <a:prstGeom prst="ellipse">
            <a:avLst/>
          </a:prstGeom>
          <a:solidFill>
            <a:srgbClr val="ff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3630600" y="2077920"/>
            <a:ext cx="29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Eurior 3 months rate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3007-058C-4555-A383-397991EAF4D7}" type="slidenum">
              <a:rPr b="0" lang="en-US" sz="9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7360" y="479160"/>
            <a:ext cx="845352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embership Effects</a:t>
            </a:r>
            <a:br>
              <a:rPr sz="3200"/>
            </a:b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New LIR development 2006 - 2009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990720" y="1523880"/>
            <a:ext cx="1447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Chart 7" descr=""/>
          <p:cNvPicPr/>
          <p:nvPr/>
        </p:nvPicPr>
        <p:blipFill>
          <a:blip r:embed="rId2"/>
          <a:stretch/>
        </p:blipFill>
        <p:spPr>
          <a:xfrm>
            <a:off x="0" y="0"/>
            <a:ext cx="9667800" cy="5499000"/>
          </a:xfrm>
          <a:prstGeom prst="rect">
            <a:avLst/>
          </a:prstGeom>
          <a:ln w="0">
            <a:noFill/>
          </a:ln>
        </p:spPr>
      </p:pic>
      <p:cxnSp>
        <p:nvCxnSpPr>
          <p:cNvPr id="125" name="Straight Arrow Connector 10"/>
          <p:cNvCxnSpPr/>
          <p:nvPr/>
        </p:nvCxnSpPr>
        <p:spPr>
          <a:xfrm>
            <a:off x="4320720" y="3092400"/>
            <a:ext cx="330840" cy="30384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6" name="TextBox 8"/>
          <p:cNvSpPr/>
          <p:nvPr/>
        </p:nvSpPr>
        <p:spPr>
          <a:xfrm>
            <a:off x="870120" y="5646600"/>
            <a:ext cx="699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9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9469-7B33-4656-ADDC-FA23A395C711}" type="slidenum">
              <a:rPr b="0" lang="en-US" sz="9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175680"/>
            <a:ext cx="8453160" cy="6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onversion rate New LIRs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0720" y="1523880"/>
            <a:ext cx="1447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808280" y="4719600"/>
          <a:ext cx="6184800" cy="1693800"/>
        </p:xfrm>
        <a:graphic>
          <a:graphicData uri="http://schemas.openxmlformats.org/drawingml/2006/table">
            <a:tbl>
              <a:tblPr/>
              <a:tblGrid>
                <a:gridCol w="2062080"/>
                <a:gridCol w="2062080"/>
                <a:gridCol w="20606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t 30 April 2009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umber of members growth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umber of Applications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ＭＳ Ｐゴシック"/>
                        </a:rPr>
                        <a:t>2009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ＭＳ Ｐゴシック"/>
                        </a:rPr>
                        <a:t>92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ＭＳ Ｐゴシック"/>
                        </a:rPr>
                        <a:t>397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ＭＳ Ｐゴシック"/>
                        </a:rPr>
                        <a:t>B 2009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ＭＳ Ｐゴシック"/>
                        </a:rPr>
                        <a:t>190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ＭＳ Ｐゴシック"/>
                        </a:rPr>
                        <a:t>332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6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ＭＳ Ｐゴシック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ＭＳ Ｐゴシック"/>
                        </a:rPr>
                        <a:t>218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ＭＳ Ｐゴシック"/>
                        </a:rPr>
                        <a:t>382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</a:tr>
            </a:tbl>
          </a:graphicData>
        </a:graphic>
      </p:graphicFrame>
      <p:pic>
        <p:nvPicPr>
          <p:cNvPr id="133" name="Chart 8" descr=""/>
          <p:cNvPicPr/>
          <p:nvPr/>
        </p:nvPicPr>
        <p:blipFill>
          <a:blip r:embed="rId2"/>
          <a:stretch/>
        </p:blipFill>
        <p:spPr>
          <a:xfrm>
            <a:off x="1096920" y="792000"/>
            <a:ext cx="7497720" cy="376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C19C-8B08-499D-94E8-4C2DA0C9404D}" type="slidenum">
              <a:rPr b="0" lang="en-US" sz="9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33360" y="31428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2 Months New LIR growth average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90720" y="1523880"/>
            <a:ext cx="1447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9" name="Chart 8" descr=""/>
          <p:cNvPicPr/>
          <p:nvPr/>
        </p:nvPicPr>
        <p:blipFill>
          <a:blip r:embed="rId2"/>
          <a:stretch/>
        </p:blipFill>
        <p:spPr>
          <a:xfrm>
            <a:off x="0" y="0"/>
            <a:ext cx="9101160" cy="50054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8"/>
          <p:cNvSpPr/>
          <p:nvPr/>
        </p:nvSpPr>
        <p:spPr>
          <a:xfrm>
            <a:off x="1490760" y="4984920"/>
            <a:ext cx="699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9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Oval 13"/>
          <p:cNvSpPr/>
          <p:nvPr/>
        </p:nvSpPr>
        <p:spPr>
          <a:xfrm>
            <a:off x="7091280" y="2368440"/>
            <a:ext cx="2111400" cy="1670040"/>
          </a:xfrm>
          <a:prstGeom prst="ellipse">
            <a:avLst/>
          </a:prstGeom>
          <a:solidFill>
            <a:srgbClr val="0000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5A2F-DA8B-4C95-AFB4-4E80D0724F96}" type="slidenum">
              <a:rPr b="0" lang="en-US" sz="9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48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LIR Closures_x0016_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66840" y="1249200"/>
            <a:ext cx="9539280" cy="33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urrently 150 LIRs closed (30 April 2009) vs 113 in 2008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Increase of 30% but only 2% of memb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o no significant increase in bankruptcies yet…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o no significant increase in mergers / takeovers yet…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7438-C410-4165-91CC-BC81CAA53C8A}" type="slidenum">
              <a:rPr b="0" lang="en-US" sz="9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UK Membership effects</a:t>
            </a:r>
            <a:br>
              <a:rPr sz="3200"/>
            </a:b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op 5 countries 2001 – May 2009 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2208240" y="1666800"/>
            <a:ext cx="9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2" name="Chart 7" descr=""/>
          <p:cNvPicPr/>
          <p:nvPr/>
        </p:nvPicPr>
        <p:blipFill>
          <a:blip r:embed="rId2"/>
          <a:stretch/>
        </p:blipFill>
        <p:spPr>
          <a:xfrm>
            <a:off x="0" y="0"/>
            <a:ext cx="9540720" cy="604044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6"/>
          <p:cNvSpPr/>
          <p:nvPr/>
        </p:nvSpPr>
        <p:spPr>
          <a:xfrm>
            <a:off x="8282160" y="893880"/>
            <a:ext cx="1022040" cy="554040"/>
          </a:xfrm>
          <a:prstGeom prst="wedgeEllipseCallout">
            <a:avLst>
              <a:gd name="adj1" fmla="val -1606"/>
              <a:gd name="adj2" fmla="val 273092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701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855720" y="6004080"/>
            <a:ext cx="79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1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2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3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4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9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09:09:59Z</dcterms:created>
  <dc:creator>Ripe NCC</dc:creator>
  <dc:description/>
  <cp:keywords/>
  <dc:language>en-US</dc:language>
  <cp:lastModifiedBy>Jochem de Ruig</cp:lastModifiedBy>
  <cp:lastPrinted>1904-01-01T00:00:00Z</cp:lastPrinted>
  <dcterms:modified xsi:type="dcterms:W3CDTF">2009-05-28T12:18:15Z</dcterms:modified>
  <cp:revision>786</cp:revision>
  <dc:subject/>
  <dc:title>PowerPoint Presentation</dc:title>
</cp:coreProperties>
</file>