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5562-B885-4C9A-A7E6-F69DE43D6FF2}" type="slidenum">
              <a:rPr b="0" lang="en-US" sz="1000" spc="-1" strike="noStrike">
                <a:solidFill>
                  <a:srgbClr val="0000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D74-85AD-4BE0-9027-14707DE5BEF9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C9B4-955D-42E0-B222-394C38C762F8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251-0D78-41D8-962E-42CAF9553CE6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3720" y="692280"/>
            <a:ext cx="49323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FYI compared to Russia this shows quite a different picture with Moscow accounting for 40%+ and the other large cities accounting for another 20%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974-9062-41D8-AADE-8D2B29AD5A7C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563E-FC4D-44B3-A852-6844E404BB8B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DB2A-45C3-4050-8AA5-25E2D69AB4FD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2EE-9FB2-43F6-B5CA-119857037966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892-6538-4656-BDB6-0B5F222814AD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68E-9129-4E32-9ED7-FF3041BD048D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619-A759-463B-9D80-4CE0DFE5F5BD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2D5-369E-47EF-80DD-716EC19DAAE6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DD7E-6B93-4172-97F6-077BDB0F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B855-DACD-4B01-B99C-CCDD3C1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FA38-7790-4EA8-8A9A-9184C74E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B200-33B4-4F78-89E0-148B0A0C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265FD-1014-4A36-BCA3-21FAF572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A33B-F517-469A-9A57-84449BE6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3CB0-D37D-420E-8AC4-C588F55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0E42-9B2B-45A3-93C4-A1F76D7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6CA3B-D48B-4EB3-8B3D-598213C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4668-65FD-44A9-853D-BE5783D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1BCB-36A4-4CDC-8707-1F2FC18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35D1-85A3-4FEA-9A7B-ADC0FA4C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2A262-A09E-4638-9064-AEB5012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C50E-1D0B-49B7-9FAC-C5EFB7E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2A394-4CF5-49EC-8246-848A104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9213-228F-4D2E-B77A-66DB490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C9B04-C4DF-4FE7-BE54-5814EF4B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4F41-F246-44DB-9C5B-6553FBA8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3271-11D7-4C32-BC41-7D825D6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E989-EDAE-4FF6-8C0F-4FFF841D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54D9-91AC-47FC-9A30-32C7B918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1B2D-5073-4032-80D4-590D07E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A458-9B1C-4AD4-A672-65DA617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CAB0-75AB-4E26-BA01-0D15704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Text Box 23"/>
          <p:cNvSpPr/>
          <p:nvPr/>
        </p:nvSpPr>
        <p:spPr>
          <a:xfrm>
            <a:off x="685800" y="64008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685800" y="640080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04960" y="662796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1"/>
          <p:cNvSpPr/>
          <p:nvPr/>
        </p:nvSpPr>
        <p:spPr>
          <a:xfrm>
            <a:off x="7464600" y="662832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6435-8EE2-45B8-BFCA-2809632767A0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7551720" y="6628320"/>
            <a:ext cx="18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E132-1C4F-437A-909A-8EC3AEC2D321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3504960" y="662940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CD08-F625-44A6-9FDE-347BA3CF94B0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3505320" y="662976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8720" y="1074600"/>
            <a:ext cx="80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Economic Crisis and effects on RIRs and RIR Registration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95200" y="2486160"/>
            <a:ext cx="751356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Autofit/>
          </a:bodyPr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Chief Financial Offic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RIPE NCC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73CC-5036-4E9C-A5E7-6544E87B99F0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 info per 24 May 2009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198440"/>
            <a:ext cx="944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701 UK members (24 May 2009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members growth 15 (2008: 21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applications 40 in 2009 (2008: 45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2360" y="666720"/>
          <a:ext cx="586080" cy="457200"/>
        </p:xfrm>
        <a:graphic>
          <a:graphicData uri="http://schemas.openxmlformats.org/drawingml/2006/table">
            <a:tbl>
              <a:tblPr/>
              <a:tblGrid>
                <a:gridCol w="586080"/>
              </a:tblGrid>
              <a:tr h="4597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Box 11"/>
          <p:cNvSpPr/>
          <p:nvPr/>
        </p:nvSpPr>
        <p:spPr>
          <a:xfrm>
            <a:off x="1049400" y="31687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New 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6161040" y="316224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Chart 14" descr=""/>
          <p:cNvPicPr/>
          <p:nvPr/>
        </p:nvPicPr>
        <p:blipFill>
          <a:blip r:embed="rId2"/>
          <a:stretch/>
        </p:blipFill>
        <p:spPr>
          <a:xfrm>
            <a:off x="4803840" y="3713040"/>
            <a:ext cx="5108400" cy="2297160"/>
          </a:xfrm>
          <a:prstGeom prst="rect">
            <a:avLst/>
          </a:prstGeom>
          <a:ln w="0">
            <a:noFill/>
          </a:ln>
        </p:spPr>
      </p:pic>
      <p:pic>
        <p:nvPicPr>
          <p:cNvPr id="164" name="Chart 15" descr=""/>
          <p:cNvPicPr/>
          <p:nvPr/>
        </p:nvPicPr>
        <p:blipFill>
          <a:blip r:embed="rId3"/>
          <a:stretch/>
        </p:blipFill>
        <p:spPr>
          <a:xfrm>
            <a:off x="-6480" y="3591000"/>
            <a:ext cx="49024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C33A-2A8E-4183-81D9-BDAC946C8B4D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mographics of LIRs in the U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9" name="Chart 7" descr=""/>
          <p:cNvPicPr/>
          <p:nvPr/>
        </p:nvPicPr>
        <p:blipFill>
          <a:blip r:embed="rId2"/>
          <a:stretch/>
        </p:blipFill>
        <p:spPr>
          <a:xfrm>
            <a:off x="847800" y="1316160"/>
            <a:ext cx="80643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2D25-DCDB-48B9-A8E3-23010B9288F2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8520" y="331560"/>
            <a:ext cx="845352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usiness effects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eneral indicator of workload 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Number of requests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4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45624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8329680" y="2138400"/>
            <a:ext cx="1326960" cy="136980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AA3-61DF-4361-89CF-E61712625D14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ummary &amp; Conclusion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66840" y="1249200"/>
            <a:ext cx="95392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effects– impact increase income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ew LIR growth – lower because of low conversion rat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IR closures – increased but not significantl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 work load changes due to lower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ow inflation positive for RIPE NCC expen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asier recruit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329A-0A32-4216-BFAE-E4BE95951826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280" y="2790720"/>
            <a:ext cx="84531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Questions ?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03C8-19D6-473A-8D9E-13D1543F9467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ome effects of the Economic Crisi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66840" y="1249200"/>
            <a:ext cx="93279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Crisi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in GDP    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bankruptcies/liquid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of infl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unemploy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..for the first time since 1945 Electricity use worldwide will decrease estimated by 4%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ight Arrow 8"/>
          <p:cNvSpPr/>
          <p:nvPr/>
        </p:nvSpPr>
        <p:spPr>
          <a:xfrm>
            <a:off x="3753000" y="2154240"/>
            <a:ext cx="399960" cy="371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cc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ffect areas on the RIPE NCC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7920" y="1168560"/>
            <a:ext cx="9385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Financial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Membership development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LIR growt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LIR clos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cause of liquidation / bankrupt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crease in mergers for Service Fee cost efficien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ue to “cost saving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Business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Work load changes due to lower economic activit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Decrease of infla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crease of unemploymen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1630-057A-49A8-B9D6-455AA8455466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235080" y="1698480"/>
            <a:ext cx="9358200" cy="2691000"/>
          </a:xfrm>
          <a:prstGeom prst="roundRect">
            <a:avLst>
              <a:gd name="adj" fmla="val 16667"/>
            </a:avLst>
          </a:prstGeom>
          <a:solidFill>
            <a:srgbClr val="0000cc">
              <a:alpha val="30000"/>
            </a:srgbClr>
          </a:solidFill>
          <a:ln w="22320">
            <a:solidFill>
              <a:srgbClr val="598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inancial effect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AF92-6255-492A-AE4A-BA6A21E63BE2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Content Placeholder 8" descr="LT Euribor.tiff"/>
          <p:cNvPicPr/>
          <p:nvPr/>
        </p:nvPicPr>
        <p:blipFill>
          <a:blip r:embed="rId2"/>
          <a:srcRect l="-3718" t="0" r="-3718" b="0"/>
          <a:stretch/>
        </p:blipFill>
        <p:spPr>
          <a:xfrm>
            <a:off x="746280" y="2416320"/>
            <a:ext cx="8599320" cy="402084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ffff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52440" y="946080"/>
            <a:ext cx="9327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d interest rates on deposits – higher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id term will show a decrease in interest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7794720" y="4467240"/>
            <a:ext cx="2111400" cy="1670040"/>
          </a:xfrm>
          <a:prstGeom prst="ellipse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630600" y="20779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urior 3 months r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92DE-3703-4EDE-9B29-DFBC85919015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7360" y="479160"/>
            <a:ext cx="84535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w LIR development 2006 - 2009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667800" cy="5499000"/>
          </a:xfrm>
          <a:prstGeom prst="rect">
            <a:avLst/>
          </a:prstGeom>
          <a:ln w="0">
            <a:noFill/>
          </a:ln>
        </p:spPr>
      </p:pic>
      <p:cxnSp>
        <p:nvCxnSpPr>
          <p:cNvPr id="125" name="Straight Arrow Connector 10"/>
          <p:cNvCxnSpPr/>
          <p:nvPr/>
        </p:nvCxnSpPr>
        <p:spPr>
          <a:xfrm>
            <a:off x="4320720" y="3092400"/>
            <a:ext cx="330840" cy="303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8"/>
          <p:cNvSpPr/>
          <p:nvPr/>
        </p:nvSpPr>
        <p:spPr>
          <a:xfrm>
            <a:off x="870120" y="564660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60F0-0526-4E4A-A043-061C7B0A7AF4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175680"/>
            <a:ext cx="845316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version rate New LIR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08280" y="4719600"/>
          <a:ext cx="6184800" cy="1693800"/>
        </p:xfrm>
        <a:graphic>
          <a:graphicData uri="http://schemas.openxmlformats.org/drawingml/2006/table">
            <a:tbl>
              <a:tblPr/>
              <a:tblGrid>
                <a:gridCol w="2062080"/>
                <a:gridCol w="2062080"/>
                <a:gridCol w="2060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 30 April 2009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members growth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Applications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9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97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B 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190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3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1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8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  <p:pic>
        <p:nvPicPr>
          <p:cNvPr id="133" name="Chart 8" descr=""/>
          <p:cNvPicPr/>
          <p:nvPr/>
        </p:nvPicPr>
        <p:blipFill>
          <a:blip r:embed="rId2"/>
          <a:stretch/>
        </p:blipFill>
        <p:spPr>
          <a:xfrm>
            <a:off x="1096920" y="792000"/>
            <a:ext cx="7497720" cy="37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F236-26BA-4236-8698-EAC873FF4BBE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3360" y="31428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 Months New LIR growth averag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9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101160" cy="5005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1490760" y="498492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F4CB-162F-4E4E-A48D-4E63B6166B51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R Closure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6840" y="1249200"/>
            <a:ext cx="953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150 LIRs closed (30 April 2009) vs 113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of 30% but only 2% of memb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bankruptcies yet…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mergers / takeovers yet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6B5-0F04-419B-89BA-F144931D912B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p 5 countries 2001 – May 2009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08240" y="1666800"/>
            <a:ext cx="9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0404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8282160" y="893880"/>
            <a:ext cx="1022040" cy="554040"/>
          </a:xfrm>
          <a:prstGeom prst="wedgeEllipseCallout">
            <a:avLst>
              <a:gd name="adj1" fmla="val -1606"/>
              <a:gd name="adj2" fmla="val 27309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0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855720" y="6004080"/>
            <a:ext cx="79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9:09:59Z</dcterms:created>
  <dc:creator>Ripe NCC</dc:creator>
  <dc:description/>
  <cp:keywords/>
  <dc:language>en-US</dc:language>
  <cp:lastModifiedBy>Jochem de Ruig</cp:lastModifiedBy>
  <cp:lastPrinted>1904-01-01T00:00:00Z</cp:lastPrinted>
  <dcterms:modified xsi:type="dcterms:W3CDTF">2009-05-28T12:18:15Z</dcterms:modified>
  <cp:revision>786</cp:revision>
  <dc:subject/>
  <dc:title>PowerPoint Presentation</dc:title>
</cp:coreProperties>
</file>