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00BA-6346-40EE-AA10-F42C71437141}" type="slidenum">
              <a:rPr b="0" lang="en-US" sz="1000" spc="-1" strike="noStrike">
                <a:solidFill>
                  <a:srgbClr val="0000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52D-50B5-416D-B31E-30675BA0E3DC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BB1-CB8C-4E07-A4B7-3324414DF780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E9A-1164-4BD8-9FF6-108C6E6E8CDB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3720" y="692280"/>
            <a:ext cx="49323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7f"/>
                </a:solidFill>
                <a:latin typeface="Arial"/>
              </a:rPr>
              <a:t>FYI compared to Russia this shows quite a different picture with Moscow accounting for 40%+ and the other large cities accounting for another 20%</a:t>
            </a: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223-55D5-4114-A3DA-376A8F155B39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A89-BE57-4002-BC30-80670F5A11F5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EC2-FB0C-483F-BFB2-7D50EFD8DD7D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051-30D7-4276-8E2A-9DDE46A02AA6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5A0-3B9E-49A2-8B3C-5FFDDA042C9D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1F41-34A7-4CC6-96DD-A706A7B99C58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0ED-95D2-4074-89B1-AABA737A41A1}" type="slidenum">
              <a:rPr b="0" lang="en-US" sz="10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598-74D2-40FE-B84A-96AA5CEE7CD6}" type="slidenum">
              <a:rPr b="0" lang="en-US" sz="1000" spc="-1" strike="noStrike">
                <a:solidFill>
                  <a:srgbClr val="00007f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5160" y="693720"/>
            <a:ext cx="4930920" cy="3414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0B4B-A5DD-437C-A614-7FC2EE37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C9FC-18B8-4F76-BC6A-FB2603B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AFBF-3111-41CC-8069-DD45E80C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A1ED-9C2B-48F1-A02D-823CB024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EA474-12A7-40F4-9C21-BEF62122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6347C-30E8-46A5-853C-86D175E0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F2ED-12F3-432A-AB61-E21445CB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C7595-574F-49F0-9797-20162D9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FDCD5-8BFE-4B82-8190-06717677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04390-00BC-4011-9C13-945C4F1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AAE3-26B6-4CD3-BA0C-80104E5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AED3-B903-4E8D-BA5B-829AD5B2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BE7C9-81A0-4D2B-BE25-93B125F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480E9-1AD9-4CD1-8CA9-FD02F774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380DE-FEDC-4B7F-96E5-1D0282C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9FF8-9DC2-4CE5-A2A3-3019473A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480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9920" y="1168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93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480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9920" y="3949560"/>
            <a:ext cx="30999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EA3F0-E1E3-498D-88D9-6FD9846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6D9E-6AD0-4E5B-99C1-6CF832A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47FD-7FDA-4C07-81E3-D3F610A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E695-C83C-456B-8361-2110B848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8520" y="317520"/>
            <a:ext cx="845352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0845-AF4A-4C21-9444-48C2F13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4C43-20F4-4CDF-AF39-A1185B8B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120" y="3949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C37A-5F0F-48B3-BF8E-F61B6534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93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120" y="1168560"/>
            <a:ext cx="469836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9320" y="3949560"/>
            <a:ext cx="9628200" cy="253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1049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8F23-1063-4B29-BAB1-82E1F2ED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Text Box 23"/>
          <p:cNvSpPr/>
          <p:nvPr/>
        </p:nvSpPr>
        <p:spPr>
          <a:xfrm>
            <a:off x="685800" y="64008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685800" y="640080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04960" y="662796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1"/>
          <p:cNvSpPr/>
          <p:nvPr/>
        </p:nvSpPr>
        <p:spPr>
          <a:xfrm>
            <a:off x="7464600" y="6628320"/>
            <a:ext cx="190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FCBF-2F36-48A8-9554-CEAF914937D0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7551720" y="6628320"/>
            <a:ext cx="18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http://www.ripe.net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9320" y="1168560"/>
            <a:ext cx="9628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3" marL="1314360" indent="-231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AAF7-3E1D-48FE-91F5-A1926134F0E0}" type="slidenum"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65200" y="6621480"/>
            <a:ext cx="1752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Jochem de Ru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3504960" y="6629400"/>
            <a:ext cx="28954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cc"/>
                </a:solidFill>
                <a:latin typeface="Times New Roman"/>
              </a:rPr>
              <a:t>28 May 2009 / UKNOF / Shef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E037-0974-4E4C-9399-83462217FE19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3505320" y="662976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8720" y="1074600"/>
            <a:ext cx="80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Economic Crisis and effects on RIRs and RIR Registration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95200" y="2486160"/>
            <a:ext cx="751356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Autofit/>
          </a:bodyPr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Chief Financial Offic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RIPE NCC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15C7-8252-4A1A-A676-127CBD996E25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 info per 24 May 2009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198440"/>
            <a:ext cx="944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701 UK members (24 May 2009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members growth 15 (2008: 21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K applications 40 in 2009 (2008: 45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2360" y="666720"/>
          <a:ext cx="586080" cy="457200"/>
        </p:xfrm>
        <a:graphic>
          <a:graphicData uri="http://schemas.openxmlformats.org/drawingml/2006/table">
            <a:tbl>
              <a:tblPr/>
              <a:tblGrid>
                <a:gridCol w="586080"/>
              </a:tblGrid>
              <a:tr h="4597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Box 11"/>
          <p:cNvSpPr/>
          <p:nvPr/>
        </p:nvSpPr>
        <p:spPr>
          <a:xfrm>
            <a:off x="1049400" y="31687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New 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6161040" y="316224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embers per country 2009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Chart 14" descr=""/>
          <p:cNvPicPr/>
          <p:nvPr/>
        </p:nvPicPr>
        <p:blipFill>
          <a:blip r:embed="rId2"/>
          <a:stretch/>
        </p:blipFill>
        <p:spPr>
          <a:xfrm>
            <a:off x="4803840" y="3713040"/>
            <a:ext cx="5108400" cy="2297160"/>
          </a:xfrm>
          <a:prstGeom prst="rect">
            <a:avLst/>
          </a:prstGeom>
          <a:ln w="0">
            <a:noFill/>
          </a:ln>
        </p:spPr>
      </p:pic>
      <p:pic>
        <p:nvPicPr>
          <p:cNvPr id="164" name="Chart 15" descr=""/>
          <p:cNvPicPr/>
          <p:nvPr/>
        </p:nvPicPr>
        <p:blipFill>
          <a:blip r:embed="rId3"/>
          <a:stretch/>
        </p:blipFill>
        <p:spPr>
          <a:xfrm>
            <a:off x="-6480" y="3591000"/>
            <a:ext cx="49024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4FAC-210E-4600-972F-DE0388663172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mographics of LIRs in the UK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9" name="Chart 7" descr=""/>
          <p:cNvPicPr/>
          <p:nvPr/>
        </p:nvPicPr>
        <p:blipFill>
          <a:blip r:embed="rId2"/>
          <a:stretch/>
        </p:blipFill>
        <p:spPr>
          <a:xfrm>
            <a:off x="847800" y="1316160"/>
            <a:ext cx="80643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9A67-CEB8-432C-8709-6155ADD96A60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8520" y="331560"/>
            <a:ext cx="845352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usiness effects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eneral indicator of workload 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Number of requests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4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45624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8329680" y="2138400"/>
            <a:ext cx="1326960" cy="136980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025-0B4F-4D9C-8C5C-4D98DEE13F1D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ummary &amp; Conclusion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66840" y="1249200"/>
            <a:ext cx="95392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effects– impact increase income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ew LIR growth – lower because of low conversion rat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IR closures – increased but not significantl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 work load changes due to lower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ow inflation positive for RIPE NCC expen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asier recruit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521-7597-4CE3-8CD8-586D8CA1DD8E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280" y="2790720"/>
            <a:ext cx="84531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Questions ?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264D-278E-48C3-86A0-1231E2D2050A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ome effects of the Economic Crisi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66840" y="1249200"/>
            <a:ext cx="93279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ancial Crisi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in GDP     Economic A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bankruptcies/liquid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crease of infl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in unemploy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..for the first time since 1945 Electricity use worldwide will decrease estimated by 4%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ight Arrow 8"/>
          <p:cNvSpPr/>
          <p:nvPr/>
        </p:nvSpPr>
        <p:spPr>
          <a:xfrm>
            <a:off x="3753000" y="2154240"/>
            <a:ext cx="399960" cy="371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cc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ffect areas on the RIPE NCC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7920" y="1168560"/>
            <a:ext cx="9385200" cy="532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Financial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Membership development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LIR growt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LIR clos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Because of liquidation / bankrupt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ncrease in mergers for Service Fee cost efficienc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2" marL="968400" indent="-228600">
              <a:spcBef>
                <a:spcPts val="601"/>
              </a:spcBef>
              <a:spcAft>
                <a:spcPts val="99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ue to “cost saving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Business eff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Work load changes due to lower economic activit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Decrease of infla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25320" indent="-225360">
              <a:spcBef>
                <a:spcPts val="901"/>
              </a:spcBef>
              <a:spcAft>
                <a:spcPts val="150"/>
              </a:spcAft>
              <a:buClr>
                <a:srgbClr val="0000cc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crease of unemploymen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285840" indent="-285840">
              <a:spcBef>
                <a:spcPts val="1049"/>
              </a:spcBef>
              <a:spcAft>
                <a:spcPts val="176"/>
              </a:spcAft>
              <a:buClr>
                <a:srgbClr val="0000c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F569-9981-4194-B8EC-0FF7515D3D2C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235080" y="1698480"/>
            <a:ext cx="9358200" cy="2691000"/>
          </a:xfrm>
          <a:prstGeom prst="roundRect">
            <a:avLst>
              <a:gd name="adj" fmla="val 16667"/>
            </a:avLst>
          </a:prstGeom>
          <a:solidFill>
            <a:srgbClr val="0000cc">
              <a:alpha val="30000"/>
            </a:srgbClr>
          </a:solidFill>
          <a:ln w="22320">
            <a:solidFill>
              <a:srgbClr val="598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inancial effect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0340-AF40-4523-BBFC-513FE463B2DD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4" name="Content Placeholder 8" descr="LT Euribor.tiff"/>
          <p:cNvPicPr/>
          <p:nvPr/>
        </p:nvPicPr>
        <p:blipFill>
          <a:blip r:embed="rId2"/>
          <a:srcRect l="-3718" t="0" r="-3718" b="0"/>
          <a:stretch/>
        </p:blipFill>
        <p:spPr>
          <a:xfrm>
            <a:off x="746280" y="2416320"/>
            <a:ext cx="8599320" cy="402084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ffff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52440" y="946080"/>
            <a:ext cx="9327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d interest rates on deposits – higher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id term will show a decrease in interest incom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7794720" y="4467240"/>
            <a:ext cx="2111400" cy="1670040"/>
          </a:xfrm>
          <a:prstGeom prst="ellipse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630600" y="2077920"/>
            <a:ext cx="29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urior 3 months rate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9B43-FE57-48D5-8E60-BA069793F61D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7360" y="479160"/>
            <a:ext cx="84535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w LIR development 2006 - 2009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667800" cy="5499000"/>
          </a:xfrm>
          <a:prstGeom prst="rect">
            <a:avLst/>
          </a:prstGeom>
          <a:ln w="0">
            <a:noFill/>
          </a:ln>
        </p:spPr>
      </p:pic>
      <p:cxnSp>
        <p:nvCxnSpPr>
          <p:cNvPr id="125" name="Straight Arrow Connector 10"/>
          <p:cNvCxnSpPr/>
          <p:nvPr/>
        </p:nvCxnSpPr>
        <p:spPr>
          <a:xfrm>
            <a:off x="4320720" y="3092400"/>
            <a:ext cx="330840" cy="303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8"/>
          <p:cNvSpPr/>
          <p:nvPr/>
        </p:nvSpPr>
        <p:spPr>
          <a:xfrm>
            <a:off x="870120" y="564660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90CC-E018-48C7-A54C-B84ABC30EB48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175680"/>
            <a:ext cx="845316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version rate New LIR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08280" y="4719600"/>
          <a:ext cx="6184800" cy="1693800"/>
        </p:xfrm>
        <a:graphic>
          <a:graphicData uri="http://schemas.openxmlformats.org/drawingml/2006/table">
            <a:tbl>
              <a:tblPr/>
              <a:tblGrid>
                <a:gridCol w="2062080"/>
                <a:gridCol w="2062080"/>
                <a:gridCol w="2060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 30 April 2009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members growth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Applications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9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97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B 2009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190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3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218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ＭＳ Ｐゴシック"/>
                        </a:rPr>
                        <a:t>382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  <p:pic>
        <p:nvPicPr>
          <p:cNvPr id="133" name="Chart 8" descr=""/>
          <p:cNvPicPr/>
          <p:nvPr/>
        </p:nvPicPr>
        <p:blipFill>
          <a:blip r:embed="rId2"/>
          <a:stretch/>
        </p:blipFill>
        <p:spPr>
          <a:xfrm>
            <a:off x="1096920" y="792000"/>
            <a:ext cx="7497720" cy="37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DED8-376F-4201-B41E-8C56A1D841C9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3360" y="31428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 Months New LIR growth averag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90720" y="15238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9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9101160" cy="5005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1490760" y="4984920"/>
            <a:ext cx="699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7091280" y="2368440"/>
            <a:ext cx="2111400" cy="1670040"/>
          </a:xfrm>
          <a:prstGeom prst="ellipse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FD8-43A7-4DE5-A509-23B396763F52}" type="slidenum">
              <a:rPr b="0" lang="en-US" sz="9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R Closures_x0016_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6840" y="1249200"/>
            <a:ext cx="953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urrently 150 LIRs closed (30 April 2009) vs 113 in 2008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ncrease of 30% but only 2% of memb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bankruptcies yet…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spcAft>
                <a:spcPts val="1199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o no significant increase in mergers / takeovers yet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3505320" y="66283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28 May 2009 / UKNOF / Sheffield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9448920" y="6624720"/>
            <a:ext cx="457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D3DE-8FDB-4019-8D03-16743EA6022D}" type="slidenum">
              <a:rPr b="0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565200" y="66218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Jochem de Ruig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8520" y="317520"/>
            <a:ext cx="845352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UK Membership effects</a:t>
            </a:r>
            <a:br>
              <a:rPr sz="32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p 5 countries 2001 – May 2009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08240" y="1666800"/>
            <a:ext cx="9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0404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>
            <a:off x="8282160" y="893880"/>
            <a:ext cx="1022040" cy="554040"/>
          </a:xfrm>
          <a:prstGeom prst="wedgeEllipseCallout">
            <a:avLst>
              <a:gd name="adj1" fmla="val -1606"/>
              <a:gd name="adj2" fmla="val 27309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0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855720" y="6004080"/>
            <a:ext cx="79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9:09:59Z</dcterms:created>
  <dc:creator>Ripe NCC</dc:creator>
  <dc:description/>
  <cp:keywords/>
  <dc:language>en-US</dc:language>
  <cp:lastModifiedBy>Jochem de Ruig</cp:lastModifiedBy>
  <cp:lastPrinted>1904-01-01T00:00:00Z</cp:lastPrinted>
  <dcterms:modified xsi:type="dcterms:W3CDTF">2009-05-28T12:18:15Z</dcterms:modified>
  <cp:revision>786</cp:revision>
  <dc:subject/>
  <dc:title>PowerPoint Presentation</dc:title>
</cp:coreProperties>
</file>