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46D-FEE5-44AB-8FBF-02D9CD84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FB1-3485-43A3-B1A7-2D708AF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D7D-70EF-4E93-91B6-584C8D59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6DA-D22F-4C9F-8E6A-7863DCE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AC8-4EE3-4017-A22B-9185523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17D-57D6-44E0-B825-16785C0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788-7FE8-4DD0-A858-BA0166D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142-90C5-4418-9AC2-E016D577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27-D3E9-4181-8A0F-13C30BC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F9D-5C8D-48E2-8FAD-900DD51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346-F206-4B53-9972-A37EA47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90F-7498-4DBA-A946-1A357C8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AE6-8AA0-4809-8EA4-4E570D2F4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r Richard Cla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49528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KNOF5,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cto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48000" y="3212640"/>
            <a:ext cx="4248360" cy="1368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16360" y="3141720"/>
            <a:ext cx="4608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agility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ding either stage evades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previous attacks continue to b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US can attack the system in new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redulous will fail to notice Google (or iTunes) IP addresses in DNS results for wicked sites and will flood the second stage with legitimat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lueless will fail to spot local IP addresses in DNS results and construct rout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4220640"/>
            <a:ext cx="1079640" cy="360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716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78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/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MP time exceeded means no re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ST (or SYN ACK) means redirect to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n use a suitable database to get domain names, eg: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ois.webhosting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9] : [166.49.168.1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0] : [~~~.~~~.191.4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1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2] : [~~~.~~~.191.42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3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4] : [166.49.168.5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5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6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7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9] : [~~~.~~~.191.49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50] : [~~~.~~~.191.5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0   lolitaportal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2   no websites recorded in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9   samayhame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50   amateurs-worl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ime-world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ys-top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ute-virgin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yber-lolita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goldeasy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ite-sex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 and 26 more sites with similar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missing names probabl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or outdated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dodgy names 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…  BUT no IWF “endorse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It is illegal for me to check the ACTUAL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W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et Watch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 up 1996 in the UK to address problem of child pornography on Us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rates a consumer “hot-line” fo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w mainly concerned with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 a database of sites not yet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base underpins blocking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ing was considered “impossible” until BT deployed Clean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PA claim 80% of consumers covered by systems that block illegal chil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ster now wants all of (broadband) industry to be blocking by the end of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ntary except: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f it appears that we are not going to meet our target through co-operation, we will review the options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hall compreh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cently, it has become technically feasible for ISPs to block home users’ access to websites irrespective of where in the world they are host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my view, doubtful that they understand the cost, fragility or ease of evasion of these blocking systems, let alone the reverse engineering of the bloc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ent blocking system 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blocking, and oth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ing the blocking al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ing the block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nfeed and the “oracle attac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WF websit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olitical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u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tini (EU) wants Internet to be a “hostile environment” for terror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 think it’s very important to explore further possibilities of blocking websites that incite to commit terrorist a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ugs, gambling, holocaust deni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don’t overlook civil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as, defamation, copyright material, industrial secrets, home addresses of company directors, lists of MI6 ag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ee basic ways of blocking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have problems and can be ev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brid systems can be lower cost, but have some extra problem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vernment signalling that blocking of sites on IWF list to become de rig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p of a very slippery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http://www.cl.cam.ac.uk/~rnc1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D Thesis (see Chapter 7) is Tech Report #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xonomy (blocking metho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NS poi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resolve the wick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and highly sca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ackhole rout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carry the traffic to the wicked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but limits to size of ACLs/routing-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xy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serve the wicked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cost, and all traffic has to be ins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DNS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arently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SO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 root.localhost.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4010100 86400 3600 604800 360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getting it right for subdomains and for email requires some thought! Dornseif found that every German ISP he studied had made erro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blackhole rout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opping packets will (obviously) affect every website hosted at the IP addr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nce useless for geociti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act useless for huge numbers of other sites as well. Edelman study found “overblocking” a significant issue: 87.3% of com/net/org sites share IP address with at least one other; 69.9% with at least 50 others (and a continuum exists at all siz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you really want to block the “Romanian Tourist Board” websi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proxy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thod avoids overblocking (huzzah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it can have significant costs in equipment, in customer satisfaction and in network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c justifications for caching proxies continue to get w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xies often slower than going di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ching proxies obstruct many personalisation schemes for website content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different DNS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relay (often encrypts and anonymi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ode request%73 to avoid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at your spam to see this raised to an a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malformed HTTP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: multiple HOST protoco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ve site to another IP address (eas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nge port number (hard to disco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 same content on many different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pt unusually formatted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lets at client could obfuscate or encrypt so that an intermediary has no chance of using anything short of the IP address to identify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 of BT “anti-child-abuse initiat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tage (hybrid) system, BT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designs deployed by other 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stage is IP address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didate traffic for blocking is redi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 stage matches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irected traffic passes through a web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t of both worl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, but low cost because #2 is low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5:17:38Z</dcterms:created>
  <dc:creator>Richard Clayton</dc:creator>
  <dc:description/>
  <dc:language>en-US</dc:language>
  <cp:lastModifiedBy>Richard Clayton</cp:lastModifiedBy>
  <cp:lastPrinted>2004-02-03T14:52:15Z</cp:lastPrinted>
  <dcterms:modified xsi:type="dcterms:W3CDTF">2006-10-20T10:37:52Z</dcterms:modified>
  <cp:revision>29</cp:revision>
  <dc:subject/>
  <dc:title>Extrusion Detection</dc:title>
</cp:coreProperties>
</file>