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4BD-4270-4D8C-87EE-E7EF2BCD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C88-9BFE-41A5-A776-C3E71EC8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A0A-1BE7-43C0-9336-9B32AD13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4DD-8338-4B4D-AB7E-6F566378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F53-3C71-4DAB-B35E-40A39474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574-3A40-414B-BFB4-C1BF48CA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535-3641-42F5-81DE-80FE1983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93B-78E1-4DC7-B593-FE47AC12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2DC-98C4-4380-974C-850BF83B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F9C-DFAC-4384-9A3E-88D254C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EF0-9A02-4983-97AE-946339B8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2BE-63B8-4812-8A06-C6A73FE2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936B-B12B-4B0C-96E4-96431A054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ISP Content Filtering: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ethods, failures and some politic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213000"/>
            <a:ext cx="91440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r Richard Clay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52920" cy="89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49528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KNOF5, Lo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ctober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loud"/>
          <p:cNvSpPr/>
          <p:nvPr/>
        </p:nvSpPr>
        <p:spPr>
          <a:xfrm>
            <a:off x="1116000" y="2421000"/>
            <a:ext cx="4896000" cy="3281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458136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???????????????????????????????????????????????????????????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loud"/>
          <p:cNvSpPr/>
          <p:nvPr/>
        </p:nvSpPr>
        <p:spPr>
          <a:xfrm>
            <a:off x="4572000" y="1484280"/>
            <a:ext cx="6192720" cy="4392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ign of CleanF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0360" y="2276640"/>
            <a:ext cx="27907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Interne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619280" y="6093000"/>
            <a:ext cx="3779640" cy="550800"/>
            <a:chOff x="1619280" y="6093000"/>
            <a:chExt cx="3779640" cy="5508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411280" y="6093000"/>
              <a:ext cx="5400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3059280" y="6093000"/>
              <a:ext cx="5396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3635280" y="6093000"/>
              <a:ext cx="54000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29264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5"/>
            <a:stretch/>
          </p:blipFill>
          <p:spPr>
            <a:xfrm>
              <a:off x="1619280" y="6093000"/>
              <a:ext cx="5396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6"/>
            <a:stretch/>
          </p:blipFill>
          <p:spPr>
            <a:xfrm>
              <a:off x="485928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ower"/>
          <p:cNvSpPr/>
          <p:nvPr/>
        </p:nvSpPr>
        <p:spPr>
          <a:xfrm>
            <a:off x="2484360" y="3141720"/>
            <a:ext cx="360360" cy="718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 rot="19864200">
            <a:off x="611280" y="2491920"/>
            <a:ext cx="27907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T's Network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48000" y="4797360"/>
            <a:ext cx="0" cy="1152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348000" y="3212640"/>
            <a:ext cx="4248360" cy="136836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843280" y="3860640"/>
            <a:ext cx="433440" cy="720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16360" y="3141720"/>
            <a:ext cx="460836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agility of Cleanf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ding either stage evades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previous attacks continue to be 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US can attack the system in new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redulous will fail to notice Google (or iTunes) IP addresses in DNS results for wicked sites and will flood the second stage with legitimate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lueless will fail to spot local IP addresses in DNS results and construct routing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racle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 the redirection by the first stage by seeing what traffic reaches the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cp/8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ckets with TTL set to 8, see what then comes 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loud"/>
          <p:cNvSpPr/>
          <p:nvPr/>
        </p:nvSpPr>
        <p:spPr>
          <a:xfrm>
            <a:off x="1116000" y="2421000"/>
            <a:ext cx="4896000" cy="3281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58136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???????????????????????????????????????????????????????????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loud"/>
          <p:cNvSpPr/>
          <p:nvPr/>
        </p:nvSpPr>
        <p:spPr>
          <a:xfrm>
            <a:off x="4572000" y="1484280"/>
            <a:ext cx="6192720" cy="4392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racle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940360" y="2276640"/>
            <a:ext cx="27907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Interne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19280" y="6093000"/>
            <a:ext cx="3779640" cy="550800"/>
            <a:chOff x="1619280" y="6093000"/>
            <a:chExt cx="3779640" cy="5508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411280" y="6093000"/>
              <a:ext cx="5400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3059280" y="6093000"/>
              <a:ext cx="5396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3635280" y="6093000"/>
              <a:ext cx="54000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429264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1619280" y="6093000"/>
              <a:ext cx="5396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485928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ower"/>
          <p:cNvSpPr/>
          <p:nvPr/>
        </p:nvSpPr>
        <p:spPr>
          <a:xfrm>
            <a:off x="2484360" y="3141720"/>
            <a:ext cx="360360" cy="718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 rot="19864200">
            <a:off x="611280" y="2491920"/>
            <a:ext cx="27907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T's Network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48000" y="4797360"/>
            <a:ext cx="0" cy="1152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48000" y="4220640"/>
            <a:ext cx="1079640" cy="36036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43280" y="3860640"/>
            <a:ext cx="433440" cy="720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716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378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/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racle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 the redirection by the first stage by seeing what traffic reaches the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cp/8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ckets with TTL set to 8, see what then comes 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0840" indent="-476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CMP time exceeded means no re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0840" indent="-476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ST (or SYN ACK) means redirect to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n use a suitable database to get domain names, eg: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ois.webhosting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acle attack results 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38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39] : [166.49.168.1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0] : [~~~.~~~.191.40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1] : [166.49.168.13],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2] : [~~~.~~~.191.42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3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4] : [166.49.168.5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5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6] : [166.49.168.13],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7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8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9] : [~~~.~~~.191.49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50] : [~~~.~~~.191.50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acle attack result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40   lolitaportal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42   no websites recorded in th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49   samayhamed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50   amateurs-world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ime-worlds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ys-top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ute-virgins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yber-lolita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goldeasy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ite-sex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 and 26 more sites with similar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missing names probably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or outdated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dodgy names 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4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4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…  BUT no IWF “endorse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It is illegal for me to check the ACTUAL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W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et Watch Foun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 up 1996 in the UK to address problem of child pornography on Use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erates a consumer “hot-line” for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w mainly concerned with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 a database of sites not yet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base underpins blocking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ocking was considered “impossible” until BT deployed CleanF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PA claim 80% of consumers covered by systems that block illegal child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ister now wants all of (broadband) industry to be blocking by the end of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untary except: 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f it appears that we are not going to meet our target through co-operation, we will review the options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itehall compreh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ecently, it has become technically feasible for ISPs to block home users’ access to websites irrespective of where in the world they are host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my view, doubtful that they understand the cost, fragility or ease of evasion of these blocking systems, let alone the reverse engineering of the blocking l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ent blocking system tax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blocking, and othe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oiding the blocking al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acking the block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eanfeed and the “oracle attac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WF websit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olitical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u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tini (EU) wants Internet to be a “hostile environment” for terror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 think it’s very important to explore further possibilities of blocking websites that incite to commit terrorist a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ugs, gambling, holocaust deni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don’t overlook civil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as, defamation, copyright material, industrial secrets, home addresses of company directors, lists of MI6 agen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ree basic ways of blocking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have problems and can be ev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brid systems can be lower cost, but have some extra problem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vernment signalling that blocking of sites on IWF list to become de rig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p of a very slippery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ISP Content Filtering: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ethods, failures and some politic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3213000"/>
            <a:ext cx="91440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http://www.cl.cam.ac.uk/~rnc1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D Thesis (see Chapter 7) is Tech Report #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52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xonomy (blocking metho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NS poi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use to resolve the wicked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cost, and highly sca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ackhole rout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use to carry the traffic to the wicked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cost, but limits to size of ACLs/routing-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xy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use to serve the wicked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gh cost, and all traffic has to be ins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with DNS poi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arently eas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 IN SO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host. root.localhost.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04010100 86400 3600 604800 360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 IN 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7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7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getting it right for subdomains and for email requires some thought! Dornseif found that every German ISP he studied had made erro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with blackhole route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opping packets will (obviously) affect every website hosted at the IP addr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nce useless for geocitie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fact useless for huge numbers of other sites as well. Edelman study found “overblocking” a significant issue: 87.3% of com/net/org sites share IP address with at least one other; 69.9% with at least 50 others (and a continuum exists at all siz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you really want to block the “Romanian Tourist Board” websi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with proxy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thod avoids overblocking (huzzah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it can have significant costs in equipment, in customer satisfaction and in network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onomic justifications for caching proxies continue to get w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xies often slower than going dir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ching proxies obstruct many personalisation schemes for website content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voidance for cl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a different DNS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IP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a relay (often encrypts and anonymi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ode request%73 to avoid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k at your spam to see this raised to an ar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d malformed HTTP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: multiple HOST protoco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voidance for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ve site to another IP address (eas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nge port number (hard to disco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 same content on many different 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ept unusually formatted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lets at client could obfuscate or encrypt so that an intermediary has no chance of using anything short of the IP address to identify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eanF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t of BT “anti-child-abuse initiativ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stage (hybrid) system, BT, Jun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designs deployed by other I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stage is IP address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didate traffic for blocking is redir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cond stage matches 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irected traffic passes through a web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st of both worl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urate, but low cost because #2 is low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5:17:38Z</dcterms:created>
  <dc:creator>Richard Clayton</dc:creator>
  <dc:description/>
  <dc:language>en-US</dc:language>
  <cp:lastModifiedBy>Richard Clayton</cp:lastModifiedBy>
  <cp:lastPrinted>2004-02-03T14:52:15Z</cp:lastPrinted>
  <dcterms:modified xsi:type="dcterms:W3CDTF">2006-10-20T10:37:52Z</dcterms:modified>
  <cp:revision>29</cp:revision>
  <dc:subject/>
  <dc:title>Extrusion Detection</dc:title>
</cp:coreProperties>
</file>