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D9E6-D198-4AF0-8FC9-47E0C366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71DC-9E83-46D4-BE8E-21F4FE00D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00240" y="700200"/>
            <a:ext cx="4527360" cy="33955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0920" y="4349880"/>
            <a:ext cx="507384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3760" y="271080"/>
            <a:ext cx="85485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53720"/>
            <a:ext cx="27478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271080"/>
            <a:ext cx="85485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537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53720"/>
            <a:ext cx="8534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05680"/>
            <a:ext cx="9144000" cy="676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934400" y="6662880"/>
            <a:ext cx="12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C3D-1926-4658-A440-68954C08A2D5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15840" y="6662880"/>
            <a:ext cx="881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86680"/>
                <a:tab algn="r" pos="863136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Copyright © 2003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www.juniper.net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6240" y="576000"/>
            <a:ext cx="45720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78640"/>
            <a:ext cx="808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29200"/>
                <a:tab algn="ctr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Copyright © 2003 Juniper Networks, Inc. 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Proprietary and Confidential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omic Sans MS"/>
              </a:rPr>
              <a:t>www.juniper.net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5721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FB6-62AB-4A33-81AD-2057F582ACA3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7760"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image" Target="../media/image7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3000" y="-360"/>
            <a:ext cx="48765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niper CALEA(LI)/Monitoring  Solution Architec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4960" y="236844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chard Holb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holben@junipe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KNOF October, 20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92320" y="2332080"/>
            <a:ext cx="5802120" cy="352440"/>
          </a:xfrm>
          <a:prstGeom prst="rightArrow">
            <a:avLst>
              <a:gd name="adj1" fmla="val 41667"/>
              <a:gd name="adj2" fmla="val 1830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220920" y="1366920"/>
            <a:ext cx="2789280" cy="2174760"/>
          </a:xfrm>
          <a:prstGeom prst="wedgeRectCallout">
            <a:avLst>
              <a:gd name="adj1" fmla="val -96842"/>
              <a:gd name="adj2" fmla="val 8393"/>
            </a:avLst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c479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ive Monitoring: Packet F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7920" y="3794040"/>
            <a:ext cx="853128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 (B) receives packets via port mirroring or prob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2 performs load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interface is associated with a monitoring gro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ffic from the interfaces is load-shared among the PM-PICs in the monitoring gro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M PICs export flow version 5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667920" y="2763720"/>
            <a:ext cx="20948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c479d"/>
                </a:solidFill>
                <a:uFillTx/>
                <a:latin typeface="Arial"/>
              </a:rPr>
              <a:t>General Monito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479d"/>
                </a:solidFill>
                <a:latin typeface="Arial"/>
              </a:rPr>
              <a:t>Version 5 flow record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929280" y="1900080"/>
            <a:ext cx="828360" cy="736560"/>
            <a:chOff x="6929280" y="1900080"/>
            <a:chExt cx="828360" cy="73656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7259400" y="1900080"/>
              <a:ext cx="48420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6929280" y="2112840"/>
              <a:ext cx="48420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7273800" y="2336760"/>
              <a:ext cx="483840" cy="29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3749760" y="2092320"/>
            <a:ext cx="75384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894840" y="23144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479d"/>
                </a:solidFill>
                <a:latin typeface="Arial"/>
              </a:rPr>
              <a:t>IP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711680" y="1671480"/>
            <a:ext cx="1440" cy="160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13120" y="2222280"/>
            <a:ext cx="52884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77880" y="2987640"/>
            <a:ext cx="761040" cy="529920"/>
            <a:chOff x="5177880" y="2987640"/>
            <a:chExt cx="761040" cy="529920"/>
          </a:xfrm>
        </p:grpSpPr>
        <p:sp>
          <p:nvSpPr>
            <p:cNvPr id="271" name=""/>
            <p:cNvSpPr/>
            <p:nvPr/>
          </p:nvSpPr>
          <p:spPr>
            <a:xfrm>
              <a:off x="5195880" y="298764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7880" y="308448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77880" y="2457360"/>
            <a:ext cx="761040" cy="529920"/>
            <a:chOff x="5177880" y="2457360"/>
            <a:chExt cx="761040" cy="529920"/>
          </a:xfrm>
        </p:grpSpPr>
        <p:sp>
          <p:nvSpPr>
            <p:cNvPr id="274" name=""/>
            <p:cNvSpPr/>
            <p:nvPr/>
          </p:nvSpPr>
          <p:spPr>
            <a:xfrm>
              <a:off x="5195880" y="245736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77880" y="25542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177880" y="1928880"/>
            <a:ext cx="761040" cy="529920"/>
            <a:chOff x="5177880" y="1928880"/>
            <a:chExt cx="761040" cy="529920"/>
          </a:xfrm>
        </p:grpSpPr>
        <p:sp>
          <p:nvSpPr>
            <p:cNvPr id="277" name=""/>
            <p:cNvSpPr/>
            <p:nvPr/>
          </p:nvSpPr>
          <p:spPr>
            <a:xfrm>
              <a:off x="5195880" y="1928880"/>
              <a:ext cx="74304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77880" y="20257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176440" y="1397160"/>
            <a:ext cx="760320" cy="529920"/>
            <a:chOff x="5176440" y="1397160"/>
            <a:chExt cx="760320" cy="529920"/>
          </a:xfrm>
        </p:grpSpPr>
        <p:sp>
          <p:nvSpPr>
            <p:cNvPr id="280" name=""/>
            <p:cNvSpPr/>
            <p:nvPr/>
          </p:nvSpPr>
          <p:spPr>
            <a:xfrm>
              <a:off x="5194080" y="1397160"/>
              <a:ext cx="742680" cy="52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76440" y="149400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c479d"/>
                  </a:solidFill>
                  <a:latin typeface="Arial"/>
                </a:rPr>
                <a:t>M-P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V="1">
            <a:off x="4743360" y="2757240"/>
            <a:ext cx="52884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705200" y="3236760"/>
            <a:ext cx="52884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707000" y="1697040"/>
            <a:ext cx="52848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4371840" y="244008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4196520" y="106056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479d"/>
                </a:solidFill>
                <a:latin typeface="Arial"/>
              </a:rPr>
              <a:t>Router 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370160" y="100332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42960" y="1758960"/>
            <a:ext cx="1949400" cy="304920"/>
          </a:xfrm>
          <a:prstGeom prst="rightArrow">
            <a:avLst>
              <a:gd name="adj1" fmla="val 41667"/>
              <a:gd name="adj2" fmla="val 7109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446120" y="1654200"/>
            <a:ext cx="455760" cy="455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508400" y="1725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73240" y="1951200"/>
            <a:ext cx="1440" cy="63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1452600" y="2241720"/>
            <a:ext cx="455400" cy="455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00480" y="2313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321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 / E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Mirro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379160"/>
            <a:ext cx="8534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ed as of JUNOSe 5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interfaces only (static or dynamic, but no LA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bscribers can be managed unique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new IP attributes intro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rror: All traffic will be mirrored to “Analyzer” po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r: Does not support regular routed traffic and will drop all traffic entering the box via this interf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figured through C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urity via privilege levels (16) in CL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r port can be an IPSec or GRE tunnel, which ensures that mirrored data is transferred to Mediation Device without being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 and E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Mirroring on E-Se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4572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rrored traffic should be less than 5% of total traffic for a given LC or chas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403440" y="1736640"/>
            <a:ext cx="2313000" cy="1693800"/>
          </a:xfrm>
          <a:prstGeom prst="rect">
            <a:avLst/>
          </a:prstGeom>
          <a:gradFill rotWithShape="0">
            <a:gsLst>
              <a:gs pos="0">
                <a:srgbClr val="9baab8"/>
              </a:gs>
              <a:gs pos="50000">
                <a:srgbClr val="cce0f2"/>
              </a:gs>
              <a:gs pos="100000">
                <a:srgbClr val="9baa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1000" rIns="261000" tIns="130320" bIns="13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27680" y="2417760"/>
            <a:ext cx="75960" cy="380520"/>
            <a:chOff x="5827680" y="2417760"/>
            <a:chExt cx="75960" cy="380520"/>
          </a:xfrm>
        </p:grpSpPr>
        <p:sp>
          <p:nvSpPr>
            <p:cNvPr id="300" name=""/>
            <p:cNvSpPr/>
            <p:nvPr/>
          </p:nvSpPr>
          <p:spPr>
            <a:xfrm>
              <a:off x="5827680" y="241776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27680" y="2570040"/>
              <a:ext cx="75960" cy="7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7680" y="2722320"/>
              <a:ext cx="759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523880" y="2362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bscri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 Interfa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2855880" y="2514600"/>
            <a:ext cx="701640" cy="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251080"/>
            <a:ext cx="762120" cy="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17524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ttribu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051440" y="2565360"/>
            <a:ext cx="155520" cy="648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2951280"/>
            <a:ext cx="7617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856040" y="2319480"/>
            <a:ext cx="195480" cy="13320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662200"/>
            <a:ext cx="203400" cy="182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1" name=""/>
          <p:cNvCxnSpPr>
            <a:stCxn id="312" idx="5"/>
            <a:endCxn id="313" idx="0"/>
          </p:cNvCxnSpPr>
          <p:nvPr/>
        </p:nvCxnSpPr>
        <p:spPr>
          <a:xfrm flipH="1" rot="16200000">
            <a:off x="3989520" y="2704680"/>
            <a:ext cx="637200" cy="681840"/>
          </a:xfrm>
          <a:prstGeom prst="curvedConnector5">
            <a:avLst>
              <a:gd name="adj1" fmla="val 56076"/>
              <a:gd name="adj2" fmla="val 49973"/>
              <a:gd name="adj3" fmla="val 56076"/>
            </a:avLst>
          </a:prstGeom>
          <a:ln w="25560">
            <a:solidFill>
              <a:srgbClr val="0b4599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4648320" y="3376440"/>
            <a:ext cx="7920" cy="963720"/>
          </a:xfrm>
          <a:prstGeom prst="line">
            <a:avLst/>
          </a:prstGeom>
          <a:ln w="25560">
            <a:solidFill>
              <a:srgbClr val="0b45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39020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rrored packets sent to Analyzer 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6320" y="2379600"/>
            <a:ext cx="663480" cy="328680"/>
            <a:chOff x="4216320" y="2379600"/>
            <a:chExt cx="663480" cy="328680"/>
          </a:xfrm>
        </p:grpSpPr>
        <p:sp>
          <p:nvSpPr>
            <p:cNvPr id="317" name=""/>
            <p:cNvSpPr/>
            <p:nvPr/>
          </p:nvSpPr>
          <p:spPr>
            <a:xfrm>
              <a:off x="4216320" y="2407680"/>
              <a:ext cx="663480" cy="298440"/>
            </a:xfrm>
            <a:prstGeom prst="rect">
              <a:avLst/>
            </a:prstGeom>
            <a:gradFill rotWithShape="0">
              <a:gsLst>
                <a:gs pos="0">
                  <a:srgbClr val="89abd9"/>
                </a:gs>
                <a:gs pos="100000">
                  <a:srgbClr val="6882a5"/>
                </a:gs>
              </a:gsLst>
              <a:lin ang="5400000"/>
            </a:gra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130680" bIns="13068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0600" y="2379600"/>
              <a:ext cx="574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130680" bIns="13068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116240" y="2432160"/>
            <a:ext cx="8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049720" y="2657520"/>
            <a:ext cx="479520" cy="503280"/>
            <a:chOff x="5049720" y="2657520"/>
            <a:chExt cx="479520" cy="503280"/>
          </a:xfrm>
        </p:grpSpPr>
        <p:sp>
          <p:nvSpPr>
            <p:cNvPr id="321" name=""/>
            <p:cNvSpPr/>
            <p:nvPr/>
          </p:nvSpPr>
          <p:spPr>
            <a:xfrm>
              <a:off x="5068800" y="265752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49720" y="270036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049720" y="1965240"/>
            <a:ext cx="479520" cy="503280"/>
            <a:chOff x="5049720" y="1965240"/>
            <a:chExt cx="479520" cy="503280"/>
          </a:xfrm>
        </p:grpSpPr>
        <p:sp>
          <p:nvSpPr>
            <p:cNvPr id="324" name=""/>
            <p:cNvSpPr/>
            <p:nvPr/>
          </p:nvSpPr>
          <p:spPr>
            <a:xfrm>
              <a:off x="5068800" y="196524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9720" y="200808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73360" y="2290680"/>
            <a:ext cx="479520" cy="503280"/>
            <a:chOff x="3573360" y="2290680"/>
            <a:chExt cx="479520" cy="503280"/>
          </a:xfrm>
        </p:grpSpPr>
        <p:sp>
          <p:nvSpPr>
            <p:cNvPr id="327" name=""/>
            <p:cNvSpPr/>
            <p:nvPr/>
          </p:nvSpPr>
          <p:spPr>
            <a:xfrm>
              <a:off x="3592440" y="229068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dadada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3360" y="2333520"/>
              <a:ext cx="460440" cy="4604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5880" y="2286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pstre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9" name=""/>
          <p:cNvCxnSpPr>
            <a:endCxn id="330" idx="0"/>
          </p:cNvCxnSpPr>
          <p:nvPr/>
        </p:nvCxnSpPr>
        <p:spPr>
          <a:xfrm flipH="1" rot="16200000">
            <a:off x="3908160" y="2783880"/>
            <a:ext cx="637560" cy="681840"/>
          </a:xfrm>
          <a:prstGeom prst="curvedConnector5">
            <a:avLst>
              <a:gd name="adj1" fmla="val 56101"/>
              <a:gd name="adj2" fmla="val 49973"/>
              <a:gd name="adj3" fmla="val 5610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4567320" y="3456000"/>
            <a:ext cx="7920" cy="963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2590920"/>
            <a:ext cx="7016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98000"/>
            <a:ext cx="8321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olution of LI in JUN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dynamic IP and LAC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ing the concept of a “secure policy”, so LI becomes part of policy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pability of attaching CLALCs (flow-based LI)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achment of secure policy through Radius Access Response and Radius Update Request (unsolicit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for COPS (SDX), SNMPv3 and CLI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Mirrored Packet will be pre-pended wi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DP/IP header (will make mirrored packet routab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eption ID and Acct-Session-ID (allows correlation of monitored user with mirrored dat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H="1">
            <a:off x="596520" y="4952880"/>
            <a:ext cx="2971800" cy="314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433440"/>
            <a:ext cx="8534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/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 Model for Lawful Intercept (w/ Radius, DTA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243320" y="3922560"/>
            <a:ext cx="2162160" cy="1922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218000">
            <a:off x="4723920" y="3276720"/>
            <a:ext cx="1387440" cy="1636560"/>
          </a:xfrm>
          <a:custGeom>
            <a:avLst/>
            <a:gdLst/>
            <a:ahLst/>
            <a:rect l="l" t="t" r="r" b="b"/>
            <a:pathLst>
              <a:path w="1748" h="2063">
                <a:moveTo>
                  <a:pt x="249" y="2063"/>
                </a:moveTo>
                <a:lnTo>
                  <a:pt x="1748" y="217"/>
                </a:lnTo>
                <a:lnTo>
                  <a:pt x="1499" y="0"/>
                </a:lnTo>
                <a:lnTo>
                  <a:pt x="0" y="1848"/>
                </a:lnTo>
                <a:lnTo>
                  <a:pt x="249" y="2063"/>
                </a:lnTo>
                <a:close/>
              </a:path>
            </a:pathLst>
          </a:custGeom>
          <a:solidFill>
            <a:srgbClr val="ff00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248520" y="2209680"/>
            <a:ext cx="1116000" cy="1599480"/>
            <a:chOff x="6248520" y="2209680"/>
            <a:chExt cx="1116000" cy="1599480"/>
          </a:xfrm>
        </p:grpSpPr>
        <p:sp>
          <p:nvSpPr>
            <p:cNvPr id="340" name=""/>
            <p:cNvSpPr/>
            <p:nvPr/>
          </p:nvSpPr>
          <p:spPr>
            <a:xfrm>
              <a:off x="6248520" y="2209680"/>
              <a:ext cx="987480" cy="1599480"/>
            </a:xfrm>
            <a:prstGeom prst="rect">
              <a:avLst/>
            </a:prstGeom>
            <a:solidFill>
              <a:srgbClr val="f2f2f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520" y="2209680"/>
              <a:ext cx="987480" cy="1599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4852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471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471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46520" y="2217960"/>
              <a:ext cx="7452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46520" y="2217960"/>
              <a:ext cx="7452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45520" y="2217960"/>
              <a:ext cx="748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45520" y="2217960"/>
              <a:ext cx="748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459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459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44960" y="2217960"/>
              <a:ext cx="7344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4960" y="2217960"/>
              <a:ext cx="7344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3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42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42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41960" y="2331360"/>
              <a:ext cx="1936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41960" y="2331360"/>
              <a:ext cx="1936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4720" y="2461680"/>
              <a:ext cx="18000" cy="45360"/>
            </a:xfrm>
            <a:prstGeom prst="ellipse">
              <a:avLst/>
            </a:prstGeom>
            <a:solidFill>
              <a:srgbClr val="83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74720" y="2461680"/>
              <a:ext cx="18000" cy="45360"/>
            </a:xfrm>
            <a:prstGeom prst="ellipse">
              <a:avLst/>
            </a:prstGeom>
            <a:noFill/>
            <a:ln w="0">
              <a:solidFill>
                <a:srgbClr val="83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00640" y="3477600"/>
              <a:ext cx="49320" cy="1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00640" y="3477600"/>
              <a:ext cx="49320" cy="18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04240" y="3490200"/>
              <a:ext cx="43920" cy="15984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lnTo>
                    <a:pt x="29" y="76"/>
                  </a:lnTo>
                  <a:lnTo>
                    <a:pt x="48" y="53"/>
                  </a:lnTo>
                  <a:lnTo>
                    <a:pt x="48" y="1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04240" y="3490200"/>
              <a:ext cx="43920" cy="15984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76"/>
                  </a:moveTo>
                  <a:lnTo>
                    <a:pt x="29" y="76"/>
                  </a:lnTo>
                  <a:lnTo>
                    <a:pt x="48" y="53"/>
                  </a:lnTo>
                  <a:lnTo>
                    <a:pt x="48" y="1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11440" y="3608280"/>
              <a:ext cx="1476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11440" y="3608280"/>
              <a:ext cx="1476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11440" y="3511080"/>
              <a:ext cx="1476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11440" y="3511080"/>
              <a:ext cx="14760" cy="1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8000" y="3561480"/>
              <a:ext cx="14400" cy="13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28000" y="3561480"/>
              <a:ext cx="14400" cy="13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41960" y="2217960"/>
              <a:ext cx="730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41960" y="2217960"/>
              <a:ext cx="730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40600" y="2217960"/>
              <a:ext cx="74880" cy="11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40600" y="2217960"/>
              <a:ext cx="74880" cy="11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720" y="2650320"/>
              <a:ext cx="126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2720" y="2650320"/>
              <a:ext cx="126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784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4360" y="2650320"/>
              <a:ext cx="165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4360" y="2650320"/>
              <a:ext cx="165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0236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9960" y="2650320"/>
              <a:ext cx="126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49960" y="2650320"/>
              <a:ext cx="126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7600" y="2658960"/>
              <a:ext cx="3484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31600" y="2650320"/>
              <a:ext cx="165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31600" y="2650320"/>
              <a:ext cx="165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6996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15040" y="2650320"/>
              <a:ext cx="144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15040" y="2650320"/>
              <a:ext cx="144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5304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98480" y="2650320"/>
              <a:ext cx="1476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8480" y="2650320"/>
              <a:ext cx="1476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35040" y="2658960"/>
              <a:ext cx="34668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2280" y="2650320"/>
              <a:ext cx="14400" cy="4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82280" y="2650320"/>
              <a:ext cx="14400" cy="4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18120" y="2658960"/>
              <a:ext cx="351360" cy="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1199"/>
                </a:spcBef>
                <a:spcAft>
                  <a:spcPts val="300"/>
                </a:spcAft>
                <a:buClr>
                  <a:srgbClr val="f1ab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4852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852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471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471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520" y="2331360"/>
              <a:ext cx="7452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520" y="2331360"/>
              <a:ext cx="7452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2331360"/>
              <a:ext cx="748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6960" y="2331360"/>
              <a:ext cx="748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459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59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4960" y="2331360"/>
              <a:ext cx="7344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4960" y="2331360"/>
              <a:ext cx="7344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43960" y="2331360"/>
              <a:ext cx="730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43960" y="2331360"/>
              <a:ext cx="730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2960" y="2331360"/>
              <a:ext cx="73080" cy="147744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42960" y="2331360"/>
              <a:ext cx="73080" cy="1477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276800" y="4759200"/>
            <a:ext cx="204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2971800" y="320004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844800" y="4314960"/>
            <a:ext cx="104760" cy="106200"/>
          </a:xfrm>
          <a:custGeom>
            <a:avLst/>
            <a:gdLst/>
            <a:ahLst/>
            <a:rect l="l" t="t" r="r" b="b"/>
            <a:pathLst>
              <a:path w="132" h="136">
                <a:moveTo>
                  <a:pt x="64" y="0"/>
                </a:moveTo>
                <a:lnTo>
                  <a:pt x="132" y="136"/>
                </a:lnTo>
                <a:lnTo>
                  <a:pt x="0" y="7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495320" y="3581280"/>
            <a:ext cx="1752840" cy="106704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96520" y="4591080"/>
            <a:ext cx="3049560" cy="9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608280" y="4549680"/>
            <a:ext cx="79560" cy="82800"/>
          </a:xfrm>
          <a:custGeom>
            <a:avLst/>
            <a:gdLst/>
            <a:ahLst/>
            <a:rect l="l" t="t" r="r" b="b"/>
            <a:pathLst>
              <a:path w="101" h="103">
                <a:moveTo>
                  <a:pt x="0" y="52"/>
                </a:moveTo>
                <a:lnTo>
                  <a:pt x="3" y="69"/>
                </a:lnTo>
                <a:lnTo>
                  <a:pt x="12" y="85"/>
                </a:lnTo>
                <a:lnTo>
                  <a:pt x="26" y="96"/>
                </a:lnTo>
                <a:lnTo>
                  <a:pt x="41" y="103"/>
                </a:lnTo>
                <a:lnTo>
                  <a:pt x="60" y="103"/>
                </a:lnTo>
                <a:lnTo>
                  <a:pt x="76" y="96"/>
                </a:lnTo>
                <a:lnTo>
                  <a:pt x="89" y="85"/>
                </a:lnTo>
                <a:lnTo>
                  <a:pt x="98" y="69"/>
                </a:lnTo>
                <a:lnTo>
                  <a:pt x="101" y="52"/>
                </a:lnTo>
                <a:lnTo>
                  <a:pt x="98" y="34"/>
                </a:lnTo>
                <a:lnTo>
                  <a:pt x="89" y="18"/>
                </a:lnTo>
                <a:lnTo>
                  <a:pt x="76" y="7"/>
                </a:lnTo>
                <a:lnTo>
                  <a:pt x="60" y="0"/>
                </a:lnTo>
                <a:lnTo>
                  <a:pt x="41" y="0"/>
                </a:lnTo>
                <a:lnTo>
                  <a:pt x="26" y="7"/>
                </a:lnTo>
                <a:lnTo>
                  <a:pt x="12" y="18"/>
                </a:lnTo>
                <a:lnTo>
                  <a:pt x="3" y="34"/>
                </a:lnTo>
                <a:lnTo>
                  <a:pt x="0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3768840" y="4286160"/>
            <a:ext cx="960480" cy="1017720"/>
          </a:xfrm>
          <a:prstGeom prst="rect">
            <a:avLst/>
          </a:prstGeom>
          <a:ln w="0">
            <a:noFill/>
          </a:ln>
        </p:spPr>
      </p:pic>
      <p:grpSp>
        <p:nvGrpSpPr>
          <p:cNvPr id="420" name=""/>
          <p:cNvGrpSpPr/>
          <p:nvPr/>
        </p:nvGrpSpPr>
        <p:grpSpPr>
          <a:xfrm>
            <a:off x="150840" y="4295880"/>
            <a:ext cx="446040" cy="501120"/>
            <a:chOff x="150840" y="4295880"/>
            <a:chExt cx="446040" cy="501120"/>
          </a:xfrm>
        </p:grpSpPr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349200" y="429588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260280" y="440820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150840" y="451944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74520" y="5241960"/>
            <a:ext cx="446040" cy="501120"/>
            <a:chOff x="74520" y="5241960"/>
            <a:chExt cx="446040" cy="501120"/>
          </a:xfrm>
        </p:grpSpPr>
        <p:pic>
          <p:nvPicPr>
            <p:cNvPr id="425" name="" descr=""/>
            <p:cNvPicPr/>
            <p:nvPr/>
          </p:nvPicPr>
          <p:blipFill>
            <a:blip r:embed="rId6"/>
            <a:stretch/>
          </p:blipFill>
          <p:spPr>
            <a:xfrm>
              <a:off x="272880" y="52419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7"/>
            <a:stretch/>
          </p:blipFill>
          <p:spPr>
            <a:xfrm>
              <a:off x="183960" y="53542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8"/>
            <a:stretch/>
          </p:blipFill>
          <p:spPr>
            <a:xfrm>
              <a:off x="74520" y="54655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3786840" y="527364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BR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5870880" y="183204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Mediation Devi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1636560" y="356400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1: Control of LI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via Radi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971800" y="30481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3702240" y="217656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1: Control of LI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477960" y="2741760"/>
            <a:ext cx="22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I2: Data (control da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5605560" y="4068720"/>
            <a:ext cx="30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HI3: Data (Intercepted Content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2385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238520" y="3581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7704720" y="333072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3 data to 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704720" y="287352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2 data to 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5960520" y="42721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 for HI3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749160" y="4219560"/>
            <a:ext cx="2133720" cy="140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49160" y="490536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cess 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568680" y="452448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568680" y="482904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59200" y="4600080"/>
            <a:ext cx="685800" cy="1143000"/>
          </a:xfrm>
          <a:prstGeom prst="line">
            <a:avLst/>
          </a:prstGeom>
          <a:ln w="38160">
            <a:solidFill>
              <a:srgbClr val="f1a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035160" y="4981680"/>
            <a:ext cx="609840" cy="761760"/>
          </a:xfrm>
          <a:prstGeom prst="line">
            <a:avLst/>
          </a:prstGeom>
          <a:ln w="38160">
            <a:solidFill>
              <a:srgbClr val="f1a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986840" y="5697360"/>
            <a:ext cx="20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 and LAC Interfa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rror Poin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4483080" y="501336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698120" y="190800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1ab00"/>
                </a:solidFill>
                <a:latin typeface="Comic Sans MS"/>
              </a:rPr>
              <a:t>Radius Server/O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23852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7638840" y="24606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1 Warr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1371600"/>
            <a:ext cx="0" cy="2666880"/>
          </a:xfrm>
          <a:prstGeom prst="line">
            <a:avLst/>
          </a:prstGeom>
          <a:ln w="28440">
            <a:solidFill>
              <a:srgbClr val="0b45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955240" y="13762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599"/>
                </a:solidFill>
                <a:latin typeface="Comic Sans MS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7945200" y="13762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599"/>
                </a:solidFill>
                <a:latin typeface="Comic Sans MS"/>
              </a:rPr>
              <a:t>L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1752480"/>
            <a:ext cx="6096240" cy="0"/>
          </a:xfrm>
          <a:prstGeom prst="line">
            <a:avLst/>
          </a:prstGeom>
          <a:ln w="12600">
            <a:solidFill>
              <a:srgbClr val="0b45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1752480"/>
            <a:ext cx="1295280" cy="0"/>
          </a:xfrm>
          <a:prstGeom prst="line">
            <a:avLst/>
          </a:prstGeom>
          <a:ln w="12600">
            <a:solidFill>
              <a:srgbClr val="0b45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2286000" y="2286000"/>
            <a:ext cx="6094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e/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 of Secure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Policies” allow only personnel  with appropriate privilege to configure or display LI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 1: Only one action (i.e. mirror) supported in “Secure Polic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” Input and output policies for IP and L2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hment of Secure Policies through Radius in release Istanb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 and COPS support in fu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extended to be LI flow-ba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 of policy management – leverages smarts of Policy Mana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8787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ing LI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-effective scaling of today’s LI solutions are requ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monitoring routers offload existing LI content processing from mediation platfor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monitoring routers separate from production infrastructure simplifying 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base for revenue generating end-user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185920" y="3784320"/>
            <a:ext cx="268308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2228760" y="4991040"/>
            <a:ext cx="16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rot="5400000">
            <a:off x="3420720" y="185220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 flipV="1" rot="15188400">
            <a:off x="3395880" y="236700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1184040" y="30938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1184040" y="41608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8333280" y="2989800"/>
            <a:ext cx="222120" cy="92268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802040" y="2166840"/>
            <a:ext cx="3353040" cy="2171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403880" y="260352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68160" y="4618080"/>
            <a:ext cx="776520" cy="4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758960" y="3570120"/>
            <a:ext cx="3305160" cy="1013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945040" y="308124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7240680" y="262404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495760" y="346068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8238960" y="346068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406520" y="315288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1406520" y="420516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7427880" y="305424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304920" y="3251160"/>
            <a:ext cx="446040" cy="501840"/>
            <a:chOff x="304920" y="3251160"/>
            <a:chExt cx="446040" cy="501840"/>
          </a:xfrm>
        </p:grpSpPr>
        <p:pic>
          <p:nvPicPr>
            <p:cNvPr id="485" name="" descr=""/>
            <p:cNvPicPr/>
            <p:nvPr/>
          </p:nvPicPr>
          <p:blipFill>
            <a:blip r:embed="rId5"/>
            <a:stretch/>
          </p:blipFill>
          <p:spPr>
            <a:xfrm>
              <a:off x="503280" y="32511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6"/>
            <a:stretch/>
          </p:blipFill>
          <p:spPr>
            <a:xfrm>
              <a:off x="414360" y="33638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7"/>
            <a:stretch/>
          </p:blipFill>
          <p:spPr>
            <a:xfrm>
              <a:off x="304920" y="34750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"/>
          <p:cNvGrpSpPr/>
          <p:nvPr/>
        </p:nvGrpSpPr>
        <p:grpSpPr>
          <a:xfrm>
            <a:off x="304920" y="4300560"/>
            <a:ext cx="446040" cy="501120"/>
            <a:chOff x="304920" y="4300560"/>
            <a:chExt cx="446040" cy="501120"/>
          </a:xfrm>
        </p:grpSpPr>
        <p:pic>
          <p:nvPicPr>
            <p:cNvPr id="489" name="" descr=""/>
            <p:cNvPicPr/>
            <p:nvPr/>
          </p:nvPicPr>
          <p:blipFill>
            <a:blip r:embed="rId8"/>
            <a:stretch/>
          </p:blipFill>
          <p:spPr>
            <a:xfrm>
              <a:off x="503280" y="43005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9"/>
            <a:stretch/>
          </p:blipFill>
          <p:spPr>
            <a:xfrm>
              <a:off x="414360" y="44128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0"/>
            <a:stretch/>
          </p:blipFill>
          <p:spPr>
            <a:xfrm>
              <a:off x="304920" y="45241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 rot="16200000">
            <a:off x="2807640" y="4602960"/>
            <a:ext cx="620640" cy="187200"/>
          </a:xfrm>
          <a:custGeom>
            <a:avLst/>
            <a:gdLst>
              <a:gd name="textAreaLeft" fmla="*/ 96840 w 620640"/>
              <a:gd name="textAreaRight" fmla="*/ 543240 w 62064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173240" y="507996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 rot="6411600">
            <a:off x="3419280" y="135396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1184040" y="20192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1406520" y="2136600"/>
            <a:ext cx="793800" cy="79884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304920" y="2203560"/>
            <a:ext cx="446040" cy="501120"/>
            <a:chOff x="304920" y="2203560"/>
            <a:chExt cx="446040" cy="501120"/>
          </a:xfrm>
        </p:grpSpPr>
        <p:pic>
          <p:nvPicPr>
            <p:cNvPr id="498" name="" descr=""/>
            <p:cNvPicPr/>
            <p:nvPr/>
          </p:nvPicPr>
          <p:blipFill>
            <a:blip r:embed="rId12"/>
            <a:stretch/>
          </p:blipFill>
          <p:spPr>
            <a:xfrm>
              <a:off x="503280" y="22035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13"/>
            <a:stretch/>
          </p:blipFill>
          <p:spPr>
            <a:xfrm>
              <a:off x="414360" y="23158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14"/>
            <a:stretch/>
          </p:blipFill>
          <p:spPr>
            <a:xfrm>
              <a:off x="304920" y="24271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4667400" y="3054240"/>
            <a:ext cx="793440" cy="7984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5430960" y="3562200"/>
            <a:ext cx="20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6616800" y="343368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6630840" y="3548160"/>
            <a:ext cx="20016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831000" y="3676680"/>
            <a:ext cx="0" cy="1671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s To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401760" y="1108080"/>
            <a:ext cx="874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LI Mediation suppliers eg: SS8, Top Layer etc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Content Processing platforms usually proprietary hardware, admin and control on server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Scale by adding Content Processing boxe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199080" indent="-199080">
              <a:lnSpc>
                <a:spcPct val="75000"/>
              </a:lnSpc>
              <a:spcBef>
                <a:spcPts val="4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requently have limited interface support FE, limited SONET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221440" y="3808440"/>
            <a:ext cx="1228680" cy="154152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7981920" y="541188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6037200" y="53499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7502400" y="564840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6146640" y="54165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6299280" y="549756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4564080" y="4273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146320" y="3627000"/>
            <a:ext cx="268272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189160" y="4834080"/>
            <a:ext cx="169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 rot="5400000">
            <a:off x="3381120" y="169524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 flipV="1" rot="15188400">
            <a:off x="3355200" y="2207160"/>
            <a:ext cx="13464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1144440" y="29368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 rot="5400000">
            <a:off x="1144440" y="400356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8293680" y="2832840"/>
            <a:ext cx="2224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762440" y="2009880"/>
            <a:ext cx="3353040" cy="2171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363920" y="244620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628560" y="4460760"/>
            <a:ext cx="776520" cy="5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719360" y="341280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905440" y="2924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201080" y="246708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5456160" y="330372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8128080" y="330372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366920" y="299556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1366920" y="404820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7388280" y="289728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264960" y="3094200"/>
            <a:ext cx="446040" cy="501120"/>
            <a:chOff x="264960" y="3094200"/>
            <a:chExt cx="446040" cy="501120"/>
          </a:xfrm>
        </p:grpSpPr>
        <p:pic>
          <p:nvPicPr>
            <p:cNvPr id="535" name="" descr=""/>
            <p:cNvPicPr/>
            <p:nvPr/>
          </p:nvPicPr>
          <p:blipFill>
            <a:blip r:embed="rId5"/>
            <a:stretch/>
          </p:blipFill>
          <p:spPr>
            <a:xfrm>
              <a:off x="463320" y="309420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6"/>
            <a:stretch/>
          </p:blipFill>
          <p:spPr>
            <a:xfrm>
              <a:off x="374400" y="320652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7"/>
            <a:stretch/>
          </p:blipFill>
          <p:spPr>
            <a:xfrm>
              <a:off x="264960" y="331776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"/>
          <p:cNvGrpSpPr/>
          <p:nvPr/>
        </p:nvGrpSpPr>
        <p:grpSpPr>
          <a:xfrm>
            <a:off x="264960" y="4143240"/>
            <a:ext cx="446040" cy="501840"/>
            <a:chOff x="264960" y="4143240"/>
            <a:chExt cx="446040" cy="501840"/>
          </a:xfrm>
        </p:grpSpPr>
        <p:pic>
          <p:nvPicPr>
            <p:cNvPr id="539" name="" descr=""/>
            <p:cNvPicPr/>
            <p:nvPr/>
          </p:nvPicPr>
          <p:blipFill>
            <a:blip r:embed="rId8"/>
            <a:stretch/>
          </p:blipFill>
          <p:spPr>
            <a:xfrm>
              <a:off x="463320" y="414324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9"/>
            <a:stretch/>
          </p:blipFill>
          <p:spPr>
            <a:xfrm>
              <a:off x="374400" y="425592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0"/>
            <a:stretch/>
          </p:blipFill>
          <p:spPr>
            <a:xfrm>
              <a:off x="264960" y="436716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"/>
          <p:cNvSpPr/>
          <p:nvPr/>
        </p:nvSpPr>
        <p:spPr>
          <a:xfrm rot="16200000">
            <a:off x="2767680" y="4445640"/>
            <a:ext cx="620640" cy="187560"/>
          </a:xfrm>
          <a:custGeom>
            <a:avLst/>
            <a:gdLst>
              <a:gd name="textAreaLeft" fmla="*/ 96840 w 620640"/>
              <a:gd name="textAreaRight" fmla="*/ 543240 w 620640"/>
              <a:gd name="textAreaTop" fmla="*/ 46800 h 187560"/>
              <a:gd name="textAreaBottom" fmla="*/ 140760 h 187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1133640" y="492300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7942320" y="525456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997600" y="522144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 rot="6411600">
            <a:off x="3379320" y="119664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1144440" y="186192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1"/>
          <a:stretch/>
        </p:blipFill>
        <p:spPr>
          <a:xfrm>
            <a:off x="1366920" y="197964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64960" y="2046240"/>
            <a:ext cx="446040" cy="501840"/>
            <a:chOff x="264960" y="2046240"/>
            <a:chExt cx="446040" cy="501840"/>
          </a:xfrm>
        </p:grpSpPr>
        <p:pic>
          <p:nvPicPr>
            <p:cNvPr id="550" name="" descr=""/>
            <p:cNvPicPr/>
            <p:nvPr/>
          </p:nvPicPr>
          <p:blipFill>
            <a:blip r:embed="rId12"/>
            <a:stretch/>
          </p:blipFill>
          <p:spPr>
            <a:xfrm>
              <a:off x="463320" y="204624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13"/>
            <a:stretch/>
          </p:blipFill>
          <p:spPr>
            <a:xfrm>
              <a:off x="374400" y="215892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14"/>
            <a:stretch/>
          </p:blipFill>
          <p:spPr>
            <a:xfrm>
              <a:off x="264960" y="227016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3" name="" descr=""/>
          <p:cNvPicPr/>
          <p:nvPr/>
        </p:nvPicPr>
        <p:blipFill>
          <a:blip r:embed="rId15"/>
          <a:stretch/>
        </p:blipFill>
        <p:spPr>
          <a:xfrm>
            <a:off x="4627440" y="2897280"/>
            <a:ext cx="793800" cy="79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5391000" y="3405240"/>
            <a:ext cx="20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576840" y="3276720"/>
            <a:ext cx="257400" cy="257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591240" y="3390840"/>
            <a:ext cx="200160" cy="11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791400" y="351936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462800" y="549108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3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ducing Load on LI Content Process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98440" y="822240"/>
            <a:ext cx="8564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7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 M/T-Series Monitoring Router filter and reduce traffic processed by LI Content Processing Platform (less box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700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Monitoring Router Operates in “Passive Mode” and supports wider range of interfaces than LI Content Processing Platfo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7183440" y="4319640"/>
            <a:ext cx="1820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M/T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Monitoring 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5181480" y="3637080"/>
            <a:ext cx="1228680" cy="1555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6919920" y="3705120"/>
            <a:ext cx="24130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NET ≤OC-48, ATM limited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Franklin Gothic Book"/>
              </a:rPr>
              <a:t>ALL 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6886440" y="4700520"/>
            <a:ext cx="183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E/ G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Franklin Gothic Book"/>
              </a:rPr>
              <a:t>Only data of Intere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6"/>
          <a:stretch/>
        </p:blipFill>
        <p:spPr>
          <a:xfrm>
            <a:off x="6494400" y="4106880"/>
            <a:ext cx="671400" cy="6652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524480" y="411624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78787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359080" y="4873680"/>
            <a:ext cx="5572080" cy="12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185920" y="3823920"/>
            <a:ext cx="268308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2228760" y="5030640"/>
            <a:ext cx="16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4564080" y="43131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3420720" y="189216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 flipV="1" rot="15188400">
            <a:off x="3395880" y="240660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184040" y="31334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1184040" y="420048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8332920" y="3029400"/>
            <a:ext cx="222480" cy="92268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802040" y="2206800"/>
            <a:ext cx="3353040" cy="21715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403880" y="264312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668160" y="4657680"/>
            <a:ext cx="776520" cy="4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758960" y="360972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5945040" y="312120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7240680" y="2664000"/>
            <a:ext cx="121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5495760" y="350028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8167680" y="350028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406520" y="319248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1406520" y="4245120"/>
            <a:ext cx="793800" cy="7984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427880" y="309420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588" name=""/>
          <p:cNvGrpSpPr/>
          <p:nvPr/>
        </p:nvGrpSpPr>
        <p:grpSpPr>
          <a:xfrm>
            <a:off x="304920" y="3290760"/>
            <a:ext cx="446040" cy="501840"/>
            <a:chOff x="304920" y="3290760"/>
            <a:chExt cx="446040" cy="501840"/>
          </a:xfrm>
        </p:grpSpPr>
        <p:pic>
          <p:nvPicPr>
            <p:cNvPr id="589" name="" descr=""/>
            <p:cNvPicPr/>
            <p:nvPr/>
          </p:nvPicPr>
          <p:blipFill>
            <a:blip r:embed="rId5"/>
            <a:stretch/>
          </p:blipFill>
          <p:spPr>
            <a:xfrm>
              <a:off x="503280" y="32907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6"/>
            <a:stretch/>
          </p:blipFill>
          <p:spPr>
            <a:xfrm>
              <a:off x="414360" y="34034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"/>
            <a:stretch/>
          </p:blipFill>
          <p:spPr>
            <a:xfrm>
              <a:off x="304920" y="35146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304920" y="4340160"/>
            <a:ext cx="446040" cy="501840"/>
            <a:chOff x="304920" y="4340160"/>
            <a:chExt cx="446040" cy="501840"/>
          </a:xfrm>
        </p:grpSpPr>
        <p:pic>
          <p:nvPicPr>
            <p:cNvPr id="593" name="" descr=""/>
            <p:cNvPicPr/>
            <p:nvPr/>
          </p:nvPicPr>
          <p:blipFill>
            <a:blip r:embed="rId8"/>
            <a:stretch/>
          </p:blipFill>
          <p:spPr>
            <a:xfrm>
              <a:off x="503280" y="434016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9"/>
            <a:stretch/>
          </p:blipFill>
          <p:spPr>
            <a:xfrm>
              <a:off x="414360" y="445284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10"/>
            <a:stretch/>
          </p:blipFill>
          <p:spPr>
            <a:xfrm>
              <a:off x="304920" y="456408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"/>
          <p:cNvSpPr/>
          <p:nvPr/>
        </p:nvSpPr>
        <p:spPr>
          <a:xfrm rot="16200000">
            <a:off x="2807280" y="4642200"/>
            <a:ext cx="621000" cy="187200"/>
          </a:xfrm>
          <a:custGeom>
            <a:avLst/>
            <a:gdLst>
              <a:gd name="textAreaLeft" fmla="*/ 96840 w 621000"/>
              <a:gd name="textAreaRight" fmla="*/ 543600 w 621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173240" y="511956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7981920" y="545148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6037200" y="5418000"/>
            <a:ext cx="1452600" cy="49392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 rot="6411600">
            <a:off x="3419280" y="139356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1184040" y="205884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1406520" y="217656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04920" y="2243160"/>
            <a:ext cx="446040" cy="501120"/>
            <a:chOff x="304920" y="2243160"/>
            <a:chExt cx="446040" cy="501120"/>
          </a:xfrm>
        </p:grpSpPr>
        <p:pic>
          <p:nvPicPr>
            <p:cNvPr id="604" name="" descr=""/>
            <p:cNvPicPr/>
            <p:nvPr/>
          </p:nvPicPr>
          <p:blipFill>
            <a:blip r:embed="rId12"/>
            <a:stretch/>
          </p:blipFill>
          <p:spPr>
            <a:xfrm>
              <a:off x="503280" y="224316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3"/>
            <a:stretch/>
          </p:blipFill>
          <p:spPr>
            <a:xfrm>
              <a:off x="414360" y="235548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304920" y="246672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7" name="" descr=""/>
          <p:cNvPicPr/>
          <p:nvPr/>
        </p:nvPicPr>
        <p:blipFill>
          <a:blip r:embed="rId15"/>
          <a:stretch/>
        </p:blipFill>
        <p:spPr>
          <a:xfrm>
            <a:off x="4667400" y="3094200"/>
            <a:ext cx="793440" cy="79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5430960" y="3602160"/>
            <a:ext cx="2028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616800" y="347328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630840" y="3587760"/>
            <a:ext cx="200160" cy="11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6831000" y="371628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02400" y="568800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ion of LI from Production Core Rou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38040" y="1019160"/>
            <a:ext cx="8805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itoring Router is separate from core production rou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Keeps all filters and configuration related to LI separate from core production routers and removes visibility to operations staf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sed automation of filters on the Monitoring Router through SOAP/XM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5221440" y="3833640"/>
            <a:ext cx="1228680" cy="155592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245360" y="4245120"/>
            <a:ext cx="10414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ter ru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in X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8397720" y="50115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6"/>
          <a:stretch/>
        </p:blipFill>
        <p:spPr>
          <a:xfrm>
            <a:off x="6534000" y="4303800"/>
            <a:ext cx="671760" cy="6649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7"/>
          <a:stretch/>
        </p:blipFill>
        <p:spPr>
          <a:xfrm>
            <a:off x="8039160" y="4464000"/>
            <a:ext cx="787320" cy="4906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110440" y="45784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8440560" y="4940280"/>
            <a:ext cx="0" cy="471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7236000" y="4692600"/>
            <a:ext cx="799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 flipV="1">
            <a:off x="2357280" y="5014800"/>
            <a:ext cx="5586480" cy="144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441360" y="368280"/>
            <a:ext cx="8292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184480" y="3979440"/>
            <a:ext cx="2682720" cy="817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2227320" y="5186520"/>
            <a:ext cx="169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Over </a:t>
            </a:r>
            <a:br>
              <a:rPr sz="1200"/>
            </a:b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IPSEC or GRE Tunn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4562640" y="44686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plicat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3419280" y="2047680"/>
            <a:ext cx="135000" cy="337680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flipV="1" rot="15188400">
            <a:off x="3393360" y="2559600"/>
            <a:ext cx="13464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1182600" y="3289320"/>
            <a:ext cx="9072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1182600" y="435600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8331840" y="3185280"/>
            <a:ext cx="2224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352680" cy="2171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4402080" y="279864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66720" y="4813200"/>
            <a:ext cx="776160" cy="504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757520" y="3765240"/>
            <a:ext cx="3305160" cy="101268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5943600" y="327672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4599"/>
                </a:solidFill>
                <a:latin typeface="Tahoma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238880" y="281952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5494320" y="3656160"/>
            <a:ext cx="190512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8166240" y="3656160"/>
            <a:ext cx="906480" cy="0"/>
          </a:xfrm>
          <a:prstGeom prst="line">
            <a:avLst/>
          </a:prstGeom>
          <a:ln w="28440">
            <a:solidFill>
              <a:srgbClr val="ff505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405080" y="334800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405080" y="4400640"/>
            <a:ext cx="793440" cy="7984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7426440" y="3249720"/>
            <a:ext cx="793800" cy="7984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03120" y="3446640"/>
            <a:ext cx="446040" cy="501120"/>
            <a:chOff x="303120" y="3446640"/>
            <a:chExt cx="446040" cy="501120"/>
          </a:xfrm>
        </p:grpSpPr>
        <p:pic>
          <p:nvPicPr>
            <p:cNvPr id="645" name="" descr=""/>
            <p:cNvPicPr/>
            <p:nvPr/>
          </p:nvPicPr>
          <p:blipFill>
            <a:blip r:embed="rId5"/>
            <a:stretch/>
          </p:blipFill>
          <p:spPr>
            <a:xfrm>
              <a:off x="501480" y="3446640"/>
              <a:ext cx="2476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6"/>
            <a:stretch/>
          </p:blipFill>
          <p:spPr>
            <a:xfrm>
              <a:off x="412560" y="3558960"/>
              <a:ext cx="24948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7"/>
            <a:stretch/>
          </p:blipFill>
          <p:spPr>
            <a:xfrm>
              <a:off x="303120" y="3670200"/>
              <a:ext cx="2476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"/>
          <p:cNvGrpSpPr/>
          <p:nvPr/>
        </p:nvGrpSpPr>
        <p:grpSpPr>
          <a:xfrm>
            <a:off x="303120" y="4495680"/>
            <a:ext cx="446040" cy="501840"/>
            <a:chOff x="303120" y="4495680"/>
            <a:chExt cx="446040" cy="501840"/>
          </a:xfrm>
        </p:grpSpPr>
        <p:pic>
          <p:nvPicPr>
            <p:cNvPr id="649" name="" descr=""/>
            <p:cNvPicPr/>
            <p:nvPr/>
          </p:nvPicPr>
          <p:blipFill>
            <a:blip r:embed="rId8"/>
            <a:stretch/>
          </p:blipFill>
          <p:spPr>
            <a:xfrm>
              <a:off x="501480" y="449568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412560" y="460836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10"/>
            <a:stretch/>
          </p:blipFill>
          <p:spPr>
            <a:xfrm>
              <a:off x="303120" y="471960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"/>
          <p:cNvSpPr/>
          <p:nvPr/>
        </p:nvSpPr>
        <p:spPr>
          <a:xfrm rot="16200000">
            <a:off x="2805480" y="4797720"/>
            <a:ext cx="621000" cy="187200"/>
          </a:xfrm>
          <a:custGeom>
            <a:avLst/>
            <a:gdLst>
              <a:gd name="textAreaLeft" fmla="*/ 96840 w 621000"/>
              <a:gd name="textAreaRight" fmla="*/ 543600 w 621000"/>
              <a:gd name="textAreaTop" fmla="*/ 46800 h 187200"/>
              <a:gd name="textAreaBottom" fmla="*/ 140400 h 18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1ab00"/>
              </a:gs>
              <a:gs pos="100000">
                <a:srgbClr val="cf92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71440" y="527544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b4599"/>
                </a:solidFill>
                <a:latin typeface="Tahoma"/>
              </a:rPr>
              <a:t>E-Se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eplicating</a:t>
            </a:r>
            <a:br>
              <a:rPr sz="1200"/>
            </a:br>
            <a:r>
              <a:rPr b="1" lang="en-US" sz="1200" spc="-1" strike="noStrike">
                <a:solidFill>
                  <a:srgbClr val="0b4599"/>
                </a:solidFill>
                <a:latin typeface="Tahom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7980480" y="5607000"/>
            <a:ext cx="987480" cy="45396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I Conso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6035760" y="5573880"/>
            <a:ext cx="1452600" cy="493560"/>
          </a:xfrm>
          <a:prstGeom prst="bevel">
            <a:avLst>
              <a:gd name="adj" fmla="val 4745"/>
            </a:avLst>
          </a:prstGeom>
          <a:solidFill>
            <a:srgbClr val="9d0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LI Conten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 rot="6411600">
            <a:off x="3417480" y="1549080"/>
            <a:ext cx="135000" cy="3376440"/>
          </a:xfrm>
          <a:prstGeom prst="can">
            <a:avLst>
              <a:gd name="adj" fmla="val 0"/>
            </a:avLst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1182600" y="2214360"/>
            <a:ext cx="9036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1"/>
          <a:stretch/>
        </p:blipFill>
        <p:spPr>
          <a:xfrm>
            <a:off x="1405080" y="2332080"/>
            <a:ext cx="793440" cy="79848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303120" y="2398680"/>
            <a:ext cx="446040" cy="501840"/>
            <a:chOff x="303120" y="2398680"/>
            <a:chExt cx="446040" cy="501840"/>
          </a:xfrm>
        </p:grpSpPr>
        <p:pic>
          <p:nvPicPr>
            <p:cNvPr id="660" name="" descr=""/>
            <p:cNvPicPr/>
            <p:nvPr/>
          </p:nvPicPr>
          <p:blipFill>
            <a:blip r:embed="rId12"/>
            <a:stretch/>
          </p:blipFill>
          <p:spPr>
            <a:xfrm>
              <a:off x="501480" y="2398680"/>
              <a:ext cx="2476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13"/>
            <a:stretch/>
          </p:blipFill>
          <p:spPr>
            <a:xfrm>
              <a:off x="412560" y="2511360"/>
              <a:ext cx="2494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14"/>
            <a:stretch/>
          </p:blipFill>
          <p:spPr>
            <a:xfrm>
              <a:off x="303120" y="2622600"/>
              <a:ext cx="247680" cy="27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3" name="" descr=""/>
          <p:cNvPicPr/>
          <p:nvPr/>
        </p:nvPicPr>
        <p:blipFill>
          <a:blip r:embed="rId15"/>
          <a:stretch/>
        </p:blipFill>
        <p:spPr>
          <a:xfrm>
            <a:off x="4665600" y="3249720"/>
            <a:ext cx="793800" cy="79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5429160" y="3757680"/>
            <a:ext cx="20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615000" y="3629160"/>
            <a:ext cx="257400" cy="257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6629400" y="3743280"/>
            <a:ext cx="200160" cy="114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6829560" y="3871800"/>
            <a:ext cx="0" cy="171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7500960" y="5843520"/>
            <a:ext cx="4572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ing LI Invest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338040" y="939960"/>
            <a:ext cx="88059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itoring Services PIC added to Monitoring Rout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Flow records created for all traffic or a sample eg only business monitoring servi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ffline analysis of JFlow Records for Security anomaly detection, Traffic engineering and Capacity planning, Accou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5219640" y="3989520"/>
            <a:ext cx="1228680" cy="1555560"/>
          </a:xfrm>
          <a:prstGeom prst="line">
            <a:avLst/>
          </a:prstGeom>
          <a:ln w="28440">
            <a:solidFill>
              <a:srgbClr val="9d002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7115040" y="4229280"/>
            <a:ext cx="167004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ilter rul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x ≤100% of traff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8396280" y="51674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OA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6"/>
          <a:stretch/>
        </p:blipFill>
        <p:spPr>
          <a:xfrm>
            <a:off x="6532560" y="4459320"/>
            <a:ext cx="671400" cy="6652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7"/>
          <a:stretch/>
        </p:blipFill>
        <p:spPr>
          <a:xfrm>
            <a:off x="8037360" y="4619520"/>
            <a:ext cx="787680" cy="4906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8108640" y="47340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8439120" y="5095800"/>
            <a:ext cx="0" cy="4716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34200" y="4848120"/>
            <a:ext cx="800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2228760" y="4071960"/>
            <a:ext cx="6815160" cy="2100240"/>
          </a:xfrm>
          <a:custGeom>
            <a:avLst/>
            <a:gdLst/>
            <a:ahLst/>
            <a:rect l="l" t="t" r="r" b="b"/>
            <a:pathLst>
              <a:path w="4293" h="1323">
                <a:moveTo>
                  <a:pt x="0" y="531"/>
                </a:moveTo>
                <a:lnTo>
                  <a:pt x="585" y="288"/>
                </a:lnTo>
                <a:lnTo>
                  <a:pt x="1908" y="0"/>
                </a:lnTo>
                <a:lnTo>
                  <a:pt x="2178" y="171"/>
                </a:lnTo>
                <a:lnTo>
                  <a:pt x="2754" y="594"/>
                </a:lnTo>
                <a:lnTo>
                  <a:pt x="2916" y="675"/>
                </a:lnTo>
                <a:cubicBezTo>
                  <a:pt x="3011" y="668"/>
                  <a:pt x="3029" y="700"/>
                  <a:pt x="3060" y="639"/>
                </a:cubicBezTo>
                <a:cubicBezTo>
                  <a:pt x="3064" y="631"/>
                  <a:pt x="2902" y="678"/>
                  <a:pt x="3069" y="612"/>
                </a:cubicBezTo>
                <a:lnTo>
                  <a:pt x="3114" y="558"/>
                </a:lnTo>
                <a:lnTo>
                  <a:pt x="3654" y="558"/>
                </a:lnTo>
                <a:lnTo>
                  <a:pt x="3780" y="666"/>
                </a:lnTo>
                <a:lnTo>
                  <a:pt x="4158" y="630"/>
                </a:lnTo>
                <a:lnTo>
                  <a:pt x="4293" y="1035"/>
                </a:lnTo>
                <a:lnTo>
                  <a:pt x="4266" y="1323"/>
                </a:lnTo>
                <a:lnTo>
                  <a:pt x="45" y="1314"/>
                </a:lnTo>
                <a:lnTo>
                  <a:pt x="0" y="531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8"/>
          <a:stretch/>
        </p:blipFill>
        <p:spPr>
          <a:xfrm>
            <a:off x="5780160" y="4616280"/>
            <a:ext cx="658800" cy="40824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4614840" y="44578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Monitoring Services PI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6815160" y="512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6810480" y="51958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JFlow records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7277040" y="5805360"/>
            <a:ext cx="154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Offline analys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9"/>
          <a:stretch/>
        </p:blipFill>
        <p:spPr>
          <a:xfrm>
            <a:off x="6408720" y="5662440"/>
            <a:ext cx="787320" cy="490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172120" y="4929120"/>
            <a:ext cx="1343160" cy="144360"/>
          </a:xfrm>
          <a:custGeom>
            <a:avLst/>
            <a:gdLst/>
            <a:ahLst/>
            <a:rect l="l" t="t" r="r" b="b"/>
            <a:pathLst>
              <a:path w="846" h="91">
                <a:moveTo>
                  <a:pt x="0" y="0"/>
                </a:moveTo>
                <a:cubicBezTo>
                  <a:pt x="195" y="44"/>
                  <a:pt x="390" y="89"/>
                  <a:pt x="531" y="90"/>
                </a:cubicBezTo>
                <a:cubicBezTo>
                  <a:pt x="672" y="91"/>
                  <a:pt x="759" y="50"/>
                  <a:pt x="846" y="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nipers M/T/E, JUNOS and JUNOSe solutions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ovide the basis for flexible and powerful monitoring and LI sol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Integrated solution portfolio provides both operational choice and capital ef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ffectively meet the needs of Lawful Intercept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lect, Replicate, Analyze and Distrib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Juniper Networks provides a solution that is available</a:t>
            </a:r>
            <a:r>
              <a:rPr b="0" i="1" lang="en-CA" sz="2400" spc="-1" strike="noStrike">
                <a:solidFill>
                  <a:srgbClr val="0b4599"/>
                </a:solidFill>
                <a:latin typeface="Comic Sans M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CA" sz="2400" spc="-1" strike="noStrike">
                <a:solidFill>
                  <a:srgbClr val="0b4599"/>
                </a:solidFill>
                <a:latin typeface="Comic Sans MS"/>
              </a:rPr>
              <a:t>is deployed today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36320" y="3404880"/>
            <a:ext cx="4722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hanks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1720800" y="4572000"/>
            <a:ext cx="5702400" cy="13208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1752480" y="4572000"/>
            <a:ext cx="5615280" cy="13651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2311560" y="1295280"/>
            <a:ext cx="452088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4880" y="8218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 - Communications Assistance for Law Enforcement Act (CALEA) passed gives LEAs the authority for surveill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1 - Patriot’s act expands power of LEAs to intercept IP-based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5 - FCC requirements extend govt reach on LI support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rder requires that organizations like universities providing Internet access also comply with the law by spring 200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potential legi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7800" indent="-217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2440" indent="-205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5 - Canada’s "Modernization of Investigative Techniques Act" (MITA) Legislative Propo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 passage in 2006 with support required by spring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60" y="0"/>
            <a:ext cx="854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4880" y="8218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 2005 - European Union committee agreed that details of all EU-wide phone calls &amp; Internet use should be stored, but steps did not go as far as some members want in battle against terrorism/ cri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ropean Telecommunications Standards Institute (ETS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ping to drive standards that may also be adopted in As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4640" indent="-2246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sia there's a wide range of legislation (or lack of) and pract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9 - The Japanese parliament passed legislation. Law has been in effect since August 1, 200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79 - Telecommunications Intercept Act in Australia and upd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9360" indent="-2120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4 – Draft document on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nterception capabilities that will be provided by the carrier or carriage service provider (CCSP) to meet Govt Agencies requirements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 rot="18000000">
            <a:off x="2621160" y="4559400"/>
            <a:ext cx="58680" cy="148896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760" y="27108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of LI Worldwide 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legislation for LI yet except for Germany, UK and Netherla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U directives on cyber crime provide legal basis for interce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ry country expected to have its own law to comply with EU direct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66640" indent="-2188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SI driving standards (see ETSI model below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81280" y="4537080"/>
            <a:ext cx="919080" cy="561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5400000">
            <a:off x="1041120" y="3033720"/>
            <a:ext cx="59040" cy="151920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569880" y="4753080"/>
            <a:ext cx="71280" cy="9223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2743200" cy="234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00800" y="5867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aw Enforcement Ag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119480"/>
            <a:ext cx="32004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ss Networ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492200" y="3614760"/>
            <a:ext cx="793800" cy="6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38080" y="4416480"/>
            <a:ext cx="793800" cy="6238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7480" y="3583080"/>
            <a:ext cx="446040" cy="392040"/>
            <a:chOff x="87480" y="3583080"/>
            <a:chExt cx="446040" cy="39204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285840" y="3583080"/>
              <a:ext cx="2476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196920" y="3670920"/>
              <a:ext cx="24948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87480" y="3758040"/>
              <a:ext cx="24768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76320" y="5427720"/>
            <a:ext cx="446040" cy="392040"/>
            <a:chOff x="76320" y="5427720"/>
            <a:chExt cx="446040" cy="392040"/>
          </a:xfrm>
        </p:grpSpPr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274680" y="5427720"/>
              <a:ext cx="2476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185760" y="5515560"/>
              <a:ext cx="24948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76320" y="5602680"/>
              <a:ext cx="247680" cy="21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400800" y="3200400"/>
            <a:ext cx="0" cy="3222720"/>
          </a:xfrm>
          <a:prstGeom prst="line">
            <a:avLst/>
          </a:prstGeom>
          <a:ln w="57240">
            <a:solidFill>
              <a:srgbClr val="f1ab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50440" y="59119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197160" y="39402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73480" y="3524400"/>
            <a:ext cx="1517400" cy="714240"/>
            <a:chOff x="3273480" y="3524400"/>
            <a:chExt cx="1517400" cy="714240"/>
          </a:xfrm>
        </p:grpSpPr>
        <p:sp>
          <p:nvSpPr>
            <p:cNvPr id="121" name=""/>
            <p:cNvSpPr/>
            <p:nvPr/>
          </p:nvSpPr>
          <p:spPr>
            <a:xfrm>
              <a:off x="3273480" y="3524400"/>
              <a:ext cx="1451520" cy="714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5240" y="3704040"/>
              <a:ext cx="1385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ranklin Gothic Book"/>
                </a:rPr>
                <a:t>Administration syste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 rot="16200000">
            <a:off x="2900880" y="3567240"/>
            <a:ext cx="58680" cy="68580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273480" y="4416480"/>
            <a:ext cx="1450800" cy="71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3273480" y="4489560"/>
            <a:ext cx="16765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Intercept Related Mediation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flipV="1" rot="16200000">
            <a:off x="3090240" y="4590720"/>
            <a:ext cx="60480" cy="304920"/>
          </a:xfrm>
          <a:prstGeom prst="can">
            <a:avLst>
              <a:gd name="adj" fmla="val 134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3480" y="5334120"/>
            <a:ext cx="1450800" cy="71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73480" y="5473800"/>
            <a:ext cx="1828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Content Mediation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505320"/>
            <a:ext cx="1905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1: Warrant Related In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454640"/>
            <a:ext cx="2286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2: Intercept Related In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33412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HI3: Content of 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308720" y="3429000"/>
            <a:ext cx="15303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76600"/>
            <a:ext cx="1360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LEA Monitoring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723920" y="388620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487692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723920" y="571500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21" idx="2"/>
            <a:endCxn id="124" idx="0"/>
          </p:cNvCxnSpPr>
          <p:nvPr/>
        </p:nvCxnSpPr>
        <p:spPr>
          <a:xfrm>
            <a:off x="3998520" y="4238640"/>
            <a:ext cx="1080" cy="178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2"/>
            <a:endCxn id="127" idx="0"/>
          </p:cNvCxnSpPr>
          <p:nvPr/>
        </p:nvCxnSpPr>
        <p:spPr>
          <a:xfrm>
            <a:off x="3998520" y="5130360"/>
            <a:ext cx="1080" cy="204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000" y="205920"/>
            <a:ext cx="854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tate of LI Worldw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uniper Core, Edge and Access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Leveraging LI Ne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1840" indent="-23184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8787"/>
                </a:solidFill>
                <a:latin typeface="Comic Sans M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" y="920880"/>
            <a:ext cx="7657920" cy="0"/>
          </a:xfrm>
          <a:prstGeom prst="line">
            <a:avLst/>
          </a:prstGeom>
          <a:ln w="4428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1711440" y="3141720"/>
            <a:ext cx="752400" cy="0"/>
          </a:xfrm>
          <a:prstGeom prst="line">
            <a:avLst/>
          </a:prstGeom>
          <a:ln w="158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060800" y="2716200"/>
            <a:ext cx="0" cy="262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93560" y="1001880"/>
            <a:ext cx="8244000" cy="2905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8359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and Lawful Intercept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92200" y="3402000"/>
            <a:ext cx="6400800" cy="1174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1628640" y="4095720"/>
            <a:ext cx="522144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655640" y="2859120"/>
            <a:ext cx="8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JFlo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65800" y="5613480"/>
            <a:ext cx="555480" cy="345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390760" y="2857680"/>
            <a:ext cx="614520" cy="609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47960" y="3668760"/>
            <a:ext cx="152568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Two Rx Interfac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used per fibr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168880" y="5500800"/>
            <a:ext cx="555480" cy="345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16640" y="4108320"/>
            <a:ext cx="1365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863720" y="5248440"/>
            <a:ext cx="318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flow records of a smaller percentage of traffic for offline analysis eg. a security service to identify anomalies or advanced accounting.  M- and E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400480" y="2981160"/>
            <a:ext cx="658800" cy="408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7116840" y="3532320"/>
            <a:ext cx="1440" cy="4204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640240" y="4862520"/>
            <a:ext cx="246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Active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Production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12760"/>
            <a:ext cx="28656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Overlay Passive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563920" y="3933720"/>
            <a:ext cx="25704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54200" y="3929040"/>
            <a:ext cx="195480" cy="176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698200" y="3468600"/>
            <a:ext cx="42840" cy="47160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459400" y="4309920"/>
            <a:ext cx="0" cy="1046160"/>
          </a:xfrm>
          <a:prstGeom prst="line">
            <a:avLst/>
          </a:prstGeom>
          <a:ln w="158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794120" y="4518000"/>
            <a:ext cx="8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ranklin Gothic Book"/>
              </a:rPr>
              <a:t>JFlow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853320" y="3778200"/>
            <a:ext cx="576360" cy="579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7137360" y="3868560"/>
            <a:ext cx="12600" cy="20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927840" y="4073400"/>
            <a:ext cx="40968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083120" y="2006640"/>
            <a:ext cx="936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611520" y="1886040"/>
            <a:ext cx="944640" cy="18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670200" y="1870200"/>
            <a:ext cx="901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Mediatio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610080" y="2139840"/>
            <a:ext cx="947520" cy="21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11520" y="2422440"/>
            <a:ext cx="94608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716280" y="2149560"/>
            <a:ext cx="717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660840" y="2390760"/>
            <a:ext cx="90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ent Process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548240" y="2592360"/>
            <a:ext cx="404640" cy="144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7294680" y="4127400"/>
            <a:ext cx="90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anklin Gothic Book"/>
              </a:rPr>
              <a:t>Port Mirr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533400" y="1131840"/>
            <a:ext cx="28216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Lawful Intercept</a:t>
            </a:r>
            <a:br>
              <a:rPr sz="2400"/>
            </a:b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Overlay Passive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3360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summarized flow records of a high volume (100%) of traffic for offline analysis eg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curity service based on anomaly detection or advanced accounting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1068480" y="2949480"/>
            <a:ext cx="555480" cy="346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871560" y="2836800"/>
            <a:ext cx="555480" cy="345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60800" y="5594400"/>
            <a:ext cx="13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low Ana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882960" y="3952800"/>
            <a:ext cx="257400" cy="2574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97360" y="3978360"/>
            <a:ext cx="171360" cy="13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017240" y="3081240"/>
            <a:ext cx="42840" cy="893880"/>
          </a:xfrm>
          <a:custGeom>
            <a:avLst/>
            <a:gdLst/>
            <a:ahLst/>
            <a:rect l="l" t="t" r="r" b="b"/>
            <a:pathLst>
              <a:path w="1" h="699">
                <a:moveTo>
                  <a:pt x="0" y="699"/>
                </a:moveTo>
                <a:lnTo>
                  <a:pt x="0" y="0"/>
                </a:lnTo>
              </a:path>
            </a:pathLst>
          </a:custGeom>
          <a:solidFill>
            <a:srgbClr val="ff3300"/>
          </a:solidFill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3803760" y="2909880"/>
            <a:ext cx="517320" cy="52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1360" y="2946240"/>
            <a:ext cx="120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Flow Analys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737240" y="1501920"/>
            <a:ext cx="410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router filters IP addresses under surveillance.  Forwards packets to Third Party content processing platform which extracts data authorized for agenc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 often preferred by core team. M-, T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375240" y="4776840"/>
            <a:ext cx="2783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production router filters IP addresses under surveillance and port mirrors them to a Third Party content processing platform which extracts data authorized for agency. LI approach preferred at edge. M- and E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007480" y="2709720"/>
            <a:ext cx="5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7147080" y="3546360"/>
            <a:ext cx="18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Franklin Gothic Book"/>
              </a:rPr>
              <a:t>Only Intercepted I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951680" y="323064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Franklin Gothic Book"/>
              </a:rPr>
              <a:t>App da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566120" y="2817720"/>
            <a:ext cx="40464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7612200" y="3068640"/>
            <a:ext cx="404640" cy="1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7599240" y="3386160"/>
            <a:ext cx="405000" cy="144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6311520" y="4387680"/>
            <a:ext cx="2405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Franklin Gothic Book"/>
              </a:rPr>
              <a:t>Lawful Intercept</a:t>
            </a:r>
            <a:br>
              <a:rPr sz="2400"/>
            </a:br>
            <a:r>
              <a:rPr b="1" lang="en-US" sz="1400" spc="-1" strike="noStrike">
                <a:solidFill>
                  <a:srgbClr val="003399"/>
                </a:solidFill>
                <a:latin typeface="Franklin Gothic Book"/>
              </a:rPr>
              <a:t>using Production route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7115040" y="2828880"/>
            <a:ext cx="9720" cy="444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643800" y="2708280"/>
            <a:ext cx="944280" cy="18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702480" y="2692440"/>
            <a:ext cx="901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Mediatio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642000" y="2962440"/>
            <a:ext cx="947880" cy="212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643800" y="3244680"/>
            <a:ext cx="946080" cy="306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748560" y="2971800"/>
            <a:ext cx="717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692760" y="3213000"/>
            <a:ext cx="90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anklin Gothic Book"/>
              </a:rPr>
              <a:t>Content Processin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54320" y="3047760"/>
            <a:ext cx="12960" cy="20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254480" y="2997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anklin Gothic Book"/>
              </a:rPr>
              <a:t>Filter forwa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05000" y="2666880"/>
            <a:ext cx="2239920" cy="990720"/>
            <a:chOff x="2205000" y="2666880"/>
            <a:chExt cx="2239920" cy="990720"/>
          </a:xfrm>
        </p:grpSpPr>
        <p:sp>
          <p:nvSpPr>
            <p:cNvPr id="205" name=""/>
            <p:cNvSpPr/>
            <p:nvPr/>
          </p:nvSpPr>
          <p:spPr>
            <a:xfrm>
              <a:off x="2205000" y="2666880"/>
              <a:ext cx="2239920" cy="990720"/>
            </a:xfrm>
            <a:prstGeom prst="ellipse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40040" y="271476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one rou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976640" y="3597120"/>
            <a:ext cx="2590920" cy="882720"/>
            <a:chOff x="4976640" y="3597120"/>
            <a:chExt cx="2590920" cy="882720"/>
          </a:xfrm>
        </p:grpSpPr>
        <p:sp>
          <p:nvSpPr>
            <p:cNvPr id="208" name=""/>
            <p:cNvSpPr/>
            <p:nvPr/>
          </p:nvSpPr>
          <p:spPr>
            <a:xfrm>
              <a:off x="5623560" y="3643200"/>
              <a:ext cx="1422720" cy="276480"/>
            </a:xfrm>
            <a:prstGeom prst="rect">
              <a:avLst/>
            </a:prstGeom>
            <a:solidFill>
              <a:srgbClr val="f8f8f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y be one router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6640" y="3597120"/>
              <a:ext cx="2590920" cy="882720"/>
            </a:xfrm>
            <a:prstGeom prst="ellipse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205240" y="3774960"/>
            <a:ext cx="576360" cy="579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53040" y="3840120"/>
            <a:ext cx="65880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67360" y="2733840"/>
            <a:ext cx="18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Only Intercepted IP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ctive Monitor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1440" y="3684600"/>
            <a:ext cx="38926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(A) forwards packets and exports flow rec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performs routing, forwarding, and exporting of f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s ingress or egress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1280" y="1824120"/>
            <a:ext cx="2993400" cy="1450800"/>
            <a:chOff x="611280" y="1824120"/>
            <a:chExt cx="2993400" cy="14508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365120" y="1824120"/>
              <a:ext cx="22395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1280" y="2639880"/>
              <a:ext cx="1949040" cy="304560"/>
            </a:xfrm>
            <a:prstGeom prst="rightArrow">
              <a:avLst>
                <a:gd name="adj1" fmla="val 41667"/>
                <a:gd name="adj2" fmla="val 7116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1320480" y="2546280"/>
              <a:ext cx="4554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flipV="1">
              <a:off x="1339560" y="2714400"/>
              <a:ext cx="464760" cy="452160"/>
            </a:xfrm>
            <a:custGeom>
              <a:avLst/>
              <a:gdLst>
                <a:gd name="textAreaLeft" fmla="*/ 185760 w 464760"/>
                <a:gd name="textAreaRight" fmla="*/ 378720 w 464760"/>
                <a:gd name="textAreaTop" fmla="*/ 290880 h 452160"/>
                <a:gd name="textAreaBottom" fmla="*/ 36900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76"/>
                  </a:moveTo>
                  <a:lnTo>
                    <a:pt x="13876" y="17876"/>
                  </a:lnTo>
                  <a:lnTo>
                    <a:pt x="13876" y="8640"/>
                  </a:lnTo>
                  <a:lnTo>
                    <a:pt x="9876" y="8640"/>
                  </a:lnTo>
                  <a:lnTo>
                    <a:pt x="15738" y="0"/>
                  </a:lnTo>
                  <a:lnTo>
                    <a:pt x="21600" y="8640"/>
                  </a:lnTo>
                  <a:lnTo>
                    <a:pt x="17600" y="8640"/>
                  </a:lnTo>
                  <a:lnTo>
                    <a:pt x="17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08560" y="181620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52920" y="2354400"/>
            <a:ext cx="1949400" cy="304560"/>
          </a:xfrm>
          <a:prstGeom prst="rightArrow">
            <a:avLst>
              <a:gd name="adj1" fmla="val 41667"/>
              <a:gd name="adj2" fmla="val 711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356080" y="224964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5400000">
            <a:off x="4871880" y="2654280"/>
            <a:ext cx="663480" cy="412560"/>
          </a:xfrm>
          <a:custGeom>
            <a:avLst/>
            <a:gdLst>
              <a:gd name="textAreaLeft" fmla="*/ 201600 w 663480"/>
              <a:gd name="textAreaRight" fmla="*/ 554040 w 663480"/>
              <a:gd name="textAreaTop" fmla="*/ 257760 h 412560"/>
              <a:gd name="textAreaBottom" fmla="*/ 34452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7053"/>
                </a:moveTo>
                <a:lnTo>
                  <a:pt x="13487" y="17053"/>
                </a:lnTo>
                <a:lnTo>
                  <a:pt x="13487" y="6563"/>
                </a:lnTo>
                <a:lnTo>
                  <a:pt x="9921" y="6563"/>
                </a:lnTo>
                <a:lnTo>
                  <a:pt x="15761" y="0"/>
                </a:lnTo>
                <a:lnTo>
                  <a:pt x="21600" y="6563"/>
                </a:lnTo>
                <a:lnTo>
                  <a:pt x="18034" y="6563"/>
                </a:lnTo>
                <a:lnTo>
                  <a:pt x="180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40880" y="14130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Act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389560" y="278604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03920" y="31273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2865600"/>
            <a:ext cx="465120" cy="304560"/>
          </a:xfrm>
          <a:prstGeom prst="rightArrow">
            <a:avLst>
              <a:gd name="adj1" fmla="val 41667"/>
              <a:gd name="adj2" fmla="val 3856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6213960" y="30812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4709880" y="1444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Pass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514680"/>
            <a:ext cx="389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forward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B) performs passive monitoring and exports flow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uter (B) does not participate in the control or data plane of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s multiple OC3, OC12, OC48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542484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418360" y="232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373400" y="26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219320"/>
            <a:ext cx="4114800" cy="48765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674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OS/M/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Passive Monitor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1440" y="3684600"/>
            <a:ext cx="38926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(A) forwards packets and exports flow rec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performs routing, forwarding, and exporting of fl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s ingress or egress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1280" y="1824120"/>
            <a:ext cx="2993400" cy="1450800"/>
            <a:chOff x="611280" y="1824120"/>
            <a:chExt cx="2993400" cy="14508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1365120" y="1824120"/>
              <a:ext cx="223956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1280" y="2639880"/>
              <a:ext cx="1949040" cy="304560"/>
            </a:xfrm>
            <a:prstGeom prst="rightArrow">
              <a:avLst>
                <a:gd name="adj1" fmla="val 41667"/>
                <a:gd name="adj2" fmla="val 71165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1320480" y="2546280"/>
              <a:ext cx="455400" cy="45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flipV="1">
              <a:off x="1339560" y="2714400"/>
              <a:ext cx="464760" cy="452160"/>
            </a:xfrm>
            <a:custGeom>
              <a:avLst/>
              <a:gdLst>
                <a:gd name="textAreaLeft" fmla="*/ 185760 w 464760"/>
                <a:gd name="textAreaRight" fmla="*/ 378720 w 464760"/>
                <a:gd name="textAreaTop" fmla="*/ 290880 h 452160"/>
                <a:gd name="textAreaBottom" fmla="*/ 36900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76"/>
                  </a:moveTo>
                  <a:lnTo>
                    <a:pt x="13876" y="17876"/>
                  </a:lnTo>
                  <a:lnTo>
                    <a:pt x="13876" y="8640"/>
                  </a:lnTo>
                  <a:lnTo>
                    <a:pt x="9876" y="8640"/>
                  </a:lnTo>
                  <a:lnTo>
                    <a:pt x="15738" y="0"/>
                  </a:lnTo>
                  <a:lnTo>
                    <a:pt x="21600" y="8640"/>
                  </a:lnTo>
                  <a:lnTo>
                    <a:pt x="17600" y="8640"/>
                  </a:lnTo>
                  <a:lnTo>
                    <a:pt x="17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308560" y="1816200"/>
            <a:ext cx="2239920" cy="1450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52920" y="2354400"/>
            <a:ext cx="1949400" cy="304560"/>
          </a:xfrm>
          <a:prstGeom prst="rightArrow">
            <a:avLst>
              <a:gd name="adj1" fmla="val 41667"/>
              <a:gd name="adj2" fmla="val 711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356080" y="224964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5400000">
            <a:off x="4871880" y="2654280"/>
            <a:ext cx="663480" cy="412560"/>
          </a:xfrm>
          <a:custGeom>
            <a:avLst/>
            <a:gdLst>
              <a:gd name="textAreaLeft" fmla="*/ 201600 w 663480"/>
              <a:gd name="textAreaRight" fmla="*/ 554040 w 663480"/>
              <a:gd name="textAreaTop" fmla="*/ 257760 h 412560"/>
              <a:gd name="textAreaBottom" fmla="*/ 344520 h 412560"/>
            </a:gdLst>
            <a:ahLst/>
            <a:rect l="textAreaLeft" t="textAreaTop" r="textAreaRight" b="textAreaBottom"/>
            <a:pathLst>
              <a:path w="21600" h="21600">
                <a:moveTo>
                  <a:pt x="0" y="17053"/>
                </a:moveTo>
                <a:lnTo>
                  <a:pt x="13487" y="17053"/>
                </a:lnTo>
                <a:lnTo>
                  <a:pt x="13487" y="6563"/>
                </a:lnTo>
                <a:lnTo>
                  <a:pt x="9921" y="6563"/>
                </a:lnTo>
                <a:lnTo>
                  <a:pt x="15761" y="0"/>
                </a:lnTo>
                <a:lnTo>
                  <a:pt x="21600" y="6563"/>
                </a:lnTo>
                <a:lnTo>
                  <a:pt x="18034" y="6563"/>
                </a:lnTo>
                <a:lnTo>
                  <a:pt x="180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740880" y="14130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Act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389560" y="278604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03920" y="31273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2865600"/>
            <a:ext cx="465120" cy="304560"/>
          </a:xfrm>
          <a:prstGeom prst="rightArrow">
            <a:avLst>
              <a:gd name="adj1" fmla="val 41667"/>
              <a:gd name="adj2" fmla="val 38568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6213960" y="30812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Flow expo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4709880" y="1444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c479d"/>
                </a:solidFill>
                <a:uFillTx/>
                <a:latin typeface="Arial"/>
              </a:rPr>
              <a:t>Passive Flow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3476520"/>
            <a:ext cx="38926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A) forward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 (B) performs passive monitoring and exports flow rec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3160" indent="-290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uter (B) does not participate in the control or data plane of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1a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s multiple OC3, OC12, OC48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424840" y="2870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418360" y="232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373400" y="262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1143000"/>
            <a:ext cx="4343400" cy="5016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7:45:59Z</dcterms:created>
  <dc:creator/>
  <dc:description/>
  <dc:language>en-US</dc:language>
  <cp:lastModifiedBy>Juniper</cp:lastModifiedBy>
  <dcterms:modified xsi:type="dcterms:W3CDTF">2006-10-20T15:59:36Z</dcterms:modified>
  <cp:revision>212</cp:revision>
  <dc:subject/>
  <dc:title>Presentation Guid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