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4511-4196-4963-84B1-266D69BD1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6E79-523A-4C68-B194-201BAA267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200240" y="700200"/>
            <a:ext cx="4527360" cy="33955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880920" y="4349880"/>
            <a:ext cx="507384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537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3760" y="271080"/>
            <a:ext cx="85485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7537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271080"/>
            <a:ext cx="85485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05680"/>
            <a:ext cx="9144000" cy="6760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934400" y="6662880"/>
            <a:ext cx="12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DACC-120B-40B7-957C-4A53177708F9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"/>
          <p:cNvSpPr/>
          <p:nvPr/>
        </p:nvSpPr>
        <p:spPr>
          <a:xfrm>
            <a:off x="15840" y="6662880"/>
            <a:ext cx="881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286680"/>
                <a:tab algn="r" pos="863136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Copyright © 2003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www.juniper.net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6240" y="576000"/>
            <a:ext cx="457200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578640"/>
            <a:ext cx="808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29200"/>
                <a:tab algn="ctr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Copyright © 2003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www.juniper.net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7924680" y="657216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0936-A53B-4C94-A5D3-3E16441D6B08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7760"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3.png"/><Relationship Id="rId18" Type="http://schemas.openxmlformats.org/officeDocument/2006/relationships/image" Target="../media/image7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13000" y="-360"/>
            <a:ext cx="48765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niper CALEA(LI)/Monitoring  Solution Architec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4960" y="236844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chard Holb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holben@junipe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KNOF October, 200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92320" y="2332080"/>
            <a:ext cx="5802120" cy="352440"/>
          </a:xfrm>
          <a:prstGeom prst="rightArrow">
            <a:avLst>
              <a:gd name="adj1" fmla="val 41667"/>
              <a:gd name="adj2" fmla="val 18307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220920" y="1366920"/>
            <a:ext cx="2789280" cy="2174760"/>
          </a:xfrm>
          <a:prstGeom prst="wedgeRectCallout">
            <a:avLst>
              <a:gd name="adj1" fmla="val -96842"/>
              <a:gd name="adj2" fmla="val 8393"/>
            </a:avLst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c479d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/M/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sive Monitoring: Packet F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77920" y="3794040"/>
            <a:ext cx="853128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 (B) receives packets via port mirroring or prob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2 performs load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interface is associated with a monitoring gro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ffic from the interfaces is load-shared among the PM-PICs in the monitoring gro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M PICs export flow version 5 rec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6667920" y="2763720"/>
            <a:ext cx="20948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c479d"/>
                </a:solidFill>
                <a:uFillTx/>
                <a:latin typeface="Arial"/>
              </a:rPr>
              <a:t>General Monitor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479d"/>
                </a:solidFill>
                <a:latin typeface="Arial"/>
              </a:rPr>
              <a:t>Version 5 flow record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929280" y="1900080"/>
            <a:ext cx="828360" cy="736560"/>
            <a:chOff x="6929280" y="1900080"/>
            <a:chExt cx="828360" cy="73656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7259400" y="1900080"/>
              <a:ext cx="48420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6929280" y="2112840"/>
              <a:ext cx="48420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7273800" y="2336760"/>
              <a:ext cx="483840" cy="29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/>
          <p:cNvSpPr/>
          <p:nvPr/>
        </p:nvSpPr>
        <p:spPr>
          <a:xfrm>
            <a:off x="3749760" y="2092320"/>
            <a:ext cx="753840" cy="571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3894840" y="231444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479d"/>
                </a:solidFill>
                <a:latin typeface="Arial"/>
              </a:rPr>
              <a:t>IP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711680" y="1671480"/>
            <a:ext cx="1440" cy="160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713120" y="2222280"/>
            <a:ext cx="528840" cy="14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77880" y="2987640"/>
            <a:ext cx="761040" cy="529920"/>
            <a:chOff x="5177880" y="2987640"/>
            <a:chExt cx="761040" cy="529920"/>
          </a:xfrm>
        </p:grpSpPr>
        <p:sp>
          <p:nvSpPr>
            <p:cNvPr id="271" name=""/>
            <p:cNvSpPr/>
            <p:nvPr/>
          </p:nvSpPr>
          <p:spPr>
            <a:xfrm>
              <a:off x="5195880" y="2987640"/>
              <a:ext cx="743040" cy="52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77880" y="308448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c479d"/>
                  </a:solidFill>
                  <a:latin typeface="Arial"/>
                </a:rPr>
                <a:t>M-P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177880" y="2457360"/>
            <a:ext cx="761040" cy="529920"/>
            <a:chOff x="5177880" y="2457360"/>
            <a:chExt cx="761040" cy="529920"/>
          </a:xfrm>
        </p:grpSpPr>
        <p:sp>
          <p:nvSpPr>
            <p:cNvPr id="274" name=""/>
            <p:cNvSpPr/>
            <p:nvPr/>
          </p:nvSpPr>
          <p:spPr>
            <a:xfrm>
              <a:off x="5195880" y="2457360"/>
              <a:ext cx="743040" cy="52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77880" y="255420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c479d"/>
                  </a:solidFill>
                  <a:latin typeface="Arial"/>
                </a:rPr>
                <a:t>M-P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177880" y="1928880"/>
            <a:ext cx="761040" cy="529920"/>
            <a:chOff x="5177880" y="1928880"/>
            <a:chExt cx="761040" cy="529920"/>
          </a:xfrm>
        </p:grpSpPr>
        <p:sp>
          <p:nvSpPr>
            <p:cNvPr id="277" name=""/>
            <p:cNvSpPr/>
            <p:nvPr/>
          </p:nvSpPr>
          <p:spPr>
            <a:xfrm>
              <a:off x="5195880" y="1928880"/>
              <a:ext cx="743040" cy="52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77880" y="202572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c479d"/>
                  </a:solidFill>
                  <a:latin typeface="Arial"/>
                </a:rPr>
                <a:t>M-P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176440" y="1397160"/>
            <a:ext cx="760320" cy="529920"/>
            <a:chOff x="5176440" y="1397160"/>
            <a:chExt cx="760320" cy="529920"/>
          </a:xfrm>
        </p:grpSpPr>
        <p:sp>
          <p:nvSpPr>
            <p:cNvPr id="280" name=""/>
            <p:cNvSpPr/>
            <p:nvPr/>
          </p:nvSpPr>
          <p:spPr>
            <a:xfrm>
              <a:off x="5194080" y="1397160"/>
              <a:ext cx="742680" cy="52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76440" y="149400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c479d"/>
                  </a:solidFill>
                  <a:latin typeface="Arial"/>
                </a:rPr>
                <a:t>M-P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2" name=""/>
          <p:cNvSpPr/>
          <p:nvPr/>
        </p:nvSpPr>
        <p:spPr>
          <a:xfrm flipV="1">
            <a:off x="4743360" y="2757240"/>
            <a:ext cx="528840" cy="14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705200" y="3236760"/>
            <a:ext cx="528840" cy="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707000" y="1697040"/>
            <a:ext cx="528480" cy="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4371840" y="2440080"/>
            <a:ext cx="33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4196520" y="106056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479d"/>
                </a:solidFill>
                <a:latin typeface="Arial"/>
              </a:rPr>
              <a:t>Router (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1370160" y="1003320"/>
            <a:ext cx="2239920" cy="1450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42960" y="1758960"/>
            <a:ext cx="1949400" cy="304920"/>
          </a:xfrm>
          <a:prstGeom prst="rightArrow">
            <a:avLst>
              <a:gd name="adj1" fmla="val 41667"/>
              <a:gd name="adj2" fmla="val 7109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1446120" y="1654200"/>
            <a:ext cx="455760" cy="455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508400" y="1725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173240" y="1951200"/>
            <a:ext cx="1440" cy="63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1452600" y="2241720"/>
            <a:ext cx="455400" cy="4554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500480" y="2313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198000"/>
            <a:ext cx="83217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e / E S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face Mirro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379160"/>
            <a:ext cx="8534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ed as of JUNOSe 5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 interfaces only (static or dynamic, but no LA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bscribers can be managed uniquel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new IP attributes introdu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rror: All traffic will be mirrored to “Analyzer” por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zer: Does not support regular routed traffic and will drop all traffic entering the box via this interfa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figured through CL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urity via privilege levels (16) in CL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zer port can be an IPSec or GRE tunnel, which ensures that mirrored data is transferred to Mediation Device without being rou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e and E s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face Mirroring on E-Se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4572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rrored traffic should be less than 5% of total traffic for a given LC or chass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403440" y="1736640"/>
            <a:ext cx="2313000" cy="1693800"/>
          </a:xfrm>
          <a:prstGeom prst="rect">
            <a:avLst/>
          </a:prstGeom>
          <a:gradFill rotWithShape="0">
            <a:gsLst>
              <a:gs pos="0">
                <a:srgbClr val="9baab8"/>
              </a:gs>
              <a:gs pos="50000">
                <a:srgbClr val="cce0f2"/>
              </a:gs>
              <a:gs pos="100000">
                <a:srgbClr val="9baab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1000" rIns="261000" tIns="130320" bIns="13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827680" y="2417760"/>
            <a:ext cx="75960" cy="380520"/>
            <a:chOff x="5827680" y="2417760"/>
            <a:chExt cx="75960" cy="380520"/>
          </a:xfrm>
        </p:grpSpPr>
        <p:sp>
          <p:nvSpPr>
            <p:cNvPr id="300" name=""/>
            <p:cNvSpPr/>
            <p:nvPr/>
          </p:nvSpPr>
          <p:spPr>
            <a:xfrm>
              <a:off x="5827680" y="2417760"/>
              <a:ext cx="7596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27680" y="2570040"/>
              <a:ext cx="75960" cy="7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27680" y="2722320"/>
              <a:ext cx="7596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1523880" y="23623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bscrib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P Interfa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2855880" y="2514600"/>
            <a:ext cx="701640" cy="0"/>
          </a:xfrm>
          <a:prstGeom prst="line">
            <a:avLst/>
          </a:prstGeom>
          <a:ln w="25560">
            <a:solidFill>
              <a:srgbClr val="0b45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2251080"/>
            <a:ext cx="762120" cy="0"/>
          </a:xfrm>
          <a:prstGeom prst="line">
            <a:avLst/>
          </a:prstGeom>
          <a:ln w="25560">
            <a:solidFill>
              <a:srgbClr val="0b45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3429000" y="17524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rfac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ttribu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051440" y="2565360"/>
            <a:ext cx="155520" cy="6480"/>
          </a:xfrm>
          <a:prstGeom prst="line">
            <a:avLst/>
          </a:prstGeom>
          <a:ln w="25560">
            <a:solidFill>
              <a:srgbClr val="0b45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2951280"/>
            <a:ext cx="76176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856040" y="2319480"/>
            <a:ext cx="195480" cy="133200"/>
          </a:xfrm>
          <a:prstGeom prst="line">
            <a:avLst/>
          </a:prstGeom>
          <a:ln w="25560">
            <a:solidFill>
              <a:srgbClr val="0b45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4840200" y="2662200"/>
            <a:ext cx="203400" cy="1825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1" name=""/>
          <p:cNvCxnSpPr>
            <a:stCxn id="312" idx="5"/>
            <a:endCxn id="313" idx="0"/>
          </p:cNvCxnSpPr>
          <p:nvPr/>
        </p:nvCxnSpPr>
        <p:spPr>
          <a:xfrm flipH="1" rot="16200000">
            <a:off x="3989520" y="2704680"/>
            <a:ext cx="637200" cy="681840"/>
          </a:xfrm>
          <a:prstGeom prst="curvedConnector5">
            <a:avLst>
              <a:gd name="adj1" fmla="val 56076"/>
              <a:gd name="adj2" fmla="val 49973"/>
              <a:gd name="adj3" fmla="val 56076"/>
            </a:avLst>
          </a:prstGeom>
          <a:ln w="25560">
            <a:solidFill>
              <a:srgbClr val="0b4599"/>
            </a:solidFill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4648320" y="3376440"/>
            <a:ext cx="7920" cy="963720"/>
          </a:xfrm>
          <a:prstGeom prst="line">
            <a:avLst/>
          </a:prstGeom>
          <a:ln w="25560">
            <a:solidFill>
              <a:srgbClr val="0b45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39020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rrored packets sent to Analyzer Po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216320" y="2379600"/>
            <a:ext cx="663480" cy="328680"/>
            <a:chOff x="4216320" y="2379600"/>
            <a:chExt cx="663480" cy="328680"/>
          </a:xfrm>
        </p:grpSpPr>
        <p:sp>
          <p:nvSpPr>
            <p:cNvPr id="317" name=""/>
            <p:cNvSpPr/>
            <p:nvPr/>
          </p:nvSpPr>
          <p:spPr>
            <a:xfrm>
              <a:off x="4216320" y="2407680"/>
              <a:ext cx="663480" cy="298440"/>
            </a:xfrm>
            <a:prstGeom prst="rect">
              <a:avLst/>
            </a:prstGeom>
            <a:gradFill rotWithShape="0">
              <a:gsLst>
                <a:gs pos="0">
                  <a:srgbClr val="89abd9"/>
                </a:gs>
                <a:gs pos="100000">
                  <a:srgbClr val="6882a5"/>
                </a:gs>
              </a:gsLst>
              <a:lin ang="5400000"/>
            </a:gra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1000" rIns="261000" tIns="130680" bIns="13068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98640"/>
                  <a:tab algn="l" pos="1996920"/>
                  <a:tab algn="l" pos="2995560"/>
                  <a:tab algn="l" pos="3994200"/>
                  <a:tab algn="l" pos="4992840"/>
                  <a:tab algn="l" pos="5991120"/>
                  <a:tab algn="l" pos="6989760"/>
                  <a:tab algn="l" pos="7988400"/>
                  <a:tab algn="l" pos="8986680"/>
                  <a:tab algn="l" pos="9985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60600" y="2379600"/>
              <a:ext cx="574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1000" rIns="261000" tIns="130680" bIns="13068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98640"/>
                  <a:tab algn="l" pos="1996920"/>
                  <a:tab algn="l" pos="2995560"/>
                  <a:tab algn="l" pos="3994200"/>
                  <a:tab algn="l" pos="4992840"/>
                  <a:tab algn="l" pos="5991120"/>
                  <a:tab algn="l" pos="6989760"/>
                  <a:tab algn="l" pos="7988400"/>
                  <a:tab algn="l" pos="8986680"/>
                  <a:tab algn="l" pos="9985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116240" y="2432160"/>
            <a:ext cx="89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049720" y="2657520"/>
            <a:ext cx="479520" cy="503280"/>
            <a:chOff x="5049720" y="2657520"/>
            <a:chExt cx="479520" cy="503280"/>
          </a:xfrm>
        </p:grpSpPr>
        <p:sp>
          <p:nvSpPr>
            <p:cNvPr id="321" name=""/>
            <p:cNvSpPr/>
            <p:nvPr/>
          </p:nvSpPr>
          <p:spPr>
            <a:xfrm>
              <a:off x="5068800" y="265752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dadada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49720" y="270036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049720" y="1965240"/>
            <a:ext cx="479520" cy="503280"/>
            <a:chOff x="5049720" y="1965240"/>
            <a:chExt cx="479520" cy="503280"/>
          </a:xfrm>
        </p:grpSpPr>
        <p:sp>
          <p:nvSpPr>
            <p:cNvPr id="324" name=""/>
            <p:cNvSpPr/>
            <p:nvPr/>
          </p:nvSpPr>
          <p:spPr>
            <a:xfrm>
              <a:off x="5068800" y="196524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dadada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49720" y="200808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573360" y="2290680"/>
            <a:ext cx="479520" cy="503280"/>
            <a:chOff x="3573360" y="2290680"/>
            <a:chExt cx="479520" cy="503280"/>
          </a:xfrm>
        </p:grpSpPr>
        <p:sp>
          <p:nvSpPr>
            <p:cNvPr id="327" name=""/>
            <p:cNvSpPr/>
            <p:nvPr/>
          </p:nvSpPr>
          <p:spPr>
            <a:xfrm>
              <a:off x="3592440" y="229068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dadada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73360" y="233352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095880" y="22860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pstrea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rfa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9" name=""/>
          <p:cNvCxnSpPr>
            <a:endCxn id="330" idx="0"/>
          </p:cNvCxnSpPr>
          <p:nvPr/>
        </p:nvCxnSpPr>
        <p:spPr>
          <a:xfrm flipH="1" rot="16200000">
            <a:off x="3908160" y="2783880"/>
            <a:ext cx="637560" cy="681840"/>
          </a:xfrm>
          <a:prstGeom prst="curvedConnector5">
            <a:avLst>
              <a:gd name="adj1" fmla="val 56101"/>
              <a:gd name="adj2" fmla="val 49973"/>
              <a:gd name="adj3" fmla="val 5610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4567320" y="3456000"/>
            <a:ext cx="7920" cy="963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2819520" y="2590920"/>
            <a:ext cx="70164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198000"/>
            <a:ext cx="83217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olution of LI in JUNO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for dynamic IP and LAC interfa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ing the concept of a “secure policy”, so LI becomes part of policy manag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pability of attaching CLALCs (flow-based LI)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tachment of secure policy through Radius Access Response and Radius Update Request (unsolicite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for COPS (SDX), SNMPv3 and CLI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ry Mirrored Packet will be pre-pended wi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DP/IP header (will make mirrored packet routabl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eption ID and Acct-Session-ID (allows correlation of monitored user with mirrored dat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 flipH="1">
            <a:off x="596520" y="4952880"/>
            <a:ext cx="2971800" cy="314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433440"/>
            <a:ext cx="8534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e/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ence Model for Lawful Intercept (w/ Radius, DTA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243320" y="3922560"/>
            <a:ext cx="2162160" cy="19227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1218000">
            <a:off x="4723920" y="3276720"/>
            <a:ext cx="1387440" cy="1636560"/>
          </a:xfrm>
          <a:custGeom>
            <a:avLst/>
            <a:gdLst/>
            <a:ahLst/>
            <a:rect l="l" t="t" r="r" b="b"/>
            <a:pathLst>
              <a:path w="1748" h="2063">
                <a:moveTo>
                  <a:pt x="249" y="2063"/>
                </a:moveTo>
                <a:lnTo>
                  <a:pt x="1748" y="217"/>
                </a:lnTo>
                <a:lnTo>
                  <a:pt x="1499" y="0"/>
                </a:lnTo>
                <a:lnTo>
                  <a:pt x="0" y="1848"/>
                </a:lnTo>
                <a:lnTo>
                  <a:pt x="249" y="2063"/>
                </a:lnTo>
                <a:close/>
              </a:path>
            </a:pathLst>
          </a:custGeom>
          <a:solidFill>
            <a:srgbClr val="ff00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248520" y="2209680"/>
            <a:ext cx="1116000" cy="1599480"/>
            <a:chOff x="6248520" y="2209680"/>
            <a:chExt cx="1116000" cy="1599480"/>
          </a:xfrm>
        </p:grpSpPr>
        <p:sp>
          <p:nvSpPr>
            <p:cNvPr id="340" name=""/>
            <p:cNvSpPr/>
            <p:nvPr/>
          </p:nvSpPr>
          <p:spPr>
            <a:xfrm>
              <a:off x="6248520" y="2209680"/>
              <a:ext cx="987480" cy="1599480"/>
            </a:xfrm>
            <a:prstGeom prst="rect">
              <a:avLst/>
            </a:prstGeom>
            <a:solidFill>
              <a:srgbClr val="f2f2f2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48520" y="2209680"/>
              <a:ext cx="987480" cy="1599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2217960"/>
              <a:ext cx="7344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48520" y="2217960"/>
              <a:ext cx="7344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47160" y="2217960"/>
              <a:ext cx="7344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47160" y="2217960"/>
              <a:ext cx="7344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46520" y="2217960"/>
              <a:ext cx="7452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46520" y="2217960"/>
              <a:ext cx="7452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45520" y="2217960"/>
              <a:ext cx="7488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45520" y="2217960"/>
              <a:ext cx="7488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45960" y="2217960"/>
              <a:ext cx="7344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45960" y="2217960"/>
              <a:ext cx="7344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44960" y="2217960"/>
              <a:ext cx="7344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44960" y="2217960"/>
              <a:ext cx="7344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43960" y="2217960"/>
              <a:ext cx="7308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3960" y="2217960"/>
              <a:ext cx="7308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42960" y="2217960"/>
              <a:ext cx="7308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42960" y="2217960"/>
              <a:ext cx="7308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41960" y="2331360"/>
              <a:ext cx="19368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41960" y="2331360"/>
              <a:ext cx="19368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74720" y="2461680"/>
              <a:ext cx="18000" cy="45360"/>
            </a:xfrm>
            <a:prstGeom prst="ellipse">
              <a:avLst/>
            </a:prstGeom>
            <a:solidFill>
              <a:srgbClr val="83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74720" y="2461680"/>
              <a:ext cx="18000" cy="45360"/>
            </a:xfrm>
            <a:prstGeom prst="ellipse">
              <a:avLst/>
            </a:prstGeom>
            <a:noFill/>
            <a:ln w="0">
              <a:solidFill>
                <a:srgbClr val="83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00640" y="3477600"/>
              <a:ext cx="49320" cy="1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00640" y="3477600"/>
              <a:ext cx="49320" cy="18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104240" y="3490200"/>
              <a:ext cx="43920" cy="15984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76"/>
                  </a:moveTo>
                  <a:lnTo>
                    <a:pt x="29" y="76"/>
                  </a:lnTo>
                  <a:lnTo>
                    <a:pt x="48" y="53"/>
                  </a:lnTo>
                  <a:lnTo>
                    <a:pt x="48" y="19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04240" y="3490200"/>
              <a:ext cx="43920" cy="15984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76"/>
                  </a:moveTo>
                  <a:lnTo>
                    <a:pt x="29" y="76"/>
                  </a:lnTo>
                  <a:lnTo>
                    <a:pt x="48" y="53"/>
                  </a:lnTo>
                  <a:lnTo>
                    <a:pt x="48" y="19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11440" y="3608280"/>
              <a:ext cx="14760" cy="15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11440" y="3608280"/>
              <a:ext cx="1476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11440" y="3511080"/>
              <a:ext cx="14760" cy="13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11440" y="3511080"/>
              <a:ext cx="14760" cy="13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8000" y="3561480"/>
              <a:ext cx="14400" cy="13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28000" y="3561480"/>
              <a:ext cx="14400" cy="13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41960" y="2217960"/>
              <a:ext cx="7308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41960" y="2217960"/>
              <a:ext cx="7308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40600" y="2217960"/>
              <a:ext cx="7488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40600" y="2217960"/>
              <a:ext cx="7488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82720" y="2650320"/>
              <a:ext cx="1260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82720" y="2650320"/>
              <a:ext cx="1260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17840" y="2658960"/>
              <a:ext cx="34668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4360" y="2650320"/>
              <a:ext cx="1656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4360" y="2650320"/>
              <a:ext cx="1656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02360" y="2658960"/>
              <a:ext cx="35136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9960" y="2650320"/>
              <a:ext cx="1260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49960" y="2650320"/>
              <a:ext cx="1260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87600" y="2658960"/>
              <a:ext cx="34848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t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31600" y="2650320"/>
              <a:ext cx="1656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31600" y="2650320"/>
              <a:ext cx="1656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69960" y="2658960"/>
              <a:ext cx="34668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15040" y="2650320"/>
              <a:ext cx="1440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15040" y="2650320"/>
              <a:ext cx="1440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53040" y="2658960"/>
              <a:ext cx="35136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g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98480" y="2650320"/>
              <a:ext cx="1476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98480" y="2650320"/>
              <a:ext cx="1476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35040" y="2658960"/>
              <a:ext cx="34668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2280" y="2650320"/>
              <a:ext cx="1440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82280" y="2650320"/>
              <a:ext cx="1440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18120" y="2658960"/>
              <a:ext cx="35136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48520" y="2331360"/>
              <a:ext cx="7344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48520" y="2331360"/>
              <a:ext cx="7344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47160" y="2331360"/>
              <a:ext cx="7344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47160" y="2331360"/>
              <a:ext cx="7344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46520" y="2331360"/>
              <a:ext cx="7452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46520" y="2331360"/>
              <a:ext cx="7452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46960" y="2331360"/>
              <a:ext cx="7488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46960" y="2331360"/>
              <a:ext cx="7488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45960" y="2331360"/>
              <a:ext cx="7344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45960" y="2331360"/>
              <a:ext cx="7344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44960" y="2331360"/>
              <a:ext cx="7344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4960" y="2331360"/>
              <a:ext cx="7344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43960" y="2331360"/>
              <a:ext cx="7308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43960" y="2331360"/>
              <a:ext cx="7308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42960" y="2331360"/>
              <a:ext cx="7308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42960" y="2331360"/>
              <a:ext cx="7308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4276800" y="4759200"/>
            <a:ext cx="204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2971800" y="3200040"/>
            <a:ext cx="91440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3844800" y="4314960"/>
            <a:ext cx="104760" cy="106200"/>
          </a:xfrm>
          <a:custGeom>
            <a:avLst/>
            <a:gdLst/>
            <a:ahLst/>
            <a:rect l="l" t="t" r="r" b="b"/>
            <a:pathLst>
              <a:path w="132" h="136">
                <a:moveTo>
                  <a:pt x="64" y="0"/>
                </a:moveTo>
                <a:lnTo>
                  <a:pt x="132" y="136"/>
                </a:lnTo>
                <a:lnTo>
                  <a:pt x="0" y="70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495320" y="3581280"/>
            <a:ext cx="1752840" cy="106704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96520" y="4591080"/>
            <a:ext cx="3049560" cy="9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3608280" y="4549680"/>
            <a:ext cx="79560" cy="82800"/>
          </a:xfrm>
          <a:custGeom>
            <a:avLst/>
            <a:gdLst/>
            <a:ahLst/>
            <a:rect l="l" t="t" r="r" b="b"/>
            <a:pathLst>
              <a:path w="101" h="103">
                <a:moveTo>
                  <a:pt x="0" y="52"/>
                </a:moveTo>
                <a:lnTo>
                  <a:pt x="3" y="69"/>
                </a:lnTo>
                <a:lnTo>
                  <a:pt x="12" y="85"/>
                </a:lnTo>
                <a:lnTo>
                  <a:pt x="26" y="96"/>
                </a:lnTo>
                <a:lnTo>
                  <a:pt x="41" y="103"/>
                </a:lnTo>
                <a:lnTo>
                  <a:pt x="60" y="103"/>
                </a:lnTo>
                <a:lnTo>
                  <a:pt x="76" y="96"/>
                </a:lnTo>
                <a:lnTo>
                  <a:pt x="89" y="85"/>
                </a:lnTo>
                <a:lnTo>
                  <a:pt x="98" y="69"/>
                </a:lnTo>
                <a:lnTo>
                  <a:pt x="101" y="52"/>
                </a:lnTo>
                <a:lnTo>
                  <a:pt x="98" y="34"/>
                </a:lnTo>
                <a:lnTo>
                  <a:pt x="89" y="18"/>
                </a:lnTo>
                <a:lnTo>
                  <a:pt x="76" y="7"/>
                </a:lnTo>
                <a:lnTo>
                  <a:pt x="60" y="0"/>
                </a:lnTo>
                <a:lnTo>
                  <a:pt x="41" y="0"/>
                </a:lnTo>
                <a:lnTo>
                  <a:pt x="26" y="7"/>
                </a:lnTo>
                <a:lnTo>
                  <a:pt x="12" y="18"/>
                </a:lnTo>
                <a:lnTo>
                  <a:pt x="3" y="34"/>
                </a:lnTo>
                <a:lnTo>
                  <a:pt x="0" y="5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3768840" y="4286160"/>
            <a:ext cx="960480" cy="1017720"/>
          </a:xfrm>
          <a:prstGeom prst="rect">
            <a:avLst/>
          </a:prstGeom>
          <a:ln w="0">
            <a:noFill/>
          </a:ln>
        </p:spPr>
      </p:pic>
      <p:grpSp>
        <p:nvGrpSpPr>
          <p:cNvPr id="420" name=""/>
          <p:cNvGrpSpPr/>
          <p:nvPr/>
        </p:nvGrpSpPr>
        <p:grpSpPr>
          <a:xfrm>
            <a:off x="150840" y="4295880"/>
            <a:ext cx="446040" cy="501120"/>
            <a:chOff x="150840" y="4295880"/>
            <a:chExt cx="446040" cy="501120"/>
          </a:xfrm>
        </p:grpSpPr>
        <p:pic>
          <p:nvPicPr>
            <p:cNvPr id="421" name="" descr=""/>
            <p:cNvPicPr/>
            <p:nvPr/>
          </p:nvPicPr>
          <p:blipFill>
            <a:blip r:embed="rId3"/>
            <a:stretch/>
          </p:blipFill>
          <p:spPr>
            <a:xfrm>
              <a:off x="349200" y="429588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4"/>
            <a:stretch/>
          </p:blipFill>
          <p:spPr>
            <a:xfrm>
              <a:off x="260280" y="440820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5"/>
            <a:stretch/>
          </p:blipFill>
          <p:spPr>
            <a:xfrm>
              <a:off x="150840" y="451944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"/>
          <p:cNvGrpSpPr/>
          <p:nvPr/>
        </p:nvGrpSpPr>
        <p:grpSpPr>
          <a:xfrm>
            <a:off x="74520" y="5241960"/>
            <a:ext cx="446040" cy="501120"/>
            <a:chOff x="74520" y="5241960"/>
            <a:chExt cx="446040" cy="501120"/>
          </a:xfrm>
        </p:grpSpPr>
        <p:pic>
          <p:nvPicPr>
            <p:cNvPr id="425" name="" descr=""/>
            <p:cNvPicPr/>
            <p:nvPr/>
          </p:nvPicPr>
          <p:blipFill>
            <a:blip r:embed="rId6"/>
            <a:stretch/>
          </p:blipFill>
          <p:spPr>
            <a:xfrm>
              <a:off x="272880" y="524196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7"/>
            <a:stretch/>
          </p:blipFill>
          <p:spPr>
            <a:xfrm>
              <a:off x="183960" y="535428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8"/>
            <a:stretch/>
          </p:blipFill>
          <p:spPr>
            <a:xfrm>
              <a:off x="74520" y="546552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"/>
          <p:cNvSpPr/>
          <p:nvPr/>
        </p:nvSpPr>
        <p:spPr>
          <a:xfrm>
            <a:off x="3786840" y="527364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1ab00"/>
                </a:solidFill>
                <a:latin typeface="Comic Sans MS"/>
              </a:rPr>
              <a:t>BR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5870880" y="183204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1ab00"/>
                </a:solidFill>
                <a:latin typeface="Comic Sans MS"/>
              </a:rPr>
              <a:t>Mediation Devi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1636560" y="356400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H1: Control of LI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via Radiu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971800" y="304812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3702240" y="2176560"/>
            <a:ext cx="167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H1: Control of LI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3477960" y="2741760"/>
            <a:ext cx="22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HI2: Data (control dat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5605560" y="4068720"/>
            <a:ext cx="30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HI3: Data (Intercepted Content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7238520" y="3124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238520" y="3581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7704720" y="333072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I3 data to L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7704720" y="287352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I2 data to L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5960520" y="427212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Tunnel for HI3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9"/>
          <a:stretch/>
        </p:blipFill>
        <p:spPr>
          <a:xfrm>
            <a:off x="749160" y="4219560"/>
            <a:ext cx="2133720" cy="14097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49160" y="490536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cess Networ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3568680" y="452448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568680" y="482904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959200" y="4600080"/>
            <a:ext cx="685800" cy="1143000"/>
          </a:xfrm>
          <a:prstGeom prst="line">
            <a:avLst/>
          </a:prstGeom>
          <a:ln w="38160">
            <a:solidFill>
              <a:srgbClr val="f1a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035160" y="4981680"/>
            <a:ext cx="609840" cy="761760"/>
          </a:xfrm>
          <a:prstGeom prst="line">
            <a:avLst/>
          </a:prstGeom>
          <a:ln w="38160">
            <a:solidFill>
              <a:srgbClr val="f1a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986840" y="5697360"/>
            <a:ext cx="208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P and LAC Interfa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rror Point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4483080" y="501336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1698120" y="1908000"/>
            <a:ext cx="17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1ab00"/>
                </a:solidFill>
                <a:latin typeface="Comic Sans MS"/>
              </a:rPr>
              <a:t>Radius Server/O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238520" y="2743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7638840" y="246060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I1 Warr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7467480" y="1371600"/>
            <a:ext cx="0" cy="2666880"/>
          </a:xfrm>
          <a:prstGeom prst="line">
            <a:avLst/>
          </a:prstGeom>
          <a:ln w="28440">
            <a:solidFill>
              <a:srgbClr val="0b45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2955240" y="137628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599"/>
                </a:solidFill>
                <a:latin typeface="Comic Sans MS"/>
              </a:rPr>
              <a:t>Service Provid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7945200" y="137628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599"/>
                </a:solidFill>
                <a:latin typeface="Comic Sans MS"/>
              </a:rPr>
              <a:t>LE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1752480"/>
            <a:ext cx="6096240" cy="0"/>
          </a:xfrm>
          <a:prstGeom prst="line">
            <a:avLst/>
          </a:prstGeom>
          <a:ln w="12600">
            <a:solidFill>
              <a:srgbClr val="0b45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7543800" y="1752480"/>
            <a:ext cx="1295280" cy="0"/>
          </a:xfrm>
          <a:prstGeom prst="line">
            <a:avLst/>
          </a:prstGeom>
          <a:ln w="12600">
            <a:solidFill>
              <a:srgbClr val="0b45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0"/>
          <a:stretch/>
        </p:blipFill>
        <p:spPr>
          <a:xfrm>
            <a:off x="2286000" y="2286000"/>
            <a:ext cx="609480" cy="99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e/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 of Secure Poli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e Policies” allow only personnel  with appropriate privilege to configure or display LI poli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ase 1: Only one action (i.e. mirror) supported in “Secure Policy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e” Input and output policies for IP and L2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achment of Secure Policies through Radius in release Istanbu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 and COPS support in fu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extended to be LI flow-ba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 of policy management – leverages smarts of Policy Manag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000" y="20592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State of LI Worldw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8787"/>
                </a:solidFill>
                <a:latin typeface="Comic Sans MS"/>
              </a:rPr>
              <a:t>Juniper Core, Edge and Access solu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veraging LI Nee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401760" y="920880"/>
            <a:ext cx="7657920" cy="0"/>
          </a:xfrm>
          <a:prstGeom prst="line">
            <a:avLst/>
          </a:prstGeom>
          <a:ln w="4428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veraging LI Nee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-effective scaling of today’s LI solutions are requi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dicated monitoring routers offload existing LI content processing from mediation platform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dicated monitoring routers separate from production infrastructure simplifying 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base for revenue generating end-user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441360" y="368280"/>
            <a:ext cx="8292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185920" y="3784320"/>
            <a:ext cx="2683080" cy="817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2228760" y="4991040"/>
            <a:ext cx="169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 </a:t>
            </a: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Over </a:t>
            </a:r>
            <a:br>
              <a:rPr sz="1200"/>
            </a:b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IPSEC or GRE Tunn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 rot="5400000">
            <a:off x="3420720" y="1852200"/>
            <a:ext cx="13500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 flipV="1" rot="15188400">
            <a:off x="3395880" y="236700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 rot="5400000">
            <a:off x="1184040" y="309384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 rot="5400000">
            <a:off x="1184040" y="4160880"/>
            <a:ext cx="9072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 rot="5400000">
            <a:off x="8333280" y="2989800"/>
            <a:ext cx="222120" cy="92268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802040" y="2166840"/>
            <a:ext cx="3353040" cy="21718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4403880" y="2603520"/>
            <a:ext cx="121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Aggreg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668160" y="4618080"/>
            <a:ext cx="776520" cy="468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758960" y="3570120"/>
            <a:ext cx="3305160" cy="101304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5945040" y="308124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4599"/>
                </a:solidFill>
                <a:latin typeface="Tahoma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7240680" y="2624040"/>
            <a:ext cx="121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Pee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5495760" y="3460680"/>
            <a:ext cx="190512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8238960" y="3460680"/>
            <a:ext cx="90648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1406520" y="315288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1406520" y="420516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7427880" y="305424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484" name=""/>
          <p:cNvGrpSpPr/>
          <p:nvPr/>
        </p:nvGrpSpPr>
        <p:grpSpPr>
          <a:xfrm>
            <a:off x="304920" y="3251160"/>
            <a:ext cx="446040" cy="501840"/>
            <a:chOff x="304920" y="3251160"/>
            <a:chExt cx="446040" cy="501840"/>
          </a:xfrm>
        </p:grpSpPr>
        <p:pic>
          <p:nvPicPr>
            <p:cNvPr id="485" name="" descr=""/>
            <p:cNvPicPr/>
            <p:nvPr/>
          </p:nvPicPr>
          <p:blipFill>
            <a:blip r:embed="rId5"/>
            <a:stretch/>
          </p:blipFill>
          <p:spPr>
            <a:xfrm>
              <a:off x="503280" y="325116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6"/>
            <a:stretch/>
          </p:blipFill>
          <p:spPr>
            <a:xfrm>
              <a:off x="414360" y="336384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" descr=""/>
            <p:cNvPicPr/>
            <p:nvPr/>
          </p:nvPicPr>
          <p:blipFill>
            <a:blip r:embed="rId7"/>
            <a:stretch/>
          </p:blipFill>
          <p:spPr>
            <a:xfrm>
              <a:off x="304920" y="347508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8" name=""/>
          <p:cNvGrpSpPr/>
          <p:nvPr/>
        </p:nvGrpSpPr>
        <p:grpSpPr>
          <a:xfrm>
            <a:off x="304920" y="4300560"/>
            <a:ext cx="446040" cy="501120"/>
            <a:chOff x="304920" y="4300560"/>
            <a:chExt cx="446040" cy="501120"/>
          </a:xfrm>
        </p:grpSpPr>
        <p:pic>
          <p:nvPicPr>
            <p:cNvPr id="489" name="" descr=""/>
            <p:cNvPicPr/>
            <p:nvPr/>
          </p:nvPicPr>
          <p:blipFill>
            <a:blip r:embed="rId8"/>
            <a:stretch/>
          </p:blipFill>
          <p:spPr>
            <a:xfrm>
              <a:off x="503280" y="430056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9"/>
            <a:stretch/>
          </p:blipFill>
          <p:spPr>
            <a:xfrm>
              <a:off x="414360" y="441288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10"/>
            <a:stretch/>
          </p:blipFill>
          <p:spPr>
            <a:xfrm>
              <a:off x="304920" y="452412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"/>
          <p:cNvSpPr/>
          <p:nvPr/>
        </p:nvSpPr>
        <p:spPr>
          <a:xfrm rot="16200000">
            <a:off x="2807640" y="4602960"/>
            <a:ext cx="620640" cy="187200"/>
          </a:xfrm>
          <a:custGeom>
            <a:avLst/>
            <a:gdLst>
              <a:gd name="textAreaLeft" fmla="*/ 96840 w 620640"/>
              <a:gd name="textAreaRight" fmla="*/ 543240 w 620640"/>
              <a:gd name="textAreaTop" fmla="*/ 46800 h 187200"/>
              <a:gd name="textAreaBottom" fmla="*/ 140400 h 18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1ab00"/>
              </a:gs>
              <a:gs pos="100000">
                <a:srgbClr val="cf92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1173240" y="5079960"/>
            <a:ext cx="121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b4599"/>
                </a:solidFill>
                <a:latin typeface="Tahoma"/>
              </a:rPr>
              <a:t>E-Se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plicating</a:t>
            </a:r>
            <a:br>
              <a:rPr sz="1200"/>
            </a:b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 rot="6411600">
            <a:off x="3419280" y="135396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 rot="5400000">
            <a:off x="1184040" y="201924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1406520" y="2136600"/>
            <a:ext cx="793800" cy="798840"/>
          </a:xfrm>
          <a:prstGeom prst="rect">
            <a:avLst/>
          </a:prstGeom>
          <a:ln w="0">
            <a:noFill/>
          </a:ln>
        </p:spPr>
      </p:pic>
      <p:grpSp>
        <p:nvGrpSpPr>
          <p:cNvPr id="497" name=""/>
          <p:cNvGrpSpPr/>
          <p:nvPr/>
        </p:nvGrpSpPr>
        <p:grpSpPr>
          <a:xfrm>
            <a:off x="304920" y="2203560"/>
            <a:ext cx="446040" cy="501120"/>
            <a:chOff x="304920" y="2203560"/>
            <a:chExt cx="446040" cy="501120"/>
          </a:xfrm>
        </p:grpSpPr>
        <p:pic>
          <p:nvPicPr>
            <p:cNvPr id="498" name="" descr=""/>
            <p:cNvPicPr/>
            <p:nvPr/>
          </p:nvPicPr>
          <p:blipFill>
            <a:blip r:embed="rId12"/>
            <a:stretch/>
          </p:blipFill>
          <p:spPr>
            <a:xfrm>
              <a:off x="503280" y="220356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13"/>
            <a:stretch/>
          </p:blipFill>
          <p:spPr>
            <a:xfrm>
              <a:off x="414360" y="231588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" descr=""/>
            <p:cNvPicPr/>
            <p:nvPr/>
          </p:nvPicPr>
          <p:blipFill>
            <a:blip r:embed="rId14"/>
            <a:stretch/>
          </p:blipFill>
          <p:spPr>
            <a:xfrm>
              <a:off x="304920" y="242712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1" name="" descr=""/>
          <p:cNvPicPr/>
          <p:nvPr/>
        </p:nvPicPr>
        <p:blipFill>
          <a:blip r:embed="rId15"/>
          <a:stretch/>
        </p:blipFill>
        <p:spPr>
          <a:xfrm>
            <a:off x="4667400" y="3054240"/>
            <a:ext cx="793440" cy="7984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5430960" y="3562200"/>
            <a:ext cx="20286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6616800" y="3433680"/>
            <a:ext cx="257040" cy="2574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6630840" y="3548160"/>
            <a:ext cx="200160" cy="11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6831000" y="3676680"/>
            <a:ext cx="0" cy="1671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548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s To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401760" y="1108080"/>
            <a:ext cx="874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75000"/>
              </a:lnSpc>
              <a:spcBef>
                <a:spcPts val="4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LI Mediation suppliers eg: SS8, Top Layer etc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199080" indent="-199080">
              <a:lnSpc>
                <a:spcPct val="75000"/>
              </a:lnSpc>
              <a:spcBef>
                <a:spcPts val="4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Content Processing platforms usually proprietary hardware, admin and control on server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199080" indent="-199080">
              <a:lnSpc>
                <a:spcPct val="75000"/>
              </a:lnSpc>
              <a:spcBef>
                <a:spcPts val="4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Scale by adding Content Processing boxe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199080" indent="-199080">
              <a:lnSpc>
                <a:spcPct val="75000"/>
              </a:lnSpc>
              <a:spcBef>
                <a:spcPts val="4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requently have limited interface support FE, limited SONET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5221440" y="3808440"/>
            <a:ext cx="1228680" cy="154152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7981920" y="5411880"/>
            <a:ext cx="987480" cy="45396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LI Conso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"/>
          <p:cNvSpPr/>
          <p:nvPr/>
        </p:nvSpPr>
        <p:spPr>
          <a:xfrm>
            <a:off x="6037200" y="5349960"/>
            <a:ext cx="1452600" cy="49356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7502400" y="5648400"/>
            <a:ext cx="4572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"/>
          <p:cNvSpPr/>
          <p:nvPr/>
        </p:nvSpPr>
        <p:spPr>
          <a:xfrm>
            <a:off x="6146640" y="5416560"/>
            <a:ext cx="1452600" cy="49356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6299280" y="5497560"/>
            <a:ext cx="1452600" cy="49356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4564080" y="42735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41360" y="368280"/>
            <a:ext cx="8292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146320" y="3627000"/>
            <a:ext cx="2682720" cy="817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2189160" y="4834080"/>
            <a:ext cx="169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 </a:t>
            </a: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Over </a:t>
            </a:r>
            <a:br>
              <a:rPr sz="1200"/>
            </a:b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IPSEC or GRE Tunn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 rot="5400000">
            <a:off x="3381120" y="169524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 flipV="1" rot="15188400">
            <a:off x="3355200" y="2207160"/>
            <a:ext cx="13464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1144440" y="2936880"/>
            <a:ext cx="9072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/>
          <p:nvPr/>
        </p:nvSpPr>
        <p:spPr>
          <a:xfrm rot="5400000">
            <a:off x="1144440" y="400356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"/>
          <p:cNvSpPr/>
          <p:nvPr/>
        </p:nvSpPr>
        <p:spPr>
          <a:xfrm rot="5400000">
            <a:off x="8293680" y="2832840"/>
            <a:ext cx="22248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4762440" y="2009880"/>
            <a:ext cx="3353040" cy="21715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4363920" y="2446200"/>
            <a:ext cx="121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Aggreg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628560" y="4460760"/>
            <a:ext cx="776520" cy="504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719360" y="3412800"/>
            <a:ext cx="3305160" cy="101268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5905440" y="29242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4599"/>
                </a:solidFill>
                <a:latin typeface="Tahoma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7201080" y="2467080"/>
            <a:ext cx="121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Pee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5456160" y="3303720"/>
            <a:ext cx="190512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8128080" y="3303720"/>
            <a:ext cx="90648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366920" y="299556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1366920" y="404820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7388280" y="289728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534" name=""/>
          <p:cNvGrpSpPr/>
          <p:nvPr/>
        </p:nvGrpSpPr>
        <p:grpSpPr>
          <a:xfrm>
            <a:off x="264960" y="3094200"/>
            <a:ext cx="446040" cy="501120"/>
            <a:chOff x="264960" y="3094200"/>
            <a:chExt cx="446040" cy="501120"/>
          </a:xfrm>
        </p:grpSpPr>
        <p:pic>
          <p:nvPicPr>
            <p:cNvPr id="535" name="" descr=""/>
            <p:cNvPicPr/>
            <p:nvPr/>
          </p:nvPicPr>
          <p:blipFill>
            <a:blip r:embed="rId5"/>
            <a:stretch/>
          </p:blipFill>
          <p:spPr>
            <a:xfrm>
              <a:off x="463320" y="309420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6"/>
            <a:stretch/>
          </p:blipFill>
          <p:spPr>
            <a:xfrm>
              <a:off x="374400" y="320652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7"/>
            <a:stretch/>
          </p:blipFill>
          <p:spPr>
            <a:xfrm>
              <a:off x="264960" y="331776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8" name=""/>
          <p:cNvGrpSpPr/>
          <p:nvPr/>
        </p:nvGrpSpPr>
        <p:grpSpPr>
          <a:xfrm>
            <a:off x="264960" y="4143240"/>
            <a:ext cx="446040" cy="501840"/>
            <a:chOff x="264960" y="4143240"/>
            <a:chExt cx="446040" cy="501840"/>
          </a:xfrm>
        </p:grpSpPr>
        <p:pic>
          <p:nvPicPr>
            <p:cNvPr id="539" name="" descr=""/>
            <p:cNvPicPr/>
            <p:nvPr/>
          </p:nvPicPr>
          <p:blipFill>
            <a:blip r:embed="rId8"/>
            <a:stretch/>
          </p:blipFill>
          <p:spPr>
            <a:xfrm>
              <a:off x="463320" y="414324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9"/>
            <a:stretch/>
          </p:blipFill>
          <p:spPr>
            <a:xfrm>
              <a:off x="374400" y="425592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10"/>
            <a:stretch/>
          </p:blipFill>
          <p:spPr>
            <a:xfrm>
              <a:off x="264960" y="436716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"/>
          <p:cNvSpPr/>
          <p:nvPr/>
        </p:nvSpPr>
        <p:spPr>
          <a:xfrm rot="16200000">
            <a:off x="2767680" y="4445640"/>
            <a:ext cx="620640" cy="187560"/>
          </a:xfrm>
          <a:custGeom>
            <a:avLst/>
            <a:gdLst>
              <a:gd name="textAreaLeft" fmla="*/ 96840 w 620640"/>
              <a:gd name="textAreaRight" fmla="*/ 543240 w 620640"/>
              <a:gd name="textAreaTop" fmla="*/ 46800 h 187560"/>
              <a:gd name="textAreaBottom" fmla="*/ 140760 h 187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1ab00"/>
              </a:gs>
              <a:gs pos="100000">
                <a:srgbClr val="cf92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1133640" y="4923000"/>
            <a:ext cx="121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b4599"/>
                </a:solidFill>
                <a:latin typeface="Tahoma"/>
              </a:rPr>
              <a:t>E-Se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plicating</a:t>
            </a:r>
            <a:br>
              <a:rPr sz="1200"/>
            </a:b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7942320" y="5254560"/>
            <a:ext cx="987480" cy="45396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LI Conso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5997600" y="5221440"/>
            <a:ext cx="1452600" cy="49356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 rot="6411600">
            <a:off x="3379320" y="1196640"/>
            <a:ext cx="13500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 rot="5400000">
            <a:off x="1144440" y="186192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1"/>
          <a:stretch/>
        </p:blipFill>
        <p:spPr>
          <a:xfrm>
            <a:off x="1366920" y="197964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549" name=""/>
          <p:cNvGrpSpPr/>
          <p:nvPr/>
        </p:nvGrpSpPr>
        <p:grpSpPr>
          <a:xfrm>
            <a:off x="264960" y="2046240"/>
            <a:ext cx="446040" cy="501840"/>
            <a:chOff x="264960" y="2046240"/>
            <a:chExt cx="446040" cy="501840"/>
          </a:xfrm>
        </p:grpSpPr>
        <p:pic>
          <p:nvPicPr>
            <p:cNvPr id="550" name="" descr=""/>
            <p:cNvPicPr/>
            <p:nvPr/>
          </p:nvPicPr>
          <p:blipFill>
            <a:blip r:embed="rId12"/>
            <a:stretch/>
          </p:blipFill>
          <p:spPr>
            <a:xfrm>
              <a:off x="463320" y="204624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" descr=""/>
            <p:cNvPicPr/>
            <p:nvPr/>
          </p:nvPicPr>
          <p:blipFill>
            <a:blip r:embed="rId13"/>
            <a:stretch/>
          </p:blipFill>
          <p:spPr>
            <a:xfrm>
              <a:off x="374400" y="215892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14"/>
            <a:stretch/>
          </p:blipFill>
          <p:spPr>
            <a:xfrm>
              <a:off x="264960" y="227016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3" name="" descr=""/>
          <p:cNvPicPr/>
          <p:nvPr/>
        </p:nvPicPr>
        <p:blipFill>
          <a:blip r:embed="rId15"/>
          <a:stretch/>
        </p:blipFill>
        <p:spPr>
          <a:xfrm>
            <a:off x="4627440" y="2897280"/>
            <a:ext cx="793800" cy="7984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5391000" y="3405240"/>
            <a:ext cx="20289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576840" y="3276720"/>
            <a:ext cx="257400" cy="2570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6591240" y="3390840"/>
            <a:ext cx="200160" cy="114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791400" y="3519360"/>
            <a:ext cx="0" cy="171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7462800" y="5491080"/>
            <a:ext cx="4572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93760" y="0"/>
            <a:ext cx="8548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ducing Load on LI Content Process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298440" y="822240"/>
            <a:ext cx="856440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7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d M/T-Series Monitoring Router filter and reduce traffic processed by LI Content Processing Platform (less box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7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e Monitoring Router Operates in “Passive Mode” and supports wider range of interfaces than LI Content Processing Platfo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7183440" y="4319640"/>
            <a:ext cx="1820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M/T-Se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Monitoring 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5181480" y="3637080"/>
            <a:ext cx="1228680" cy="1555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6919920" y="3705120"/>
            <a:ext cx="2413080" cy="45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SONET ≤OC-48, ATM limited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Franklin Gothic Book"/>
              </a:rPr>
              <a:t>ALL 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6886440" y="4700520"/>
            <a:ext cx="183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FE/ GE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Franklin Gothic Book"/>
              </a:rPr>
              <a:t>Only data of Intere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6"/>
          <a:stretch/>
        </p:blipFill>
        <p:spPr>
          <a:xfrm>
            <a:off x="6494400" y="4106880"/>
            <a:ext cx="671400" cy="6652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524480" y="411624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000" y="20592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e of LI Worldw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8787"/>
                </a:solidFill>
                <a:latin typeface="Comic Sans MS"/>
              </a:rPr>
              <a:t>Juniper Core, Edge and Access solu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Leveraging LI Nee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401760" y="920880"/>
            <a:ext cx="7657920" cy="0"/>
          </a:xfrm>
          <a:prstGeom prst="line">
            <a:avLst/>
          </a:prstGeom>
          <a:ln w="4428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359080" y="4873680"/>
            <a:ext cx="5572080" cy="12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441360" y="368280"/>
            <a:ext cx="8292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185920" y="3823920"/>
            <a:ext cx="2683080" cy="817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2228760" y="5030640"/>
            <a:ext cx="169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 </a:t>
            </a: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Over </a:t>
            </a:r>
            <a:br>
              <a:rPr sz="1200"/>
            </a:b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IPSEC or GRE Tunn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4564080" y="43131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 rot="5400000">
            <a:off x="3420720" y="1892160"/>
            <a:ext cx="13500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 flipV="1" rot="15188400">
            <a:off x="3395880" y="240660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 rot="5400000">
            <a:off x="1184040" y="313344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1184040" y="4200480"/>
            <a:ext cx="9072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8332920" y="3029400"/>
            <a:ext cx="222480" cy="92268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4802040" y="2206800"/>
            <a:ext cx="3353040" cy="21715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4403880" y="2643120"/>
            <a:ext cx="121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Aggreg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668160" y="4657680"/>
            <a:ext cx="776520" cy="468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1758960" y="3609720"/>
            <a:ext cx="3305160" cy="101268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5945040" y="312120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4599"/>
                </a:solidFill>
                <a:latin typeface="Tahoma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7240680" y="2664000"/>
            <a:ext cx="121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Pee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5495760" y="3500280"/>
            <a:ext cx="190512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8167680" y="3500280"/>
            <a:ext cx="90648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1406520" y="319248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1406520" y="424512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4"/>
          <a:stretch/>
        </p:blipFill>
        <p:spPr>
          <a:xfrm>
            <a:off x="7427880" y="309420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588" name=""/>
          <p:cNvGrpSpPr/>
          <p:nvPr/>
        </p:nvGrpSpPr>
        <p:grpSpPr>
          <a:xfrm>
            <a:off x="304920" y="3290760"/>
            <a:ext cx="446040" cy="501840"/>
            <a:chOff x="304920" y="3290760"/>
            <a:chExt cx="446040" cy="501840"/>
          </a:xfrm>
        </p:grpSpPr>
        <p:pic>
          <p:nvPicPr>
            <p:cNvPr id="589" name="" descr=""/>
            <p:cNvPicPr/>
            <p:nvPr/>
          </p:nvPicPr>
          <p:blipFill>
            <a:blip r:embed="rId5"/>
            <a:stretch/>
          </p:blipFill>
          <p:spPr>
            <a:xfrm>
              <a:off x="503280" y="329076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6"/>
            <a:stretch/>
          </p:blipFill>
          <p:spPr>
            <a:xfrm>
              <a:off x="414360" y="340344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7"/>
            <a:stretch/>
          </p:blipFill>
          <p:spPr>
            <a:xfrm>
              <a:off x="304920" y="351468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"/>
          <p:cNvGrpSpPr/>
          <p:nvPr/>
        </p:nvGrpSpPr>
        <p:grpSpPr>
          <a:xfrm>
            <a:off x="304920" y="4340160"/>
            <a:ext cx="446040" cy="501840"/>
            <a:chOff x="304920" y="4340160"/>
            <a:chExt cx="446040" cy="501840"/>
          </a:xfrm>
        </p:grpSpPr>
        <p:pic>
          <p:nvPicPr>
            <p:cNvPr id="593" name="" descr=""/>
            <p:cNvPicPr/>
            <p:nvPr/>
          </p:nvPicPr>
          <p:blipFill>
            <a:blip r:embed="rId8"/>
            <a:stretch/>
          </p:blipFill>
          <p:spPr>
            <a:xfrm>
              <a:off x="503280" y="434016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9"/>
            <a:stretch/>
          </p:blipFill>
          <p:spPr>
            <a:xfrm>
              <a:off x="414360" y="445284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10"/>
            <a:stretch/>
          </p:blipFill>
          <p:spPr>
            <a:xfrm>
              <a:off x="304920" y="456408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"/>
          <p:cNvSpPr/>
          <p:nvPr/>
        </p:nvSpPr>
        <p:spPr>
          <a:xfrm rot="16200000">
            <a:off x="2807280" y="4642200"/>
            <a:ext cx="621000" cy="187200"/>
          </a:xfrm>
          <a:custGeom>
            <a:avLst/>
            <a:gdLst>
              <a:gd name="textAreaLeft" fmla="*/ 96840 w 621000"/>
              <a:gd name="textAreaRight" fmla="*/ 543600 w 621000"/>
              <a:gd name="textAreaTop" fmla="*/ 46800 h 187200"/>
              <a:gd name="textAreaBottom" fmla="*/ 140400 h 18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1ab00"/>
              </a:gs>
              <a:gs pos="100000">
                <a:srgbClr val="cf92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"/>
          <p:cNvSpPr/>
          <p:nvPr/>
        </p:nvSpPr>
        <p:spPr>
          <a:xfrm>
            <a:off x="1173240" y="5119560"/>
            <a:ext cx="121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b4599"/>
                </a:solidFill>
                <a:latin typeface="Tahoma"/>
              </a:rPr>
              <a:t>E-Se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plicating</a:t>
            </a:r>
            <a:br>
              <a:rPr sz="1200"/>
            </a:b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"/>
          <p:cNvSpPr/>
          <p:nvPr/>
        </p:nvSpPr>
        <p:spPr>
          <a:xfrm>
            <a:off x="7981920" y="5451480"/>
            <a:ext cx="987480" cy="45396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LI Conso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6037200" y="5418000"/>
            <a:ext cx="1452600" cy="49392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 rot="6411600">
            <a:off x="3419280" y="139356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 rot="5400000">
            <a:off x="1184040" y="205884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1"/>
          <a:stretch/>
        </p:blipFill>
        <p:spPr>
          <a:xfrm>
            <a:off x="1406520" y="217656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304920" y="2243160"/>
            <a:ext cx="446040" cy="501120"/>
            <a:chOff x="304920" y="2243160"/>
            <a:chExt cx="446040" cy="501120"/>
          </a:xfrm>
        </p:grpSpPr>
        <p:pic>
          <p:nvPicPr>
            <p:cNvPr id="604" name="" descr=""/>
            <p:cNvPicPr/>
            <p:nvPr/>
          </p:nvPicPr>
          <p:blipFill>
            <a:blip r:embed="rId12"/>
            <a:stretch/>
          </p:blipFill>
          <p:spPr>
            <a:xfrm>
              <a:off x="503280" y="224316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13"/>
            <a:stretch/>
          </p:blipFill>
          <p:spPr>
            <a:xfrm>
              <a:off x="414360" y="235548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14"/>
            <a:stretch/>
          </p:blipFill>
          <p:spPr>
            <a:xfrm>
              <a:off x="304920" y="246672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7" name="" descr=""/>
          <p:cNvPicPr/>
          <p:nvPr/>
        </p:nvPicPr>
        <p:blipFill>
          <a:blip r:embed="rId15"/>
          <a:stretch/>
        </p:blipFill>
        <p:spPr>
          <a:xfrm>
            <a:off x="4667400" y="3094200"/>
            <a:ext cx="793440" cy="7984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5430960" y="3602160"/>
            <a:ext cx="20286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6616800" y="3473280"/>
            <a:ext cx="257040" cy="2574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6630840" y="3587760"/>
            <a:ext cx="200160" cy="11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6831000" y="3716280"/>
            <a:ext cx="0" cy="171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7502400" y="5688000"/>
            <a:ext cx="4572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paration of LI from Production Core Route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338040" y="1019160"/>
            <a:ext cx="88059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onitoring Router is separate from core production rout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Keeps all filters and configuration related to LI separate from core production routers and removes visibility to operations staf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posed automation of filters on the Monitoring Router through SOAP/XML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5221440" y="3833640"/>
            <a:ext cx="1228680" cy="155592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7245360" y="4245120"/>
            <a:ext cx="1041480" cy="45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Filter ru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in X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8397720" y="501156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SOA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6"/>
          <a:stretch/>
        </p:blipFill>
        <p:spPr>
          <a:xfrm>
            <a:off x="6534000" y="4303800"/>
            <a:ext cx="671760" cy="6649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17"/>
          <a:stretch/>
        </p:blipFill>
        <p:spPr>
          <a:xfrm>
            <a:off x="8039160" y="4464000"/>
            <a:ext cx="787320" cy="4906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8110440" y="457848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D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8440560" y="4940280"/>
            <a:ext cx="0" cy="471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7236000" y="4692600"/>
            <a:ext cx="7999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 flipV="1">
            <a:off x="2357280" y="5014800"/>
            <a:ext cx="5586480" cy="14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441360" y="368280"/>
            <a:ext cx="8292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184480" y="3979440"/>
            <a:ext cx="2682720" cy="817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2227320" y="5186520"/>
            <a:ext cx="169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 </a:t>
            </a: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Over </a:t>
            </a:r>
            <a:br>
              <a:rPr sz="1200"/>
            </a:b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IPSEC or GRE Tunn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4562640" y="44686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3419280" y="204768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 flipV="1" rot="15188400">
            <a:off x="3393360" y="2559600"/>
            <a:ext cx="13464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 rot="5400000">
            <a:off x="1182600" y="3289320"/>
            <a:ext cx="9072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1182600" y="435600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8331840" y="3185280"/>
            <a:ext cx="22248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3352680" cy="21715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4402080" y="2798640"/>
            <a:ext cx="121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Aggreg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666720" y="4813200"/>
            <a:ext cx="776160" cy="504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757520" y="3765240"/>
            <a:ext cx="3305160" cy="101268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5943600" y="327672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4599"/>
                </a:solidFill>
                <a:latin typeface="Tahoma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7238880" y="2819520"/>
            <a:ext cx="121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Pee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5494320" y="3656160"/>
            <a:ext cx="190512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8166240" y="3656160"/>
            <a:ext cx="90648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1405080" y="3348000"/>
            <a:ext cx="793440" cy="7984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1405080" y="4400640"/>
            <a:ext cx="793440" cy="79848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4"/>
          <a:stretch/>
        </p:blipFill>
        <p:spPr>
          <a:xfrm>
            <a:off x="7426440" y="324972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644" name=""/>
          <p:cNvGrpSpPr/>
          <p:nvPr/>
        </p:nvGrpSpPr>
        <p:grpSpPr>
          <a:xfrm>
            <a:off x="303120" y="3446640"/>
            <a:ext cx="446040" cy="501120"/>
            <a:chOff x="303120" y="3446640"/>
            <a:chExt cx="446040" cy="501120"/>
          </a:xfrm>
        </p:grpSpPr>
        <p:pic>
          <p:nvPicPr>
            <p:cNvPr id="645" name="" descr=""/>
            <p:cNvPicPr/>
            <p:nvPr/>
          </p:nvPicPr>
          <p:blipFill>
            <a:blip r:embed="rId5"/>
            <a:stretch/>
          </p:blipFill>
          <p:spPr>
            <a:xfrm>
              <a:off x="501480" y="344664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6"/>
            <a:stretch/>
          </p:blipFill>
          <p:spPr>
            <a:xfrm>
              <a:off x="412560" y="355896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7"/>
            <a:stretch/>
          </p:blipFill>
          <p:spPr>
            <a:xfrm>
              <a:off x="303120" y="367020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8" name=""/>
          <p:cNvGrpSpPr/>
          <p:nvPr/>
        </p:nvGrpSpPr>
        <p:grpSpPr>
          <a:xfrm>
            <a:off x="303120" y="4495680"/>
            <a:ext cx="446040" cy="501840"/>
            <a:chOff x="303120" y="4495680"/>
            <a:chExt cx="446040" cy="501840"/>
          </a:xfrm>
        </p:grpSpPr>
        <p:pic>
          <p:nvPicPr>
            <p:cNvPr id="649" name="" descr=""/>
            <p:cNvPicPr/>
            <p:nvPr/>
          </p:nvPicPr>
          <p:blipFill>
            <a:blip r:embed="rId8"/>
            <a:stretch/>
          </p:blipFill>
          <p:spPr>
            <a:xfrm>
              <a:off x="501480" y="449568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9"/>
            <a:stretch/>
          </p:blipFill>
          <p:spPr>
            <a:xfrm>
              <a:off x="412560" y="460836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10"/>
            <a:stretch/>
          </p:blipFill>
          <p:spPr>
            <a:xfrm>
              <a:off x="303120" y="471960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2" name=""/>
          <p:cNvSpPr/>
          <p:nvPr/>
        </p:nvSpPr>
        <p:spPr>
          <a:xfrm rot="16200000">
            <a:off x="2805480" y="4797720"/>
            <a:ext cx="621000" cy="187200"/>
          </a:xfrm>
          <a:custGeom>
            <a:avLst/>
            <a:gdLst>
              <a:gd name="textAreaLeft" fmla="*/ 96840 w 621000"/>
              <a:gd name="textAreaRight" fmla="*/ 543600 w 621000"/>
              <a:gd name="textAreaTop" fmla="*/ 46800 h 187200"/>
              <a:gd name="textAreaBottom" fmla="*/ 140400 h 18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1ab00"/>
              </a:gs>
              <a:gs pos="100000">
                <a:srgbClr val="cf92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171440" y="527544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b4599"/>
                </a:solidFill>
                <a:latin typeface="Tahoma"/>
              </a:rPr>
              <a:t>E-Se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plicating</a:t>
            </a:r>
            <a:br>
              <a:rPr sz="1200"/>
            </a:b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"/>
          <p:cNvSpPr/>
          <p:nvPr/>
        </p:nvSpPr>
        <p:spPr>
          <a:xfrm>
            <a:off x="7980480" y="5607000"/>
            <a:ext cx="987480" cy="45396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LI Conso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/>
          <p:nvPr/>
        </p:nvSpPr>
        <p:spPr>
          <a:xfrm>
            <a:off x="6035760" y="5573880"/>
            <a:ext cx="1452600" cy="49356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 rot="6411600">
            <a:off x="3417480" y="1549080"/>
            <a:ext cx="13500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 rot="5400000">
            <a:off x="1182600" y="221436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1"/>
          <a:stretch/>
        </p:blipFill>
        <p:spPr>
          <a:xfrm>
            <a:off x="1405080" y="2332080"/>
            <a:ext cx="793440" cy="79848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303120" y="2398680"/>
            <a:ext cx="446040" cy="501840"/>
            <a:chOff x="303120" y="2398680"/>
            <a:chExt cx="446040" cy="501840"/>
          </a:xfrm>
        </p:grpSpPr>
        <p:pic>
          <p:nvPicPr>
            <p:cNvPr id="660" name="" descr=""/>
            <p:cNvPicPr/>
            <p:nvPr/>
          </p:nvPicPr>
          <p:blipFill>
            <a:blip r:embed="rId12"/>
            <a:stretch/>
          </p:blipFill>
          <p:spPr>
            <a:xfrm>
              <a:off x="501480" y="239868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13"/>
            <a:stretch/>
          </p:blipFill>
          <p:spPr>
            <a:xfrm>
              <a:off x="412560" y="251136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14"/>
            <a:stretch/>
          </p:blipFill>
          <p:spPr>
            <a:xfrm>
              <a:off x="303120" y="262260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3" name="" descr=""/>
          <p:cNvPicPr/>
          <p:nvPr/>
        </p:nvPicPr>
        <p:blipFill>
          <a:blip r:embed="rId15"/>
          <a:stretch/>
        </p:blipFill>
        <p:spPr>
          <a:xfrm>
            <a:off x="4665600" y="3249720"/>
            <a:ext cx="793800" cy="79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5429160" y="3757680"/>
            <a:ext cx="20289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"/>
          <p:cNvSpPr/>
          <p:nvPr/>
        </p:nvSpPr>
        <p:spPr>
          <a:xfrm>
            <a:off x="6615000" y="3629160"/>
            <a:ext cx="257400" cy="2570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6629400" y="3743280"/>
            <a:ext cx="200160" cy="114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6829560" y="3871800"/>
            <a:ext cx="0" cy="171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7500960" y="5843520"/>
            <a:ext cx="4572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veraging LI Investment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338040" y="939960"/>
            <a:ext cx="88059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onitoring Services PIC added to Monitoring Route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7800" indent="-21780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Flow records created for all traffic or a sample eg only business monitoring servi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7800" indent="-21780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ffline analysis of JFlow Records for Security anomaly detection, Traffic engineering and Capacity planning, Accoun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5219640" y="3989520"/>
            <a:ext cx="1228680" cy="1555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7115040" y="4229280"/>
            <a:ext cx="1670040" cy="45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Filter rul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x ≤100% of traff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8396280" y="51674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SOA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6"/>
          <a:stretch/>
        </p:blipFill>
        <p:spPr>
          <a:xfrm>
            <a:off x="6532560" y="4459320"/>
            <a:ext cx="671400" cy="66528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17"/>
          <a:stretch/>
        </p:blipFill>
        <p:spPr>
          <a:xfrm>
            <a:off x="8037360" y="4619520"/>
            <a:ext cx="787680" cy="4906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8108640" y="473400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D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8439120" y="5095800"/>
            <a:ext cx="0" cy="471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7234200" y="4848120"/>
            <a:ext cx="8002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2228760" y="4071960"/>
            <a:ext cx="6815160" cy="2100240"/>
          </a:xfrm>
          <a:custGeom>
            <a:avLst/>
            <a:gdLst/>
            <a:ahLst/>
            <a:rect l="l" t="t" r="r" b="b"/>
            <a:pathLst>
              <a:path w="4293" h="1323">
                <a:moveTo>
                  <a:pt x="0" y="531"/>
                </a:moveTo>
                <a:lnTo>
                  <a:pt x="585" y="288"/>
                </a:lnTo>
                <a:lnTo>
                  <a:pt x="1908" y="0"/>
                </a:lnTo>
                <a:lnTo>
                  <a:pt x="2178" y="171"/>
                </a:lnTo>
                <a:lnTo>
                  <a:pt x="2754" y="594"/>
                </a:lnTo>
                <a:lnTo>
                  <a:pt x="2916" y="675"/>
                </a:lnTo>
                <a:cubicBezTo>
                  <a:pt x="3011" y="668"/>
                  <a:pt x="3029" y="700"/>
                  <a:pt x="3060" y="639"/>
                </a:cubicBezTo>
                <a:cubicBezTo>
                  <a:pt x="3064" y="631"/>
                  <a:pt x="2902" y="678"/>
                  <a:pt x="3069" y="612"/>
                </a:cubicBezTo>
                <a:lnTo>
                  <a:pt x="3114" y="558"/>
                </a:lnTo>
                <a:lnTo>
                  <a:pt x="3654" y="558"/>
                </a:lnTo>
                <a:lnTo>
                  <a:pt x="3780" y="666"/>
                </a:lnTo>
                <a:lnTo>
                  <a:pt x="4158" y="630"/>
                </a:lnTo>
                <a:lnTo>
                  <a:pt x="4293" y="1035"/>
                </a:lnTo>
                <a:lnTo>
                  <a:pt x="4266" y="1323"/>
                </a:lnTo>
                <a:lnTo>
                  <a:pt x="45" y="1314"/>
                </a:lnTo>
                <a:lnTo>
                  <a:pt x="0" y="531"/>
                </a:lnTo>
                <a:close/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8"/>
          <a:stretch/>
        </p:blipFill>
        <p:spPr>
          <a:xfrm>
            <a:off x="5780160" y="4616280"/>
            <a:ext cx="658800" cy="40824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4614840" y="445788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Monitoring Services PI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6815160" y="5129280"/>
            <a:ext cx="0" cy="457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6810480" y="519588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JFlow records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7277040" y="5805360"/>
            <a:ext cx="154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Offline analysi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9"/>
          <a:stretch/>
        </p:blipFill>
        <p:spPr>
          <a:xfrm>
            <a:off x="6408720" y="5662440"/>
            <a:ext cx="787320" cy="4906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5172120" y="4929120"/>
            <a:ext cx="1343160" cy="144360"/>
          </a:xfrm>
          <a:custGeom>
            <a:avLst/>
            <a:gdLst/>
            <a:ahLst/>
            <a:rect l="l" t="t" r="r" b="b"/>
            <a:pathLst>
              <a:path w="846" h="91">
                <a:moveTo>
                  <a:pt x="0" y="0"/>
                </a:moveTo>
                <a:cubicBezTo>
                  <a:pt x="195" y="44"/>
                  <a:pt x="390" y="89"/>
                  <a:pt x="531" y="90"/>
                </a:cubicBezTo>
                <a:cubicBezTo>
                  <a:pt x="672" y="91"/>
                  <a:pt x="759" y="50"/>
                  <a:pt x="846" y="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nipers M/T/E, JUNOS and JUNOSe solutions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provide the basis for flexible and powerful monitoring and LI solu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Integrated solution portfolio provides both operational choice and capital effici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Effectively meet the needs of Lawful Intercept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elect, Replicate, Analyze and Distrib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Juniper Networks provides a solution that is available</a:t>
            </a:r>
            <a:r>
              <a:rPr b="0" i="1" lang="en-CA" sz="2400" spc="-1" strike="noStrike">
                <a:solidFill>
                  <a:srgbClr val="0b4599"/>
                </a:solidFill>
                <a:latin typeface="Comic Sans MS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CA" sz="2400" spc="-1" strike="noStrike">
                <a:solidFill>
                  <a:srgbClr val="0b4599"/>
                </a:solidFill>
                <a:latin typeface="Comic Sans MS"/>
              </a:rPr>
              <a:t>is deployed today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236320" y="3404880"/>
            <a:ext cx="4722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Thanks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1720800" y="4572000"/>
            <a:ext cx="5702400" cy="132084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1752480" y="4572000"/>
            <a:ext cx="5615280" cy="13651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4"/>
          <a:stretch/>
        </p:blipFill>
        <p:spPr>
          <a:xfrm>
            <a:off x="2311560" y="1295280"/>
            <a:ext cx="452088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6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6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0760" y="0"/>
            <a:ext cx="8548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of LI Worldw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4880" y="82188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ted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32440" indent="-205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94 - Communications Assistance for Law Enforcement Act (CALEA) passed gives LEAs the authority for surveill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2440" indent="-205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1 - Patriot’s act expands power of LEAs to intercept IP-based commun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2440" indent="-205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5 - FCC requirements extend govt reach on LI support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order requires that organizations like universities providing Internet access also comply with the law by spring 200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itional potential legis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7800" indent="-2178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32440" indent="-205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5 - Canada’s "Modernization of Investigative Techniques Act" (MITA) Legislative Propos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ect passage in 2006 with support required by spring 200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760" y="0"/>
            <a:ext cx="8548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of LI Worldwide (cont’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4880" y="82188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v 2005 - European Union committee agreed that details of all EU-wide phone calls &amp; Internet use should be stored, but steps did not go as far as some members want in battle against terrorism/ crim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uropean Telecommunications Standards Institute (ETSI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lping to drive standards that may also be adopted in As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24640" indent="-2246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A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Asia there's a wide range of legislation (or lack of) and pract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99 - The Japanese parliament passed legislation. Law has been in effect since August 1, 200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79 - Telecommunications Intercept Act in Australia and upda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04 – Draft document on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interception capabilities that will be provided by the carrier or carriage service provider (CCSP) to meet Govt Agencies requirements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 rot="18000000">
            <a:off x="2621160" y="4559400"/>
            <a:ext cx="58680" cy="148896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of LI Worldwide (cont’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E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legislation for LI yet except for Germany, UK and Netherlan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U directives on cyber crime provide legal basis for intercep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ry country expected to have its own law to comply with EU directiv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SI driving standards (see ETSI model below…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81280" y="4537080"/>
            <a:ext cx="919080" cy="561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rot="5400000">
            <a:off x="1041120" y="3033720"/>
            <a:ext cx="59040" cy="151920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 rot="3000000">
            <a:off x="569880" y="4753080"/>
            <a:ext cx="7128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2743200" cy="2340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400800" y="58672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aw Enforcement Agen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119480"/>
            <a:ext cx="320040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ccess Networ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492200" y="3614760"/>
            <a:ext cx="793800" cy="623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838080" y="4416480"/>
            <a:ext cx="793800" cy="62388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87480" y="3583080"/>
            <a:ext cx="446040" cy="392040"/>
            <a:chOff x="87480" y="3583080"/>
            <a:chExt cx="446040" cy="392040"/>
          </a:xfrm>
        </p:grpSpPr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285840" y="3583080"/>
              <a:ext cx="247680" cy="2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196920" y="3670920"/>
              <a:ext cx="249480" cy="2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7"/>
            <a:stretch/>
          </p:blipFill>
          <p:spPr>
            <a:xfrm>
              <a:off x="87480" y="3758040"/>
              <a:ext cx="247680" cy="21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76320" y="5427720"/>
            <a:ext cx="446040" cy="392040"/>
            <a:chOff x="76320" y="5427720"/>
            <a:chExt cx="446040" cy="392040"/>
          </a:xfrm>
        </p:grpSpPr>
        <p:pic>
          <p:nvPicPr>
            <p:cNvPr id="114" name="" descr=""/>
            <p:cNvPicPr/>
            <p:nvPr/>
          </p:nvPicPr>
          <p:blipFill>
            <a:blip r:embed="rId8"/>
            <a:stretch/>
          </p:blipFill>
          <p:spPr>
            <a:xfrm>
              <a:off x="274680" y="5427720"/>
              <a:ext cx="247680" cy="2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185760" y="5515560"/>
              <a:ext cx="249480" cy="2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0"/>
            <a:stretch/>
          </p:blipFill>
          <p:spPr>
            <a:xfrm>
              <a:off x="76320" y="5602680"/>
              <a:ext cx="247680" cy="21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6400800" y="3200400"/>
            <a:ext cx="0" cy="3222720"/>
          </a:xfrm>
          <a:prstGeom prst="line">
            <a:avLst/>
          </a:prstGeom>
          <a:ln w="57240">
            <a:solidFill>
              <a:srgbClr val="f1ab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450440" y="59119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rvice Provid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3197160" y="394020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273480" y="3524400"/>
            <a:ext cx="1517400" cy="714240"/>
            <a:chOff x="3273480" y="3524400"/>
            <a:chExt cx="1517400" cy="714240"/>
          </a:xfrm>
        </p:grpSpPr>
        <p:sp>
          <p:nvSpPr>
            <p:cNvPr id="121" name=""/>
            <p:cNvSpPr/>
            <p:nvPr/>
          </p:nvSpPr>
          <p:spPr>
            <a:xfrm>
              <a:off x="3273480" y="3524400"/>
              <a:ext cx="1451520" cy="714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05240" y="3704040"/>
              <a:ext cx="13856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ranklin Gothic Book"/>
                </a:rPr>
                <a:t>Administration system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V="1" rot="16200000">
            <a:off x="2900880" y="3567240"/>
            <a:ext cx="58680" cy="68580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3273480" y="4416480"/>
            <a:ext cx="1450800" cy="714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3273480" y="4489560"/>
            <a:ext cx="16765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Intercept Related Mediation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 flipV="1" rot="16200000">
            <a:off x="3090240" y="4590720"/>
            <a:ext cx="60480" cy="3049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3273480" y="5334120"/>
            <a:ext cx="1450800" cy="71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273480" y="5473800"/>
            <a:ext cx="1828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Content Mediation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3505320"/>
            <a:ext cx="1905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HI1: Warrant Related In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4454640"/>
            <a:ext cx="2286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HI2: Intercept Related In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533412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HI3: Content of 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7308720" y="3429000"/>
            <a:ext cx="1530360" cy="2498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4476600"/>
            <a:ext cx="13604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LEA Monitoring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723920" y="388620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723920" y="487692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723920" y="571500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" name=""/>
          <p:cNvCxnSpPr>
            <a:stCxn id="121" idx="2"/>
            <a:endCxn id="124" idx="0"/>
          </p:cNvCxnSpPr>
          <p:nvPr/>
        </p:nvCxnSpPr>
        <p:spPr>
          <a:xfrm>
            <a:off x="3998520" y="4238640"/>
            <a:ext cx="1080" cy="1782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4" idx="2"/>
            <a:endCxn id="127" idx="0"/>
          </p:cNvCxnSpPr>
          <p:nvPr/>
        </p:nvCxnSpPr>
        <p:spPr>
          <a:xfrm>
            <a:off x="3998520" y="5130360"/>
            <a:ext cx="1080" cy="204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000" y="20592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State of LI Worldw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uniper Core, Edge and Access solu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Leveraging LI Nee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401760" y="920880"/>
            <a:ext cx="7657920" cy="0"/>
          </a:xfrm>
          <a:prstGeom prst="line">
            <a:avLst/>
          </a:prstGeom>
          <a:ln w="4428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H="1">
            <a:off x="1711440" y="3141720"/>
            <a:ext cx="752400" cy="0"/>
          </a:xfrm>
          <a:prstGeom prst="line">
            <a:avLst/>
          </a:prstGeom>
          <a:ln w="158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4060800" y="2716200"/>
            <a:ext cx="0" cy="262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493560" y="1001880"/>
            <a:ext cx="8244000" cy="2905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3880" y="0"/>
            <a:ext cx="8359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ing and Lawful Intercept Supp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92200" y="3402000"/>
            <a:ext cx="6400800" cy="1174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1628640" y="4095720"/>
            <a:ext cx="5221440" cy="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655640" y="2859120"/>
            <a:ext cx="8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Franklin Gothic Book"/>
              </a:rPr>
              <a:t>JFlow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65800" y="5613480"/>
            <a:ext cx="555480" cy="345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390760" y="2857680"/>
            <a:ext cx="614520" cy="609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847960" y="3668760"/>
            <a:ext cx="1525680" cy="3985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Two Rx Interfac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used per fibre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168880" y="5500800"/>
            <a:ext cx="555480" cy="345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316640" y="4108320"/>
            <a:ext cx="1365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863720" y="5248440"/>
            <a:ext cx="318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flow records of a smaller percentage of traffic for offline analysis eg. a security service to identify anomalies or advanced accounting.  M- and E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2400480" y="2981160"/>
            <a:ext cx="658800" cy="408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H="1" flipV="1">
            <a:off x="7116840" y="3532320"/>
            <a:ext cx="1440" cy="4204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2640240" y="4862520"/>
            <a:ext cx="2466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Franklin Gothic Book"/>
              </a:rPr>
              <a:t>Active Monito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Franklin Gothic Book"/>
              </a:rPr>
              <a:t>using Production Rout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112760"/>
            <a:ext cx="28656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Franklin Gothic Book"/>
              </a:rPr>
              <a:t>Passive Monito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Franklin Gothic Book"/>
              </a:rPr>
              <a:t>using Overlay Passive rout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2563920" y="3933720"/>
            <a:ext cx="257040" cy="2574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54200" y="3929040"/>
            <a:ext cx="195480" cy="176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698200" y="3468600"/>
            <a:ext cx="42840" cy="471600"/>
          </a:xfrm>
          <a:custGeom>
            <a:avLst/>
            <a:gdLst/>
            <a:ahLst/>
            <a:rect l="l" t="t" r="r" b="b"/>
            <a:pathLst>
              <a:path w="1" h="699">
                <a:moveTo>
                  <a:pt x="0" y="699"/>
                </a:move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459400" y="4309920"/>
            <a:ext cx="0" cy="1046160"/>
          </a:xfrm>
          <a:prstGeom prst="line">
            <a:avLst/>
          </a:prstGeom>
          <a:ln w="158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4794120" y="4518000"/>
            <a:ext cx="8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Franklin Gothic Book"/>
              </a:rPr>
              <a:t>JFlow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6853320" y="3778200"/>
            <a:ext cx="576360" cy="579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>
            <a:off x="7137360" y="3868560"/>
            <a:ext cx="12600" cy="20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927840" y="4073400"/>
            <a:ext cx="40968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4083120" y="2006640"/>
            <a:ext cx="9360" cy="444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3611520" y="1886040"/>
            <a:ext cx="944640" cy="18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3670200" y="1870200"/>
            <a:ext cx="9018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Mediatio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3610080" y="2139840"/>
            <a:ext cx="947520" cy="212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611520" y="2422440"/>
            <a:ext cx="94608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716280" y="2149560"/>
            <a:ext cx="717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3660840" y="2390760"/>
            <a:ext cx="901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Content Processin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4548240" y="2592360"/>
            <a:ext cx="404640" cy="144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7294680" y="4127400"/>
            <a:ext cx="90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Franklin Gothic Book"/>
              </a:rPr>
              <a:t>Port Mirr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3533400" y="1131840"/>
            <a:ext cx="28216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Franklin Gothic Book"/>
              </a:rPr>
              <a:t>Lawful Intercept</a:t>
            </a:r>
            <a:br>
              <a:rPr sz="2400"/>
            </a:br>
            <a:r>
              <a:rPr b="1" lang="en-US" sz="1400" spc="-1" strike="noStrike">
                <a:solidFill>
                  <a:srgbClr val="003399"/>
                </a:solidFill>
                <a:latin typeface="Franklin Gothic Book"/>
              </a:rPr>
              <a:t>using Overlay Passive rout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533600"/>
            <a:ext cx="340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summarized flow records of a high volume (100%) of traffic for offline analysis eg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curity service based on anomaly detection or advanced accounting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1068480" y="2949480"/>
            <a:ext cx="555480" cy="346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871560" y="2836800"/>
            <a:ext cx="555480" cy="345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960800" y="5594400"/>
            <a:ext cx="13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Flow Ana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3882960" y="3952800"/>
            <a:ext cx="257400" cy="2574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97360" y="3978360"/>
            <a:ext cx="171360" cy="13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017240" y="3081240"/>
            <a:ext cx="42840" cy="893880"/>
          </a:xfrm>
          <a:custGeom>
            <a:avLst/>
            <a:gdLst/>
            <a:ahLst/>
            <a:rect l="l" t="t" r="r" b="b"/>
            <a:pathLst>
              <a:path w="1" h="699">
                <a:moveTo>
                  <a:pt x="0" y="699"/>
                </a:moveTo>
                <a:lnTo>
                  <a:pt x="0" y="0"/>
                </a:lnTo>
              </a:path>
            </a:pathLst>
          </a:custGeom>
          <a:solidFill>
            <a:srgbClr val="ff3300"/>
          </a:solidFill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3803760" y="2909880"/>
            <a:ext cx="517320" cy="52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1360" y="2946240"/>
            <a:ext cx="120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Flow Analys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4737240" y="1501920"/>
            <a:ext cx="410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router filters IP addresses under surveillance.  Forwards packets to Third Party content processing platform which extracts data authorized for agenc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 often preferred by core team. M-, T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375240" y="4776840"/>
            <a:ext cx="27831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production router filters IP addresses under surveillance and port mirrors them to a Third Party content processing platform which extracts data authorized for agency. LI approach preferred at edge. M- and E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8007480" y="2709720"/>
            <a:ext cx="5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7147080" y="3546360"/>
            <a:ext cx="18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Franklin Gothic Book"/>
              </a:rPr>
              <a:t>Only Intercepted IP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7951680" y="3230640"/>
            <a:ext cx="9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Franklin Gothic Book"/>
              </a:rPr>
              <a:t>App 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7566120" y="2817720"/>
            <a:ext cx="40464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7612200" y="3068640"/>
            <a:ext cx="4046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7599240" y="3386160"/>
            <a:ext cx="405000" cy="144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6311520" y="4387680"/>
            <a:ext cx="2405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Franklin Gothic Book"/>
              </a:rPr>
              <a:t>Lawful Intercept</a:t>
            </a:r>
            <a:br>
              <a:rPr sz="2400"/>
            </a:br>
            <a:r>
              <a:rPr b="1" lang="en-US" sz="1400" spc="-1" strike="noStrike">
                <a:solidFill>
                  <a:srgbClr val="003399"/>
                </a:solidFill>
                <a:latin typeface="Franklin Gothic Book"/>
              </a:rPr>
              <a:t>using Production rout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7115040" y="2828880"/>
            <a:ext cx="9720" cy="444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643800" y="2708280"/>
            <a:ext cx="944280" cy="18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702480" y="2692440"/>
            <a:ext cx="9018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Mediatio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6642000" y="2962440"/>
            <a:ext cx="947880" cy="212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6643800" y="3244680"/>
            <a:ext cx="946080" cy="306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6748560" y="2971800"/>
            <a:ext cx="717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6692760" y="3213000"/>
            <a:ext cx="901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Content Processin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54320" y="3047760"/>
            <a:ext cx="12960" cy="20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254480" y="2997360"/>
            <a:ext cx="11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Franklin Gothic Book"/>
              </a:rPr>
              <a:t>Filter forwa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205000" y="2666880"/>
            <a:ext cx="2239920" cy="990720"/>
            <a:chOff x="2205000" y="2666880"/>
            <a:chExt cx="2239920" cy="990720"/>
          </a:xfrm>
        </p:grpSpPr>
        <p:sp>
          <p:nvSpPr>
            <p:cNvPr id="205" name=""/>
            <p:cNvSpPr/>
            <p:nvPr/>
          </p:nvSpPr>
          <p:spPr>
            <a:xfrm>
              <a:off x="2205000" y="2666880"/>
              <a:ext cx="2239920" cy="990720"/>
            </a:xfrm>
            <a:prstGeom prst="ellipse">
              <a:avLst/>
            </a:prstGeom>
            <a:noFill/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40040" y="2714760"/>
              <a:ext cx="112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 be one router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976640" y="3597120"/>
            <a:ext cx="2590920" cy="882720"/>
            <a:chOff x="4976640" y="3597120"/>
            <a:chExt cx="2590920" cy="882720"/>
          </a:xfrm>
        </p:grpSpPr>
        <p:sp>
          <p:nvSpPr>
            <p:cNvPr id="208" name=""/>
            <p:cNvSpPr/>
            <p:nvPr/>
          </p:nvSpPr>
          <p:spPr>
            <a:xfrm>
              <a:off x="5623560" y="3643200"/>
              <a:ext cx="1422720" cy="276480"/>
            </a:xfrm>
            <a:prstGeom prst="rect">
              <a:avLst/>
            </a:prstGeom>
            <a:solidFill>
              <a:srgbClr val="f8f8f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 be one router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76640" y="3597120"/>
              <a:ext cx="2590920" cy="882720"/>
            </a:xfrm>
            <a:prstGeom prst="ellipse">
              <a:avLst/>
            </a:prstGeom>
            <a:noFill/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5205240" y="3774960"/>
            <a:ext cx="576360" cy="579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5153040" y="3840120"/>
            <a:ext cx="65880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67360" y="2733840"/>
            <a:ext cx="18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Only Intercepted IP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4674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/M/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ctive Monitor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61440" y="3684600"/>
            <a:ext cx="38926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 (A) forwards packets and exports flow rec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A) performs routing, forwarding, and exporting of flow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itors ingress or egress fl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11280" y="1824120"/>
            <a:ext cx="2993400" cy="1450800"/>
            <a:chOff x="611280" y="1824120"/>
            <a:chExt cx="2993400" cy="145080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1365120" y="1824120"/>
              <a:ext cx="223956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11280" y="2639880"/>
              <a:ext cx="1949040" cy="304560"/>
            </a:xfrm>
            <a:prstGeom prst="rightArrow">
              <a:avLst>
                <a:gd name="adj1" fmla="val 41667"/>
                <a:gd name="adj2" fmla="val 7116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1320480" y="2546280"/>
              <a:ext cx="4554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flipV="1">
              <a:off x="1339560" y="2714400"/>
              <a:ext cx="464760" cy="452160"/>
            </a:xfrm>
            <a:custGeom>
              <a:avLst/>
              <a:gdLst>
                <a:gd name="textAreaLeft" fmla="*/ 185760 w 464760"/>
                <a:gd name="textAreaRight" fmla="*/ 378720 w 464760"/>
                <a:gd name="textAreaTop" fmla="*/ 290880 h 452160"/>
                <a:gd name="textAreaBottom" fmla="*/ 36900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876"/>
                  </a:moveTo>
                  <a:lnTo>
                    <a:pt x="13876" y="17876"/>
                  </a:lnTo>
                  <a:lnTo>
                    <a:pt x="13876" y="8640"/>
                  </a:lnTo>
                  <a:lnTo>
                    <a:pt x="9876" y="8640"/>
                  </a:lnTo>
                  <a:lnTo>
                    <a:pt x="15738" y="0"/>
                  </a:lnTo>
                  <a:lnTo>
                    <a:pt x="21600" y="8640"/>
                  </a:lnTo>
                  <a:lnTo>
                    <a:pt x="17600" y="8640"/>
                  </a:lnTo>
                  <a:lnTo>
                    <a:pt x="17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308560" y="1816200"/>
            <a:ext cx="2239920" cy="1450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52920" y="2354400"/>
            <a:ext cx="1949400" cy="304560"/>
          </a:xfrm>
          <a:prstGeom prst="rightArrow">
            <a:avLst>
              <a:gd name="adj1" fmla="val 41667"/>
              <a:gd name="adj2" fmla="val 7117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356080" y="224964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rot="5400000">
            <a:off x="4871880" y="2654280"/>
            <a:ext cx="663480" cy="412560"/>
          </a:xfrm>
          <a:custGeom>
            <a:avLst/>
            <a:gdLst>
              <a:gd name="textAreaLeft" fmla="*/ 201600 w 663480"/>
              <a:gd name="textAreaRight" fmla="*/ 554040 w 663480"/>
              <a:gd name="textAreaTop" fmla="*/ 257760 h 412560"/>
              <a:gd name="textAreaBottom" fmla="*/ 34452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7053"/>
                </a:moveTo>
                <a:lnTo>
                  <a:pt x="13487" y="17053"/>
                </a:lnTo>
                <a:lnTo>
                  <a:pt x="13487" y="6563"/>
                </a:lnTo>
                <a:lnTo>
                  <a:pt x="9921" y="6563"/>
                </a:lnTo>
                <a:lnTo>
                  <a:pt x="15761" y="0"/>
                </a:lnTo>
                <a:lnTo>
                  <a:pt x="21600" y="6563"/>
                </a:lnTo>
                <a:lnTo>
                  <a:pt x="18034" y="6563"/>
                </a:lnTo>
                <a:lnTo>
                  <a:pt x="180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740880" y="141300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c479d"/>
                </a:solidFill>
                <a:uFillTx/>
                <a:latin typeface="Arial"/>
              </a:rPr>
              <a:t>Active Flow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5389560" y="2786040"/>
            <a:ext cx="430200" cy="430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303920" y="312732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Flow expo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2865600"/>
            <a:ext cx="465120" cy="304560"/>
          </a:xfrm>
          <a:prstGeom prst="rightArrow">
            <a:avLst>
              <a:gd name="adj1" fmla="val 41667"/>
              <a:gd name="adj2" fmla="val 38568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6213960" y="30812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Flow expo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4709880" y="144468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c479d"/>
                </a:solidFill>
                <a:uFillTx/>
                <a:latin typeface="Arial"/>
              </a:rPr>
              <a:t>Passive Flow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3514680"/>
            <a:ext cx="38926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A) forwards packe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B) performs passive monitoring and exports flow rec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uter (B) does not participate in the control or data plane of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s multiple OC3, OC12, OC48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5424840" y="2870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5418360" y="2320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1373400" y="262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219320"/>
            <a:ext cx="4114800" cy="48765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4674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/M/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Passive Monitor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61440" y="3684600"/>
            <a:ext cx="38926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 (A) forwards packets and exports flow rec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A) performs routing, forwarding, and exporting of flow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itors ingress or egress fl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11280" y="1824120"/>
            <a:ext cx="2993400" cy="1450800"/>
            <a:chOff x="611280" y="1824120"/>
            <a:chExt cx="2993400" cy="145080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1365120" y="1824120"/>
              <a:ext cx="223956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11280" y="2639880"/>
              <a:ext cx="1949040" cy="304560"/>
            </a:xfrm>
            <a:prstGeom prst="rightArrow">
              <a:avLst>
                <a:gd name="adj1" fmla="val 41667"/>
                <a:gd name="adj2" fmla="val 7116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1320480" y="2546280"/>
              <a:ext cx="4554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 flipV="1">
              <a:off x="1339560" y="2714400"/>
              <a:ext cx="464760" cy="452160"/>
            </a:xfrm>
            <a:custGeom>
              <a:avLst/>
              <a:gdLst>
                <a:gd name="textAreaLeft" fmla="*/ 185760 w 464760"/>
                <a:gd name="textAreaRight" fmla="*/ 378720 w 464760"/>
                <a:gd name="textAreaTop" fmla="*/ 290880 h 452160"/>
                <a:gd name="textAreaBottom" fmla="*/ 36900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876"/>
                  </a:moveTo>
                  <a:lnTo>
                    <a:pt x="13876" y="17876"/>
                  </a:lnTo>
                  <a:lnTo>
                    <a:pt x="13876" y="8640"/>
                  </a:lnTo>
                  <a:lnTo>
                    <a:pt x="9876" y="8640"/>
                  </a:lnTo>
                  <a:lnTo>
                    <a:pt x="15738" y="0"/>
                  </a:lnTo>
                  <a:lnTo>
                    <a:pt x="21600" y="8640"/>
                  </a:lnTo>
                  <a:lnTo>
                    <a:pt x="17600" y="8640"/>
                  </a:lnTo>
                  <a:lnTo>
                    <a:pt x="17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5308560" y="1816200"/>
            <a:ext cx="2239920" cy="1450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552920" y="2354400"/>
            <a:ext cx="1949400" cy="304560"/>
          </a:xfrm>
          <a:prstGeom prst="rightArrow">
            <a:avLst>
              <a:gd name="adj1" fmla="val 41667"/>
              <a:gd name="adj2" fmla="val 7117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356080" y="224964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rot="5400000">
            <a:off x="4871880" y="2654280"/>
            <a:ext cx="663480" cy="412560"/>
          </a:xfrm>
          <a:custGeom>
            <a:avLst/>
            <a:gdLst>
              <a:gd name="textAreaLeft" fmla="*/ 201600 w 663480"/>
              <a:gd name="textAreaRight" fmla="*/ 554040 w 663480"/>
              <a:gd name="textAreaTop" fmla="*/ 257760 h 412560"/>
              <a:gd name="textAreaBottom" fmla="*/ 34452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7053"/>
                </a:moveTo>
                <a:lnTo>
                  <a:pt x="13487" y="17053"/>
                </a:lnTo>
                <a:lnTo>
                  <a:pt x="13487" y="6563"/>
                </a:lnTo>
                <a:lnTo>
                  <a:pt x="9921" y="6563"/>
                </a:lnTo>
                <a:lnTo>
                  <a:pt x="15761" y="0"/>
                </a:lnTo>
                <a:lnTo>
                  <a:pt x="21600" y="6563"/>
                </a:lnTo>
                <a:lnTo>
                  <a:pt x="18034" y="6563"/>
                </a:lnTo>
                <a:lnTo>
                  <a:pt x="180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740880" y="141300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c479d"/>
                </a:solidFill>
                <a:uFillTx/>
                <a:latin typeface="Arial"/>
              </a:rPr>
              <a:t>Active Flow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389560" y="2786040"/>
            <a:ext cx="430200" cy="430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303920" y="312732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Flow expo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2865600"/>
            <a:ext cx="465120" cy="304560"/>
          </a:xfrm>
          <a:prstGeom prst="rightArrow">
            <a:avLst>
              <a:gd name="adj1" fmla="val 41667"/>
              <a:gd name="adj2" fmla="val 38568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6213960" y="30812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Flow expo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4709880" y="144468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c479d"/>
                </a:solidFill>
                <a:uFillTx/>
                <a:latin typeface="Arial"/>
              </a:rPr>
              <a:t>Passive Flow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3476520"/>
            <a:ext cx="38926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A) forwards packe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B) performs passive monitoring and exports flow rec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uter (B) does not participate in the control or data plane of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s multiple OC3, OC12, OC48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5424840" y="2870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5418360" y="2320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1373400" y="262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1143000"/>
            <a:ext cx="4343400" cy="50166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7:45:59Z</dcterms:created>
  <dc:creator/>
  <dc:description/>
  <dc:language>en-US</dc:language>
  <cp:lastModifiedBy>Juniper</cp:lastModifiedBy>
  <dcterms:modified xsi:type="dcterms:W3CDTF">2006-10-20T15:59:36Z</dcterms:modified>
  <cp:revision>212</cp:revision>
  <dc:subject/>
  <dc:title>Presentation Guidli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