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8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405680"/>
            <a:ext cx="828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42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1600" y="2057400"/>
            <a:ext cx="4042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405680"/>
            <a:ext cx="4042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1600" y="4405680"/>
            <a:ext cx="4042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6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58360" y="2057400"/>
            <a:ext cx="266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160" y="2057400"/>
            <a:ext cx="266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405680"/>
            <a:ext cx="266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58360" y="4405680"/>
            <a:ext cx="266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160" y="4405680"/>
            <a:ext cx="266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83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8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42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1600" y="2057400"/>
            <a:ext cx="4042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382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42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1600" y="2057400"/>
            <a:ext cx="4042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405680"/>
            <a:ext cx="4042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83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42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1600" y="2057400"/>
            <a:ext cx="4042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1600" y="4405680"/>
            <a:ext cx="4042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42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1600" y="2057400"/>
            <a:ext cx="4042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405680"/>
            <a:ext cx="828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8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405680"/>
            <a:ext cx="828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42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1600" y="2057400"/>
            <a:ext cx="4042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405680"/>
            <a:ext cx="4042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1600" y="4405680"/>
            <a:ext cx="4042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6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8360" y="2057400"/>
            <a:ext cx="266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59160" y="2057400"/>
            <a:ext cx="266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405680"/>
            <a:ext cx="266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8360" y="4405680"/>
            <a:ext cx="266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59160" y="4405680"/>
            <a:ext cx="266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8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42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1600" y="2057400"/>
            <a:ext cx="4042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382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42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1600" y="2057400"/>
            <a:ext cx="4042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405680"/>
            <a:ext cx="4042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42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1600" y="2057400"/>
            <a:ext cx="4042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1600" y="4405680"/>
            <a:ext cx="4042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42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1600" y="2057400"/>
            <a:ext cx="4042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405680"/>
            <a:ext cx="828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8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5baed6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25"/>
              </a:spcBef>
              <a:buClr>
                <a:srgbClr val="0064ea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25"/>
              </a:spcBef>
              <a:buClr>
                <a:srgbClr val="0064ea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1752480"/>
            <a:ext cx="8686800" cy="0"/>
          </a:xfrm>
          <a:prstGeom prst="line">
            <a:avLst/>
          </a:prstGeom>
          <a:ln w="19080">
            <a:solidFill>
              <a:srgbClr val="a5b9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686800" cy="0"/>
          </a:xfrm>
          <a:prstGeom prst="line">
            <a:avLst/>
          </a:prstGeom>
          <a:ln w="19080">
            <a:solidFill>
              <a:srgbClr val="a5b9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64ea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51"/>
              </a:spcBef>
              <a:buClr>
                <a:srgbClr val="0064ea"/>
              </a:buClr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aintenance Challeng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ike Hughes &lt;mike@linx.net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eekly Breakdow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905120" y="1954080"/>
          <a:ext cx="5029200" cy="45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54080"/>
                    <a:ext cx="5029200" cy="45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238880" y="1981080"/>
          <a:ext cx="1471680" cy="340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1981080"/>
                    <a:ext cx="1471680" cy="34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80880" y="4495680"/>
            <a:ext cx="152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 window had to be backed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5181480"/>
            <a:ext cx="1371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410080"/>
            <a:ext cx="762120" cy="152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438280" y="5410080"/>
            <a:ext cx="762120" cy="152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eekly Breakdow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905120" y="1954080"/>
          <a:ext cx="5029200" cy="45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54080"/>
                    <a:ext cx="5029200" cy="45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238880" y="1981080"/>
          <a:ext cx="1471680" cy="340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1981080"/>
                    <a:ext cx="1471680" cy="34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80880" y="4495680"/>
            <a:ext cx="152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 retried using different code next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5257800"/>
            <a:ext cx="22860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5410080"/>
            <a:ext cx="762120" cy="152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5410080"/>
            <a:ext cx="762120" cy="152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eekly Breakdow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05120" y="1954080"/>
          <a:ext cx="5029200" cy="45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54080"/>
                    <a:ext cx="5029200" cy="45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7238880" y="1981080"/>
          <a:ext cx="1471680" cy="340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1981080"/>
                    <a:ext cx="1471680" cy="34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80880" y="449568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the rest two days l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029200"/>
            <a:ext cx="41148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5410080"/>
            <a:ext cx="762120" cy="152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438280" y="5410080"/>
            <a:ext cx="762120" cy="152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fterthought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8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locking out of whole weeks for maintenance work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5baed6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when we could quickly reschedule that maintenance work which got backe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5baed6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we’d have had at least 7 days “sli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tensive approach work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5baed6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n’t had to raise a scheduled maintenance ticket until this wee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5baed6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ed network operating for extended periods in “transitional sta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hat we started with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705360" cy="46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hat we ended up with - Foundry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324840" cy="45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hat we ended up with - Extrem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71600" y="1971720"/>
            <a:ext cx="6172200" cy="42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8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8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ificant amounts of maintenance on both L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5baed6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upgrade of Extreme LAN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5baed6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upgrade of Foundry LAN (RX16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5baed6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figuration of backbone rings in both 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ing MRP2 on Foundry, EAPSv2 on Ext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5baed6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ns” of depend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uld be a total of between 14-16 s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t would take ages!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8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intenance is usually one, occasionally two slots per week, minimum 7 days not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49"/>
              </a:spcBef>
              <a:buClr>
                <a:srgbClr val="5baed6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us, only one LAN at once to minimise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uld take between 3 and 4 mon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t accounting for failures/backo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49"/>
              </a:spcBef>
              <a:buClr>
                <a:srgbClr val="5baed6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uld cause delays of an additional week per back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h, and we needed to get it done sooner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49"/>
              </a:spcBef>
              <a:buClr>
                <a:srgbClr val="5baed6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demand for 10G por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tense Approach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8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ck out whole weeks for mainten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5baed6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ing between 1 and 4 slots each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ernate between Foundry and Extr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5baed6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ing changes to settl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ility to rapidly reschedule (&lt;24 hours) for maintenance which overran or had to be backed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re in external hands to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5baed6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direct stress on LINX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5baed6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“backup” crew available next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reaking the New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8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get your colleagues on 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, break it to your memb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prisingly well recei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5baed6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given the “otherwise we’ll still be finishing this in September”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5baed6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eemed it would only cause significant problems for one member (using DNS-based load distrib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even managed to mitigate some of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8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6 new swit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5baed6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complete box sw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hard cutover, 5 staggered mig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2 different software upgr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5baed6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volving 6 different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ew inter-site fibre deliv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ckbone reconfigu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ttle opportunity to build “greenfield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eekly Breakdow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905120" y="1954080"/>
          <a:ext cx="5029200" cy="45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54080"/>
                    <a:ext cx="5029200" cy="45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238880" y="1981080"/>
          <a:ext cx="1471680" cy="340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1981080"/>
                    <a:ext cx="1471680" cy="34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eekly Breakdow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05120" y="1954080"/>
          <a:ext cx="5029200" cy="45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54080"/>
                    <a:ext cx="5029200" cy="45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7238880" y="1981080"/>
          <a:ext cx="1471680" cy="340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1981080"/>
                    <a:ext cx="1471680" cy="34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80880" y="2209680"/>
            <a:ext cx="152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 broke the “news” to the members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895480"/>
            <a:ext cx="13716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eekly Breakdow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905120" y="1954080"/>
          <a:ext cx="5029200" cy="45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54080"/>
                    <a:ext cx="5029200" cy="45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7238880" y="1981080"/>
          <a:ext cx="1471680" cy="340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1981080"/>
                    <a:ext cx="1471680" cy="34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80880" y="4495680"/>
            <a:ext cx="152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 window had to be backed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5181480"/>
            <a:ext cx="1371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1:30:10Z</dcterms:created>
  <dc:creator> Mike Hughes</dc:creator>
  <dc:description/>
  <dc:language>en-US</dc:language>
  <cp:lastModifiedBy> Mike Hughes</cp:lastModifiedBy>
  <dcterms:modified xsi:type="dcterms:W3CDTF">2006-10-20T00:07:50Z</dcterms:modified>
  <cp:revision>37</cp:revision>
  <dc:subject/>
  <dc:title>Maintenance Challenges</dc:title>
</cp:coreProperties>
</file>