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1080" y="189720"/>
            <a:ext cx="8567640" cy="7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e2c83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83680" y="1143000"/>
            <a:ext cx="8574120" cy="20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3680" y="3409920"/>
            <a:ext cx="8574120" cy="20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1080" y="189720"/>
            <a:ext cx="8567640" cy="7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e2c83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83680" y="1143000"/>
            <a:ext cx="4183920" cy="20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7120" y="1143000"/>
            <a:ext cx="4183920" cy="20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83680" y="3409920"/>
            <a:ext cx="4183920" cy="20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7120" y="3409920"/>
            <a:ext cx="4183920" cy="20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71080" y="189720"/>
            <a:ext cx="8567640" cy="7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e2c83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83680" y="1143000"/>
            <a:ext cx="2760480" cy="20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82400" y="1143000"/>
            <a:ext cx="2760480" cy="20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81480" y="1143000"/>
            <a:ext cx="2760480" cy="20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83680" y="3409920"/>
            <a:ext cx="2760480" cy="20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82400" y="3409920"/>
            <a:ext cx="2760480" cy="20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81480" y="3409920"/>
            <a:ext cx="2760480" cy="20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71080" y="189720"/>
            <a:ext cx="8567640" cy="7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e2c83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3680" y="1143000"/>
            <a:ext cx="8574120" cy="434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2d81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71080" y="189720"/>
            <a:ext cx="8567640" cy="7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e2c83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3680" y="1143000"/>
            <a:ext cx="8574120" cy="43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71080" y="189720"/>
            <a:ext cx="8567640" cy="7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e2c83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3680" y="1143000"/>
            <a:ext cx="4183920" cy="43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7120" y="1143000"/>
            <a:ext cx="4183920" cy="43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71080" y="189720"/>
            <a:ext cx="8567640" cy="7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e2c83"/>
              </a:solidFill>
              <a:latin typeface="Arial Narrow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71080" y="309600"/>
            <a:ext cx="8567640" cy="248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2d81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71080" y="189720"/>
            <a:ext cx="8567640" cy="7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e2c83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3680" y="1143000"/>
            <a:ext cx="4183920" cy="20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7120" y="1143000"/>
            <a:ext cx="4183920" cy="43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3680" y="3409920"/>
            <a:ext cx="4183920" cy="20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1080" y="189720"/>
            <a:ext cx="8567640" cy="7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e2c83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83680" y="1143000"/>
            <a:ext cx="8574120" cy="434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2d81"/>
              </a:solidFill>
              <a:latin typeface="Arial Narrow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71080" y="189720"/>
            <a:ext cx="8567640" cy="7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e2c83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3680" y="1143000"/>
            <a:ext cx="4183920" cy="43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7120" y="1143000"/>
            <a:ext cx="4183920" cy="20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7120" y="3409920"/>
            <a:ext cx="4183920" cy="20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71080" y="189720"/>
            <a:ext cx="8567640" cy="7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e2c83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3680" y="1143000"/>
            <a:ext cx="4183920" cy="20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7120" y="1143000"/>
            <a:ext cx="4183920" cy="20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3680" y="3409920"/>
            <a:ext cx="8574120" cy="20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71080" y="189720"/>
            <a:ext cx="8567640" cy="7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e2c83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3680" y="1143000"/>
            <a:ext cx="8574120" cy="20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3680" y="3409920"/>
            <a:ext cx="8574120" cy="20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71080" y="189720"/>
            <a:ext cx="8567640" cy="7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e2c83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3680" y="1143000"/>
            <a:ext cx="4183920" cy="20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7120" y="1143000"/>
            <a:ext cx="4183920" cy="20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3680" y="3409920"/>
            <a:ext cx="4183920" cy="20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7120" y="3409920"/>
            <a:ext cx="4183920" cy="20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71080" y="189720"/>
            <a:ext cx="8567640" cy="7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e2c83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3680" y="1143000"/>
            <a:ext cx="2760480" cy="20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2400" y="1143000"/>
            <a:ext cx="2760480" cy="20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81480" y="1143000"/>
            <a:ext cx="2760480" cy="20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3680" y="3409920"/>
            <a:ext cx="2760480" cy="20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2400" y="3409920"/>
            <a:ext cx="2760480" cy="20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81480" y="3409920"/>
            <a:ext cx="2760480" cy="20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71080" y="189720"/>
            <a:ext cx="8567640" cy="7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e2c83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3680" y="1143000"/>
            <a:ext cx="8574120" cy="43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1080" y="189720"/>
            <a:ext cx="8567640" cy="7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e2c83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83680" y="1143000"/>
            <a:ext cx="4183920" cy="43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7120" y="1143000"/>
            <a:ext cx="4183920" cy="43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1080" y="189720"/>
            <a:ext cx="8567640" cy="7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e2c83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71080" y="309600"/>
            <a:ext cx="8567640" cy="248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2d81"/>
              </a:solidFill>
              <a:latin typeface="Arial Narrow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1080" y="189720"/>
            <a:ext cx="8567640" cy="7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e2c83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83680" y="1143000"/>
            <a:ext cx="4183920" cy="20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7120" y="1143000"/>
            <a:ext cx="4183920" cy="43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83680" y="3409920"/>
            <a:ext cx="4183920" cy="20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71080" y="189720"/>
            <a:ext cx="8567640" cy="7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e2c83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83680" y="1143000"/>
            <a:ext cx="4183920" cy="43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7120" y="1143000"/>
            <a:ext cx="4183920" cy="20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7120" y="3409920"/>
            <a:ext cx="4183920" cy="20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71080" y="189720"/>
            <a:ext cx="8567640" cy="7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e2c83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83680" y="1143000"/>
            <a:ext cx="4183920" cy="20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7120" y="1143000"/>
            <a:ext cx="4183920" cy="20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83680" y="3409920"/>
            <a:ext cx="8574120" cy="20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228600"/>
            <a:ext cx="9144000" cy="83664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solidFill>
            <a:srgbClr val="aecc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283680" y="1143000"/>
            <a:ext cx="8574120" cy="43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90000"/>
              </a:lnSpc>
              <a:spcBef>
                <a:spcPts val="601"/>
              </a:spcBef>
              <a:buClr>
                <a:srgbClr val="1f2d81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71400" indent="-288720">
              <a:lnSpc>
                <a:spcPct val="90000"/>
              </a:lnSpc>
              <a:spcBef>
                <a:spcPts val="601"/>
              </a:spcBef>
              <a:buClr>
                <a:srgbClr val="1f2d81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282680" indent="-228600">
              <a:lnSpc>
                <a:spcPct val="90000"/>
              </a:lnSpc>
              <a:spcBef>
                <a:spcPts val="601"/>
              </a:spcBef>
              <a:buClr>
                <a:srgbClr val="1f2d81"/>
              </a:buClr>
              <a:buSzPct val="8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701720" indent="-228600">
              <a:lnSpc>
                <a:spcPct val="90000"/>
              </a:lnSpc>
              <a:spcBef>
                <a:spcPts val="601"/>
              </a:spcBef>
              <a:buClr>
                <a:srgbClr val="1f2d81"/>
              </a:buClr>
              <a:buSzPct val="8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2120760" indent="-228600">
              <a:lnSpc>
                <a:spcPct val="90000"/>
              </a:lnSpc>
              <a:spcBef>
                <a:spcPts val="601"/>
              </a:spcBef>
              <a:buClr>
                <a:srgbClr val="1f2d81"/>
              </a:buClr>
              <a:buSzPct val="8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21207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21207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271080" y="309600"/>
            <a:ext cx="8567640" cy="53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e2c83"/>
                </a:solidFill>
                <a:latin typeface="Arial Narrow"/>
              </a:rPr>
              <a:t>Click to edit the title text format</a:t>
            </a:r>
            <a:endParaRPr b="1" lang="en-US" sz="3200" spc="-1" strike="noStrike">
              <a:solidFill>
                <a:srgbClr val="1e2c83"/>
              </a:solidFill>
              <a:latin typeface="Arial Narrow"/>
            </a:endParaRPr>
          </a:p>
        </p:txBody>
      </p:sp>
      <p:sp>
        <p:nvSpPr>
          <p:cNvPr id="4" name=""/>
          <p:cNvSpPr/>
          <p:nvPr/>
        </p:nvSpPr>
        <p:spPr>
          <a:xfrm>
            <a:off x="0" y="6624720"/>
            <a:ext cx="9144000" cy="228600"/>
          </a:xfrm>
          <a:prstGeom prst="rect">
            <a:avLst/>
          </a:prstGeom>
          <a:solidFill>
            <a:srgbClr val="aecc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0" y="5788080"/>
            <a:ext cx="9144000" cy="83664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7313760" y="6591240"/>
            <a:ext cx="16300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343a3f"/>
                </a:solidFill>
                <a:latin typeface="Arial Narrow"/>
                <a:ea typeface="Arial"/>
              </a:rPr>
              <a:t>© Copyright NetTek 2006. All rights reserved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271440" y="127080"/>
            <a:ext cx="292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f2d81"/>
                </a:solidFill>
                <a:latin typeface="Arial"/>
              </a:rPr>
              <a:t>BT21CN be frightened, very frighten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822960" y="4767120"/>
            <a:ext cx="2036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Arial"/>
                <a:ea typeface="Arial"/>
              </a:rPr>
              <a:t>© Copyright THUS Group plc 2005. All rights reserved.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56800" y="1947600"/>
            <a:ext cx="64278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2d81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1f2d81"/>
              </a:solidFill>
              <a:latin typeface="Arial Narrow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0" y="5792760"/>
            <a:ext cx="9144000" cy="83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6624720"/>
            <a:ext cx="9144000" cy="228600"/>
          </a:xfrm>
          <a:prstGeom prst="rect">
            <a:avLst/>
          </a:prstGeom>
          <a:solidFill>
            <a:srgbClr val="aecc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2d81"/>
                </a:solidFill>
                <a:latin typeface="Arial Narrow"/>
              </a:rPr>
              <a:t>Click to edit the outline text format</a:t>
            </a:r>
            <a:endParaRPr b="0" lang="en-US" sz="2000" spc="-1" strike="noStrike">
              <a:solidFill>
                <a:srgbClr val="1f2d81"/>
              </a:solidFill>
              <a:latin typeface="Arial Narrow"/>
            </a:endParaRPr>
          </a:p>
          <a:p>
            <a:pPr lvl="1" marL="378000" indent="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752400" indent="301680" algn="ctr">
              <a:lnSpc>
                <a:spcPct val="90000"/>
              </a:lnSpc>
              <a:spcBef>
                <a:spcPts val="451"/>
              </a:spcBef>
              <a:buClr>
                <a:srgbClr val="1f2d81"/>
              </a:buClr>
              <a:buSzPct val="85000"/>
              <a:buFont typeface="Wingdings" charset="2"/>
              <a:buChar char="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3" marL="1171440" indent="301680" algn="ctr">
              <a:lnSpc>
                <a:spcPct val="90000"/>
              </a:lnSpc>
              <a:spcBef>
                <a:spcPts val="400"/>
              </a:spcBef>
              <a:buClr>
                <a:srgbClr val="1f2d81"/>
              </a:buClr>
              <a:buSzPct val="8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4" marL="1590840" indent="301320" algn="ctr">
              <a:lnSpc>
                <a:spcPct val="90000"/>
              </a:lnSpc>
              <a:spcBef>
                <a:spcPts val="400"/>
              </a:spcBef>
              <a:buClr>
                <a:srgbClr val="1f2d81"/>
              </a:buClr>
              <a:buSzPct val="8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5" marL="1590840" indent="301320">
              <a:spcBef>
                <a:spcPts val="400"/>
              </a:spcBef>
              <a:buClr>
                <a:srgbClr val="000000"/>
              </a:buClr>
              <a:buSzPct val="8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6" marL="1590840" indent="301320">
              <a:spcBef>
                <a:spcPts val="400"/>
              </a:spcBef>
              <a:buClr>
                <a:srgbClr val="000000"/>
              </a:buClr>
              <a:buSzPct val="8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23640" y="2285640"/>
            <a:ext cx="8134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1f2d81"/>
                </a:solidFill>
                <a:latin typeface="AkzidenzGroteskBQ-Medium"/>
              </a:rPr>
              <a:t>BT’s 21</a:t>
            </a:r>
            <a:r>
              <a:rPr b="1" lang="en-GB" sz="4800" spc="-1" strike="noStrike" baseline="30000">
                <a:solidFill>
                  <a:srgbClr val="1f2d81"/>
                </a:solidFill>
                <a:latin typeface="Arial"/>
              </a:rPr>
              <a:t>st</a:t>
            </a:r>
            <a:r>
              <a:rPr b="1" lang="en-GB" sz="4800" spc="-1" strike="noStrike">
                <a:solidFill>
                  <a:srgbClr val="1f2d81"/>
                </a:solidFill>
                <a:latin typeface="AkzidenzGroteskBQ-Medium"/>
              </a:rPr>
              <a:t> Century Network</a:t>
            </a:r>
            <a:endParaRPr b="1" lang="en-US" sz="4800" spc="-1" strike="noStrike">
              <a:solidFill>
                <a:srgbClr val="1f2d81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323640" y="3429000"/>
            <a:ext cx="577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f2d81"/>
                </a:solidFill>
                <a:latin typeface="AkzidenzGroteskBQ-Regular"/>
              </a:rPr>
              <a:t>Steve Kennedy</a:t>
            </a:r>
            <a:endParaRPr b="0" lang="en-US" sz="1800" spc="-1" strike="noStrike">
              <a:solidFill>
                <a:srgbClr val="1f2d81"/>
              </a:solidFill>
              <a:latin typeface="Arial Narrow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f2d81"/>
                </a:solidFill>
                <a:latin typeface="AkzidenzGroteskBQ-Regular"/>
              </a:rPr>
              <a:t>NetTek Ltd</a:t>
            </a:r>
            <a:endParaRPr b="0" lang="en-US" sz="1800" spc="-1" strike="noStrike">
              <a:solidFill>
                <a:srgbClr val="1f2d81"/>
              </a:solidFill>
              <a:latin typeface="Arial Narrow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71080" y="309600"/>
            <a:ext cx="8567640" cy="53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1e2c83"/>
                </a:solidFill>
                <a:latin typeface="Arial Narrow"/>
              </a:rPr>
              <a:t>What is BT’s 21</a:t>
            </a:r>
            <a:r>
              <a:rPr b="1" lang="en-GB" sz="3200" spc="-1" strike="noStrike" baseline="30000">
                <a:solidFill>
                  <a:srgbClr val="1e2c83"/>
                </a:solidFill>
                <a:latin typeface="Arial Narrow"/>
              </a:rPr>
              <a:t>st</a:t>
            </a:r>
            <a:r>
              <a:rPr b="1" lang="en-GB" sz="3200" spc="-1" strike="noStrike">
                <a:solidFill>
                  <a:srgbClr val="1e2c83"/>
                </a:solidFill>
                <a:latin typeface="Arial Narrow"/>
              </a:rPr>
              <a:t> Century Network?</a:t>
            </a:r>
            <a:endParaRPr b="1" lang="en-US" sz="3200" spc="-1" strike="noStrike">
              <a:solidFill>
                <a:srgbClr val="1e2c83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3680" y="1143000"/>
            <a:ext cx="8574120" cy="43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70000"/>
              </a:lnSpc>
              <a:spcBef>
                <a:spcPts val="499"/>
              </a:spcBef>
              <a:buClr>
                <a:srgbClr val="1f2d81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Narrow"/>
              </a:rPr>
              <a:t>IP/MPLS Core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808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671400" indent="-288720">
              <a:lnSpc>
                <a:spcPct val="70000"/>
              </a:lnSpc>
              <a:spcBef>
                <a:spcPts val="451"/>
              </a:spcBef>
              <a:buClr>
                <a:srgbClr val="1f2d81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Being rolled out now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808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80880" indent="-380880">
              <a:lnSpc>
                <a:spcPct val="70000"/>
              </a:lnSpc>
              <a:spcBef>
                <a:spcPts val="499"/>
              </a:spcBef>
              <a:buClr>
                <a:srgbClr val="1f2d81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Narrow"/>
              </a:rPr>
              <a:t>IP to the home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808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671400" indent="-288720">
              <a:lnSpc>
                <a:spcPct val="70000"/>
              </a:lnSpc>
              <a:spcBef>
                <a:spcPts val="451"/>
              </a:spcBef>
              <a:buClr>
                <a:srgbClr val="1f2d81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ADSL2+ to every home?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6714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671400" indent="-288720">
              <a:lnSpc>
                <a:spcPct val="70000"/>
              </a:lnSpc>
              <a:spcBef>
                <a:spcPts val="451"/>
              </a:spcBef>
              <a:buClr>
                <a:srgbClr val="1f2d81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Analogue calls converted to IP at DLE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6714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671400" indent="-288720">
              <a:lnSpc>
                <a:spcPct val="70000"/>
              </a:lnSpc>
              <a:spcBef>
                <a:spcPts val="451"/>
              </a:spcBef>
              <a:buClr>
                <a:srgbClr val="1f2d81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Ability to deliver quad-play at least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2" marL="12826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Narrow"/>
              </a:rPr>
              <a:t>Voice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2" marL="12826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Narrow"/>
              </a:rPr>
              <a:t>Video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2" marL="12826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Narrow"/>
              </a:rPr>
              <a:t>Internet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2" marL="12826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Narrow"/>
              </a:rPr>
              <a:t>Mobile (integration)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71080" y="309600"/>
            <a:ext cx="8567640" cy="53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1e2c83"/>
                </a:solidFill>
                <a:latin typeface="Arial Narrow"/>
              </a:rPr>
              <a:t>BT’s Roadmap</a:t>
            </a:r>
            <a:endParaRPr b="1" lang="en-US" sz="3200" spc="-1" strike="noStrike">
              <a:solidFill>
                <a:srgbClr val="1e2c83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3680" y="1143000"/>
            <a:ext cx="8574120" cy="43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70000"/>
              </a:lnSpc>
              <a:spcBef>
                <a:spcPts val="451"/>
              </a:spcBef>
              <a:buClr>
                <a:srgbClr val="1f2d81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Original plan to convert UK by 2009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80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671400" indent="-288720">
              <a:lnSpc>
                <a:spcPct val="70000"/>
              </a:lnSpc>
              <a:spcBef>
                <a:spcPts val="400"/>
              </a:spcBef>
              <a:buClr>
                <a:srgbClr val="1f2d81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Narrow"/>
              </a:rPr>
              <a:t>Core network is undergoing conversion now.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671400" indent="-288720">
              <a:lnSpc>
                <a:spcPct val="70000"/>
              </a:lnSpc>
              <a:spcBef>
                <a:spcPts val="400"/>
              </a:spcBef>
              <a:buClr>
                <a:srgbClr val="1f2d81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Narrow"/>
              </a:rPr>
              <a:t>Cardiff being converted now, finish Q1 next year.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380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80880" indent="-380880">
              <a:lnSpc>
                <a:spcPct val="70000"/>
              </a:lnSpc>
              <a:spcBef>
                <a:spcPts val="451"/>
              </a:spcBef>
              <a:buClr>
                <a:srgbClr val="1f2d81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Rural DLE’s will be last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80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671400" indent="-288720">
              <a:lnSpc>
                <a:spcPct val="70000"/>
              </a:lnSpc>
              <a:spcBef>
                <a:spcPts val="400"/>
              </a:spcBef>
              <a:buClr>
                <a:srgbClr val="1f2d81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Narrow"/>
              </a:rPr>
              <a:t>ADSL2+ wont cut it.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67140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671400" indent="-288720">
              <a:lnSpc>
                <a:spcPct val="70000"/>
              </a:lnSpc>
              <a:spcBef>
                <a:spcPts val="400"/>
              </a:spcBef>
              <a:buClr>
                <a:srgbClr val="1f2d81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Narrow"/>
              </a:rPr>
              <a:t>BT need a wireless solution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380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80880" indent="-380880">
              <a:lnSpc>
                <a:spcPct val="70000"/>
              </a:lnSpc>
              <a:spcBef>
                <a:spcPts val="451"/>
              </a:spcBef>
              <a:buClr>
                <a:srgbClr val="1f2d81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BT spending £10bn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80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80880" indent="-380880">
              <a:lnSpc>
                <a:spcPct val="70000"/>
              </a:lnSpc>
              <a:spcBef>
                <a:spcPts val="451"/>
              </a:spcBef>
              <a:buClr>
                <a:srgbClr val="1f2d81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More a threat to consumer providers than business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80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671400" indent="-288720">
              <a:lnSpc>
                <a:spcPct val="70000"/>
              </a:lnSpc>
              <a:spcBef>
                <a:spcPts val="400"/>
              </a:spcBef>
              <a:buClr>
                <a:srgbClr val="1f2d81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Narrow"/>
              </a:rPr>
              <a:t>Though business products will be affected, more competition and BT less able to dominate.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671400" indent="-288720">
              <a:lnSpc>
                <a:spcPct val="70000"/>
              </a:lnSpc>
              <a:spcBef>
                <a:spcPts val="400"/>
              </a:spcBef>
              <a:buClr>
                <a:srgbClr val="1f2d81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Narrow"/>
              </a:rPr>
              <a:t>Models not thought through yet.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2590920" y="1143000"/>
            <a:ext cx="4114800" cy="4038480"/>
          </a:xfrm>
          <a:prstGeom prst="ellipse">
            <a:avLst/>
          </a:prstGeom>
          <a:gradFill rotWithShape="0">
            <a:gsLst>
              <a:gs pos="0">
                <a:srgbClr val="3fbbef">
                  <a:alpha val="10196"/>
                </a:srgbClr>
              </a:gs>
              <a:gs pos="100000">
                <a:srgbClr val="1d566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ヒラギノ角ゴ Pro W3"/>
              </a:rPr>
              <a:t>_x0003_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1080" y="309600"/>
            <a:ext cx="8567640" cy="53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e2c83"/>
                </a:solidFill>
                <a:latin typeface="Arial Narrow"/>
              </a:rPr>
              <a:t>DLE</a:t>
            </a:r>
            <a:endParaRPr b="1" lang="en-US" sz="2800" spc="-1" strike="noStrike">
              <a:solidFill>
                <a:srgbClr val="1e2c83"/>
              </a:solidFill>
              <a:latin typeface="Arial Narrow"/>
            </a:endParaRPr>
          </a:p>
        </p:txBody>
      </p:sp>
      <p:sp>
        <p:nvSpPr>
          <p:cNvPr id="93" name=""/>
          <p:cNvSpPr/>
          <p:nvPr/>
        </p:nvSpPr>
        <p:spPr>
          <a:xfrm>
            <a:off x="762120" y="2514600"/>
            <a:ext cx="863640" cy="576360"/>
          </a:xfrm>
          <a:prstGeom prst="rect">
            <a:avLst/>
          </a:prstGeom>
          <a:solidFill>
            <a:srgbClr val="1e2d8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Analog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191120" y="3124080"/>
            <a:ext cx="838080" cy="1447920"/>
          </a:xfrm>
          <a:prstGeom prst="rect">
            <a:avLst/>
          </a:prstGeom>
          <a:solidFill>
            <a:srgbClr val="1e2d8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62120" y="3048120"/>
            <a:ext cx="863640" cy="576000"/>
          </a:xfrm>
          <a:prstGeom prst="rect">
            <a:avLst/>
          </a:prstGeom>
          <a:solidFill>
            <a:srgbClr val="1e2d8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191120" y="1676520"/>
            <a:ext cx="838080" cy="1447560"/>
          </a:xfrm>
          <a:prstGeom prst="rect">
            <a:avLst/>
          </a:prstGeom>
          <a:solidFill>
            <a:srgbClr val="1e2d8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600200" y="2819520"/>
            <a:ext cx="45720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1600200" y="31237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057400" y="312408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3733920" y="243792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733920" y="312408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706840" y="50760"/>
            <a:ext cx="4622760" cy="566424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71080" y="309600"/>
            <a:ext cx="8567640" cy="53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e2c83"/>
                </a:solidFill>
                <a:latin typeface="Arial Narrow"/>
              </a:rPr>
              <a:t>Metro Areas</a:t>
            </a:r>
            <a:endParaRPr b="1" lang="en-US" sz="3200" spc="-1" strike="noStrike">
              <a:solidFill>
                <a:srgbClr val="1e2c83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83680" y="1143000"/>
            <a:ext cx="337356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70000"/>
              </a:lnSpc>
              <a:spcBef>
                <a:spcPts val="400"/>
              </a:spcBef>
              <a:buClr>
                <a:srgbClr val="1f2d81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Various Metro areas in UK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380880" indent="-380880">
              <a:lnSpc>
                <a:spcPct val="70000"/>
              </a:lnSpc>
              <a:spcBef>
                <a:spcPts val="400"/>
              </a:spcBef>
              <a:buClr>
                <a:srgbClr val="1f2d81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Each area has several call handlers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671400" indent="-288720">
              <a:lnSpc>
                <a:spcPct val="70000"/>
              </a:lnSpc>
              <a:spcBef>
                <a:spcPts val="349"/>
              </a:spcBef>
              <a:buClr>
                <a:srgbClr val="1f2d81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Calls are routed via local call handler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1" marL="671400" indent="-288720">
              <a:lnSpc>
                <a:spcPct val="70000"/>
              </a:lnSpc>
              <a:spcBef>
                <a:spcPts val="349"/>
              </a:spcBef>
              <a:buClr>
                <a:srgbClr val="1f2d81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Call handler locates remote call handler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1" marL="671400" indent="-288720">
              <a:lnSpc>
                <a:spcPct val="70000"/>
              </a:lnSpc>
              <a:spcBef>
                <a:spcPts val="349"/>
              </a:spcBef>
              <a:buClr>
                <a:srgbClr val="1f2d81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Call handed off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1" marL="671400" indent="-288720">
              <a:lnSpc>
                <a:spcPct val="70000"/>
              </a:lnSpc>
              <a:spcBef>
                <a:spcPts val="349"/>
              </a:spcBef>
              <a:buClr>
                <a:srgbClr val="1f2d81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Costs more to bill than revenue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2" marL="1282680" indent="-228600">
              <a:lnSpc>
                <a:spcPct val="70000"/>
              </a:lnSpc>
              <a:spcBef>
                <a:spcPts val="300"/>
              </a:spcBef>
              <a:buClr>
                <a:srgbClr val="1f2d81"/>
              </a:buClr>
              <a:buSzPct val="8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Flat rate calls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 lvl="1" marL="67140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" name=""/>
          <p:cNvSpPr/>
          <p:nvPr/>
        </p:nvSpPr>
        <p:spPr>
          <a:xfrm>
            <a:off x="5867280" y="1905120"/>
            <a:ext cx="2895840" cy="2841480"/>
          </a:xfrm>
          <a:prstGeom prst="ellipse">
            <a:avLst/>
          </a:prstGeom>
          <a:gradFill rotWithShape="0">
            <a:gsLst>
              <a:gs pos="0">
                <a:srgbClr val="3fbbef">
                  <a:alpha val="10196"/>
                </a:srgbClr>
              </a:gs>
              <a:gs pos="100000">
                <a:srgbClr val="1d566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ヒラギノ角ゴ Pro W3"/>
              </a:rPr>
              <a:t>_x0003_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5257800" y="4876920"/>
            <a:ext cx="533520" cy="523800"/>
          </a:xfrm>
          <a:prstGeom prst="ellipse">
            <a:avLst/>
          </a:prstGeom>
          <a:gradFill rotWithShape="0">
            <a:gsLst>
              <a:gs pos="0">
                <a:srgbClr val="3fbbef">
                  <a:alpha val="10196"/>
                </a:srgbClr>
              </a:gs>
              <a:gs pos="100000">
                <a:srgbClr val="1d566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4647600" y="4572000"/>
            <a:ext cx="533160" cy="523800"/>
          </a:xfrm>
          <a:prstGeom prst="ellipse">
            <a:avLst/>
          </a:prstGeom>
          <a:gradFill rotWithShape="0">
            <a:gsLst>
              <a:gs pos="0">
                <a:srgbClr val="3fbbef">
                  <a:alpha val="10196"/>
                </a:srgbClr>
              </a:gs>
              <a:gs pos="100000">
                <a:srgbClr val="1d566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4419000" y="2286000"/>
            <a:ext cx="533160" cy="523800"/>
          </a:xfrm>
          <a:prstGeom prst="ellipse">
            <a:avLst/>
          </a:prstGeom>
          <a:gradFill rotWithShape="0">
            <a:gsLst>
              <a:gs pos="0">
                <a:srgbClr val="3fbbef">
                  <a:alpha val="10196"/>
                </a:srgbClr>
              </a:gs>
              <a:gs pos="100000">
                <a:srgbClr val="1d566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4876200" y="3352680"/>
            <a:ext cx="533160" cy="524160"/>
          </a:xfrm>
          <a:prstGeom prst="ellipse">
            <a:avLst/>
          </a:prstGeom>
          <a:gradFill rotWithShape="0">
            <a:gsLst>
              <a:gs pos="0">
                <a:srgbClr val="3fbbef">
                  <a:alpha val="10196"/>
                </a:srgbClr>
              </a:gs>
              <a:gs pos="100000">
                <a:srgbClr val="1d566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5104800" y="4038480"/>
            <a:ext cx="533160" cy="524160"/>
          </a:xfrm>
          <a:prstGeom prst="ellipse">
            <a:avLst/>
          </a:prstGeom>
          <a:gradFill rotWithShape="0">
            <a:gsLst>
              <a:gs pos="0">
                <a:srgbClr val="3fbbef">
                  <a:alpha val="10196"/>
                </a:srgbClr>
              </a:gs>
              <a:gs pos="100000">
                <a:srgbClr val="1d566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858000" y="2209680"/>
            <a:ext cx="533520" cy="524160"/>
          </a:xfrm>
          <a:prstGeom prst="ellipse">
            <a:avLst/>
          </a:prstGeom>
          <a:gradFill rotWithShape="0">
            <a:gsLst>
              <a:gs pos="0">
                <a:srgbClr val="3fbbef">
                  <a:alpha val="10196"/>
                </a:srgbClr>
              </a:gs>
              <a:gs pos="100000">
                <a:srgbClr val="1d566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6476400" y="3657600"/>
            <a:ext cx="533160" cy="523800"/>
          </a:xfrm>
          <a:prstGeom prst="ellipse">
            <a:avLst/>
          </a:prstGeom>
          <a:gradFill rotWithShape="0">
            <a:gsLst>
              <a:gs pos="0">
                <a:srgbClr val="3fbbef">
                  <a:alpha val="10196"/>
                </a:srgbClr>
              </a:gs>
              <a:gs pos="100000">
                <a:srgbClr val="1d566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7924680" y="3276720"/>
            <a:ext cx="533520" cy="523800"/>
          </a:xfrm>
          <a:prstGeom prst="ellipse">
            <a:avLst/>
          </a:prstGeom>
          <a:gradFill rotWithShape="0">
            <a:gsLst>
              <a:gs pos="0">
                <a:srgbClr val="3fbbef">
                  <a:alpha val="10196"/>
                </a:srgbClr>
              </a:gs>
              <a:gs pos="100000">
                <a:srgbClr val="1d566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71080" y="309600"/>
            <a:ext cx="8567640" cy="53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e2c83"/>
                </a:solidFill>
                <a:latin typeface="Arial Narrow"/>
              </a:rPr>
              <a:t>BT Services</a:t>
            </a:r>
            <a:endParaRPr b="1" lang="en-US" sz="3200" spc="-1" strike="noStrike">
              <a:solidFill>
                <a:srgbClr val="1e2c83"/>
              </a:solidFill>
              <a:latin typeface="Arial Narrow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83680" y="1143000"/>
            <a:ext cx="8574120" cy="43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90000"/>
              </a:lnSpc>
              <a:spcBef>
                <a:spcPts val="601"/>
              </a:spcBef>
              <a:buClr>
                <a:srgbClr val="1f2d81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Voic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71400" indent="-288720">
              <a:lnSpc>
                <a:spcPct val="90000"/>
              </a:lnSpc>
              <a:spcBef>
                <a:spcPts val="499"/>
              </a:spcBef>
              <a:buClr>
                <a:srgbClr val="1f2d81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QoS using BT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80880" indent="-380880">
              <a:lnSpc>
                <a:spcPct val="90000"/>
              </a:lnSpc>
              <a:spcBef>
                <a:spcPts val="601"/>
              </a:spcBef>
              <a:buClr>
                <a:srgbClr val="1f2d81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71400" indent="-288720">
              <a:lnSpc>
                <a:spcPct val="90000"/>
              </a:lnSpc>
              <a:spcBef>
                <a:spcPts val="499"/>
              </a:spcBef>
              <a:buClr>
                <a:srgbClr val="1f2d81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QoS using BT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671400" indent="-288720">
              <a:lnSpc>
                <a:spcPct val="90000"/>
              </a:lnSpc>
              <a:spcBef>
                <a:spcPts val="499"/>
              </a:spcBef>
              <a:buClr>
                <a:srgbClr val="1f2d81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BT want others to use BT’s video infrastructure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1282680" indent="-228600">
              <a:lnSpc>
                <a:spcPct val="90000"/>
              </a:lnSpc>
              <a:spcBef>
                <a:spcPts val="451"/>
              </a:spcBef>
              <a:buClr>
                <a:srgbClr val="1f2d81"/>
              </a:buClr>
              <a:buSzPct val="8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RM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2" marL="1282680" indent="-228600">
              <a:lnSpc>
                <a:spcPct val="90000"/>
              </a:lnSpc>
              <a:spcBef>
                <a:spcPts val="451"/>
              </a:spcBef>
              <a:buClr>
                <a:srgbClr val="1f2d81"/>
              </a:buClr>
              <a:buSzPct val="8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istribution into DLE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671400" indent="-288720">
              <a:lnSpc>
                <a:spcPct val="90000"/>
              </a:lnSpc>
              <a:spcBef>
                <a:spcPts val="499"/>
              </a:spcBef>
              <a:buClr>
                <a:srgbClr val="1f2d81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ky mod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80880" indent="-380880">
              <a:lnSpc>
                <a:spcPct val="90000"/>
              </a:lnSpc>
              <a:spcBef>
                <a:spcPts val="601"/>
              </a:spcBef>
              <a:buClr>
                <a:srgbClr val="1f2d81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71400" indent="-288720">
              <a:lnSpc>
                <a:spcPct val="90000"/>
              </a:lnSpc>
              <a:spcBef>
                <a:spcPts val="499"/>
              </a:spcBef>
              <a:buClr>
                <a:srgbClr val="1f2d81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Give-away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80880" indent="-380880">
              <a:lnSpc>
                <a:spcPct val="90000"/>
              </a:lnSpc>
              <a:spcBef>
                <a:spcPts val="601"/>
              </a:spcBef>
              <a:buClr>
                <a:srgbClr val="1f2d81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Mobil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71400" indent="-288720">
              <a:lnSpc>
                <a:spcPct val="90000"/>
              </a:lnSpc>
              <a:spcBef>
                <a:spcPts val="499"/>
              </a:spcBef>
              <a:buClr>
                <a:srgbClr val="1f2d81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Fixed Mobile convergence - Fusion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e2c83"/>
                </a:solidFill>
                <a:latin typeface="AkzidenzGroteskBQ-Bold"/>
              </a:rPr>
              <a:t>Thank you for listening!</a:t>
            </a:r>
            <a:endParaRPr b="1" lang="en-US" sz="2400" spc="-1" strike="noStrike">
              <a:solidFill>
                <a:srgbClr val="1e2c83"/>
              </a:solidFill>
              <a:latin typeface="Arial Narrow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8362800" cy="38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kzidenzGroteskBQ-Regular"/>
              </a:rPr>
              <a:t>Email: steve@nettek.co.uk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13T19:06:36Z</dcterms:created>
  <dc:creator/>
  <dc:description/>
  <cp:keywords/>
  <dc:language>en-US</dc:language>
  <cp:lastModifiedBy>Steve Kennedy</cp:lastModifiedBy>
  <dcterms:modified xsi:type="dcterms:W3CDTF">2006-10-15T22:46:47Z</dcterms:modified>
  <cp:revision>161</cp:revision>
  <dc:subject/>
  <dc:title>WiMAX - WiNOT?</dc:title>
</cp:coreProperties>
</file>