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4674240"/>
            <a:ext cx="896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324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0480" y="249228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41680" y="249228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467424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0480" y="467424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41680" y="467424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324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674240"/>
            <a:ext cx="896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9.png"/><Relationship Id="rId11" Type="http://schemas.openxmlformats.org/officeDocument/2006/relationships/image" Target="../media/image36.pn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39.png"/><Relationship Id="rId15" Type="http://schemas.openxmlformats.org/officeDocument/2006/relationships/image" Target="../media/image40.jpeg"/><Relationship Id="rId16" Type="http://schemas.openxmlformats.org/officeDocument/2006/relationships/image" Target="../media/image13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18.png"/><Relationship Id="rId21" Type="http://schemas.openxmlformats.org/officeDocument/2006/relationships/image" Target="../media/image44.png"/><Relationship Id="rId22" Type="http://schemas.openxmlformats.org/officeDocument/2006/relationships/image" Target="../media/image45.jpeg"/><Relationship Id="rId23" Type="http://schemas.openxmlformats.org/officeDocument/2006/relationships/image" Target="../media/image46.png"/><Relationship Id="rId24" Type="http://schemas.openxmlformats.org/officeDocument/2006/relationships/image" Target="../media/image17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900000" y="1036440"/>
            <a:ext cx="76327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C Too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nal O’Cearbhail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EAnet Ltd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419640" y="3284640"/>
            <a:ext cx="25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Nagio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2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4,131 services on 3,905 hos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op 5 number of hosts on nagios.or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opulated by SmokePing and memcach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Nagios runs checks serially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&gt;1 hour vs. 15 mins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Nagios populat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sidebar alarms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Schools Up Graph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24720" y="155736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42130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Rancid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920" y="3141720"/>
            <a:ext cx="723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Really Awesome New Cisco confIg Diff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3,296 Router config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Maintains history of chang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Mails change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740720" y="1484280"/>
            <a:ext cx="10350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Cacti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4248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3,900 hos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ata gather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External Perl scripts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ph templa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abase driv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67640" y="1197000"/>
            <a:ext cx="614520" cy="91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459640" y="1555920"/>
            <a:ext cx="571680" cy="50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16360" y="2492280"/>
            <a:ext cx="42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Cricket: 27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Cacti: &lt;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Cact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Custom multithreaded C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840720" cy="4656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333399"/>
                </a:solidFill>
                <a:latin typeface="Arial"/>
              </a:rPr>
              <a:t>Cacti Weatherma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Interconnec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112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Netflow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4405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fSen is a graphical web based front end for the nfdump netflow too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Query abuse repor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age repor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29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Repor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10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aily Repor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NS log repor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Report infected PC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Top MX lookup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Misconfiguration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Netflow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IP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Schools usage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276640"/>
            <a:ext cx="46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2349360"/>
            <a:ext cx="489564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ytes downloaded by schools on 22/03/07: 3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gabytes uploaded by schools on 22/03/07 : 4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downloaded for Digiweb Satellite: 128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uploaded for Digiweb Satellite: 12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downloaded for Digiweb Wireless: 775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uploaded for Digiweb Wireless: 10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downloaded for ESATBT ADSL: 54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uploaded for ESATBT ADSL: 6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downloaded for HSData Wireless: 3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MegaBytes uploaded for HSData Wireless: 5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Logg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yslog server per Po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Servers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Routers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Logchec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ogfile scanner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IP to school identifi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Mapping IP to school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Server Monitor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SH key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Sharing keys/fingerprints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High overhead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NM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ess configurable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565360"/>
            <a:ext cx="446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Mem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ocal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Easy to roll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Disk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Monitor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Memcach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ributed memory caching system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Low overhea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ed up dynamic database-driven websites by caching data and objects in memo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Developed for LiveJour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Slashdot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Wikipedia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SourceForge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Nagios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Maps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Server status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26200" y="1590840"/>
            <a:ext cx="183852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reland’s National Education and Research Networ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rovides Internet services to Irish Universi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2005 - Broadband for Schoo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185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Subvers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20000" y="1557360"/>
            <a:ext cx="2008080" cy="274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2492280"/>
            <a:ext cx="864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ern replacement for CV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rovisio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Conf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ViewC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heckins get m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chools-n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Scripts stored on ever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Automatically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cron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Sideba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028760" cy="41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374920" cy="215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4797360"/>
            <a:ext cx="381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Nagios polled every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Populated into mem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Sidebar al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Pubcookie single sign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4360" y="1076400"/>
          <a:ext cx="7272360" cy="56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76400"/>
                    <a:ext cx="727236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1052640"/>
          <a:ext cx="7118280" cy="55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11828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522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visioning Syst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rvices provisioned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PE router config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agio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RADIU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acti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isco ACS (TACACS+)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mokePing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ortigate (Content filtering)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Webhosting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visioning Syst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xt::Template templating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ata stored in authoritative data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stgreSQL’s INET type is brilliant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erl scripts generate configle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dded to Subvers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erl/Shell provisioning agents handle service restarts etc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bility to stop all provision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20600" y="2081160"/>
          <a:ext cx="729648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2081160"/>
                    <a:ext cx="729648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50920" y="981000"/>
            <a:ext cx="8713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rovisioning Syste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024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226040" cy="554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4405320" cy="3043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7280" y="1125000"/>
            <a:ext cx="4537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ogle Map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71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Free ‘always on’ broadband connectivity to Schoo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3 Year Agreemen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0033"/>
                </a:solidFill>
                <a:latin typeface="Arial"/>
              </a:rPr>
              <a:t>Dept of Education/Dept of Communication/TIF</a:t>
            </a: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3,925+ Schoo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7 Access Provid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HEAnet backbone network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Onward connectivity to Internet &amp; Educational Network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HEAnet Managed Services: Network; Security; E-Mai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0200" y="98100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Broadband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335320" y="907920"/>
          <a:ext cx="531792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5320" y="907920"/>
                    <a:ext cx="53179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andom things we’ve encountere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able traffic leve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mokeping, Nagios and Cricket/Cacti take a lot of tuning to monitor our networ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icult to achieve high bandwidth and high level of reliability in transparent content fil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onal.ocearbhaill@heanet.i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451640" y="1197000"/>
            <a:ext cx="1047960" cy="695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50920" y="4656240"/>
            <a:ext cx="1225800" cy="93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740720" y="3429000"/>
            <a:ext cx="952560" cy="1419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835280" y="1700280"/>
            <a:ext cx="1076040" cy="714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419640" y="4869000"/>
            <a:ext cx="1353960" cy="143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50920" y="1844640"/>
            <a:ext cx="117144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276720" y="1844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859280" y="6021360"/>
            <a:ext cx="240048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227640" y="5229360"/>
            <a:ext cx="2387880" cy="495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3995640" y="1125360"/>
            <a:ext cx="2076480" cy="554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468360" y="2637000"/>
            <a:ext cx="2139840" cy="806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1619280" y="580536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4859280" y="4724280"/>
            <a:ext cx="752400" cy="1028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250920" y="5084640"/>
            <a:ext cx="1143000" cy="63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7236000" y="6093000"/>
            <a:ext cx="163332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179280" y="6021360"/>
            <a:ext cx="57168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3348000" y="3284640"/>
            <a:ext cx="1144800" cy="114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179280" y="4365720"/>
            <a:ext cx="1428840" cy="52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1116000" y="981000"/>
            <a:ext cx="1924200" cy="523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324000" y="3716280"/>
            <a:ext cx="2660400" cy="363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>
            <a:off x="4788000" y="249228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2"/>
          <a:stretch/>
        </p:blipFill>
        <p:spPr>
          <a:xfrm>
            <a:off x="7236000" y="2060640"/>
            <a:ext cx="1460160" cy="1168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3"/>
          <a:stretch/>
        </p:blipFill>
        <p:spPr>
          <a:xfrm>
            <a:off x="6156360" y="4581360"/>
            <a:ext cx="150480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4"/>
          <a:stretch/>
        </p:blipFill>
        <p:spPr>
          <a:xfrm>
            <a:off x="5148360" y="3860640"/>
            <a:ext cx="2087640" cy="381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5"/>
          <a:stretch/>
        </p:blipFill>
        <p:spPr>
          <a:xfrm>
            <a:off x="4572000" y="1916280"/>
            <a:ext cx="23050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4,000 schoo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Highly contended link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 lot of satellite conne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LA/Contract enforce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36720" y="3336840"/>
          <a:ext cx="564840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3336840"/>
                    <a:ext cx="56484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26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stalla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Monitoring/ISP Infrastructur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3672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28 Debian/Ubuntu serv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4 Fibrenetix disk array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Disk based backup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rsync &amp; application level dump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Syslog node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565360"/>
            <a:ext cx="4464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ostgreSQ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ggregatio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73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PPP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Border/Services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6500, 3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802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mokeP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Nagi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Ranc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Cact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Netflo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SmokeP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08720" y="1484280"/>
            <a:ext cx="1559160" cy="439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4032360" cy="1768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2205000"/>
            <a:ext cx="4248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Latency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Runs probe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&gt;3,800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RRD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90033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Historic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Accept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FPing timeouts 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otal number of probes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atellite frequency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4437000"/>
            <a:ext cx="4105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2:45:17Z</dcterms:created>
  <dc:creator>bscanlan</dc:creator>
  <dc:description/>
  <dc:language>en-US</dc:language>
  <cp:lastModifiedBy>Donal O'Cearbhaill</cp:lastModifiedBy>
  <dcterms:modified xsi:type="dcterms:W3CDTF">2007-03-26T08:52:46Z</dcterms:modified>
  <cp:revision>35</cp:revision>
  <dc:subject/>
  <dc:title>Provisioning system - overview</dc:title>
</cp:coreProperties>
</file>