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AEF5-F6F5-437C-9A3A-2ABE10B9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1F59-91A3-4201-9472-3851D3C5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73F9-CD1E-4969-A8D5-94FF09BE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E41-0B7A-49EB-8718-74C66F65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5A7-066E-4FB1-A60D-F10D1E63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71B-D311-438F-A677-7C36507F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BDC-A91A-42D9-851B-2F773C2B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099F-01A4-406C-ADE9-663835AE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2E79-29E0-464D-8F2E-265417FE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1B3A-7B14-4A44-BBF4-69418074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E78-B37B-4D54-98D8-EA498B3C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F29D-97CA-4908-8538-8F814BA3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BDE9-4ED6-4E9F-A05B-392318001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516720" y="115920"/>
            <a:ext cx="2502000" cy="123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484280"/>
            <a:ext cx="9144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outing Table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Colin Whitt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Courier New"/>
              </a:rPr>
              <a:t>colin@magnet.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26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25360"/>
            <a:ext cx="874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8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26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773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How Deep is the Hole we a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Lets stop di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Do you really care abo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26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773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How Deep is the Hole we a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Lets stop di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Do you really care abo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335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How Deep is the Ho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989000"/>
            <a:ext cx="9144000" cy="54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ull table now &gt;210k prefi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Does not look likely to slow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Update rate growing even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ost of the routing table is redun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any platforms running out of FIB space or CPU for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Show me th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1560600"/>
            <a:ext cx="7062840" cy="52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26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773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How Deep is the Hole we a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Lets stop di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Do you really care abo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335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Lets Stop Di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41400"/>
            <a:ext cx="9144000" cy="48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Discourage Peers from disaggreg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Use communities to control radius of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Start filtering on RIR minimum allocation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 see 140k table with RIR minimums and a /23 allow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26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773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How Deep is the Hole we a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Lets stop di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Do you really care abo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335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Do you really car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060640"/>
            <a:ext cx="914400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bout some random /24 on the other side of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artial table plus default route is good enough in many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4:04:33Z</dcterms:created>
  <dc:creator>Feargus</dc:creator>
  <dc:description/>
  <dc:language>en-US</dc:language>
  <cp:lastModifiedBy>colin</cp:lastModifiedBy>
  <dcterms:modified xsi:type="dcterms:W3CDTF">2007-04-03T09:29:58Z</dcterms:modified>
  <cp:revision>58</cp:revision>
  <dc:subject/>
  <dc:title>PowerPoint Presentation</dc:title>
</cp:coreProperties>
</file>