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87B-D01A-4B81-B104-9712D616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5E78-3CA7-441F-AE7D-EE3DF4AC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345E-3BAF-46E1-ABEF-1A312420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C740-C18F-4E2C-8AF5-3CE18871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D57D-AFCD-4985-BEE1-DEEC994C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9A2E-6F19-4E1A-9E42-A0E74CC6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AFFC-B43A-4EE0-8682-6B4F2E2E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692-AB38-4CE2-B879-C67A1211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DF34-F4BC-47BD-8549-9A69A18A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0239-208E-4030-8D96-1A3704D4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5635-A294-484B-9F24-94635286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E553-6E06-431F-A22B-4F14AF58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C4D7-7AC7-4AEF-B5BA-6183C6478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516720" y="115920"/>
            <a:ext cx="2502000" cy="123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484280"/>
            <a:ext cx="9144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outing Table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Colin Whitt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Courier New"/>
              </a:rPr>
              <a:t>colin@magnet.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640" y="431640"/>
            <a:ext cx="626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25360"/>
            <a:ext cx="8748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35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8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7640" y="431640"/>
            <a:ext cx="626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773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How Deep is the Hole we a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Lets stop di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Do you really care abo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640" y="431640"/>
            <a:ext cx="626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773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35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How Deep is the Hole we a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Lets stop di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Do you really care abo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640" y="431640"/>
            <a:ext cx="6335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How Deep is the Ho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989000"/>
            <a:ext cx="9144000" cy="54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Full table now &gt;210k prefi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Does not look likely to slow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Update rate growing even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ost of the routing table is redund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any platforms running out of FIB space or CPU for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Show me th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16000" y="1560600"/>
            <a:ext cx="7062840" cy="52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7640" y="431640"/>
            <a:ext cx="626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773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How Deep is the Hole we a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Lets stop di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Do you really care abo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431640"/>
            <a:ext cx="6335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Lets Stop Di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41400"/>
            <a:ext cx="9144000" cy="48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Discourage Peers from disaggreg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Use communities to control radius of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Start filtering on RIR minimum allocation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 see 140k table with RIR minimums and a /23 allow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640" y="431640"/>
            <a:ext cx="626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773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How Deep is the Hole we a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Lets stop di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Do you really care abo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431640"/>
            <a:ext cx="6335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Do you really car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060640"/>
            <a:ext cx="914400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about some random /24 on the other side of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artial table plus default route is good enough in many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4:04:33Z</dcterms:created>
  <dc:creator>Feargus</dc:creator>
  <dc:description/>
  <dc:language>en-US</dc:language>
  <cp:lastModifiedBy>colin</cp:lastModifiedBy>
  <dcterms:modified xsi:type="dcterms:W3CDTF">2007-04-03T09:29:58Z</dcterms:modified>
  <cp:revision>58</cp:revision>
  <dc:subject/>
  <dc:title>PowerPoint Presentation</dc:title>
</cp:coreProperties>
</file>