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B199-CFDD-48A5-AC75-AA27A80D6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6E5B-45CD-4646-8076-512342A7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B70E-ACDD-4D2C-B4B2-385A8AE1F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68D1-CA4D-4579-94A9-1D9BCF8CC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EE7D-9BB0-4CD2-9064-56511D70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AB63-79DF-4E2C-94ED-D2855BC8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30A0-0D5B-427F-97E9-088670D0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ED4E-6B3E-4246-8A5F-429DB487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B6DB-AD6F-4B04-A89F-71621FAF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A466-CBB0-4F8E-A915-F6C2CB3F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E72C-28B4-4B22-9996-2A5D3164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96C5-36F9-4C9D-B3FB-BAEA70D3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444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7CA3-7A48-4B2A-B833-039B0CB6C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516720" y="115920"/>
            <a:ext cx="2502000" cy="1235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444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484280"/>
            <a:ext cx="91440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outing Table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Arial"/>
              </a:rPr>
              <a:t>Colin Whitt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Courier New"/>
              </a:rPr>
              <a:t>colin@magnet.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444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7640" y="431640"/>
            <a:ext cx="626436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25360"/>
            <a:ext cx="8748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351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8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444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7640" y="431640"/>
            <a:ext cx="626436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7733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3510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How Deep is the Hole we are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Lets stop di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Do you really care about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444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7640" y="431640"/>
            <a:ext cx="626436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7733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35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Arial"/>
              </a:rPr>
              <a:t>How Deep is the Hole we are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Lets stop di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Do you really care about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444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7640" y="431640"/>
            <a:ext cx="63356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Arial"/>
              </a:rPr>
              <a:t>How Deep is the Ho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989000"/>
            <a:ext cx="9144000" cy="54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Full table now &gt;210k prefi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Does not look likely to slow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Update rate growing even f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Most of the routing table is redund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Many platforms running out of FIB space or CPU for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444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Arial"/>
              </a:rPr>
              <a:t>Show me the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16000" y="1560600"/>
            <a:ext cx="7062840" cy="529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444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7640" y="431640"/>
            <a:ext cx="626436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7733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3510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How Deep is the Hole we are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Arial"/>
              </a:rPr>
              <a:t>Lets stop di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Do you really care about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444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640" y="431640"/>
            <a:ext cx="63356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Arial"/>
              </a:rPr>
              <a:t>Lets Stop Di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41400"/>
            <a:ext cx="9144000" cy="48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Discourage Peers from disaggreg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Use communities to control radius of 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Start filtering on RIR minimum allocation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I see 140k table with RIR minimums and a /23 allow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444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7640" y="431640"/>
            <a:ext cx="626436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7733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3510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How Deep is the Hole we are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Lets stop di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Arial"/>
              </a:rPr>
              <a:t>Do you really care about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444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640" y="431640"/>
            <a:ext cx="63356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Arial"/>
              </a:rPr>
              <a:t>Do you really care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060640"/>
            <a:ext cx="914400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about some random /24 on the other side of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Partial table plus default route is good enough in many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35100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4:04:33Z</dcterms:created>
  <dc:creator>Feargus</dc:creator>
  <dc:description/>
  <dc:language>en-US</dc:language>
  <cp:lastModifiedBy>colin</cp:lastModifiedBy>
  <dcterms:modified xsi:type="dcterms:W3CDTF">2007-04-03T09:29:58Z</dcterms:modified>
  <cp:revision>58</cp:revision>
  <dc:subject/>
  <dc:title>PowerPoint Presentation</dc:title>
</cp:coreProperties>
</file>